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25D-41B6-4B83-9E20-64A84B36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743-D154-4875-8A4C-38A3CE2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D47-382A-4D7C-8F6F-D60292B3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597-55AC-480C-8836-36E71876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B6C-4872-4A26-954C-168785E8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2F7-01D5-4E8B-8FB4-B07D878F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753-6F86-4CC5-BD98-6FC2E061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73A-FE28-4B72-A72A-AB30CD10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A4C-BD95-498D-BA31-826B98CD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3A1-1D0D-4680-A559-86D03AE0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080-494D-414D-B98C-D9E950C0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2B4-AD66-4042-AA1F-1CDC00E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E87B-E91F-4E87-9FAA-24AD2FE8D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commons/8/82/Gyroscope_precession.gif" TargetMode="Externa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6360" y="71280"/>
            <a:ext cx="9159480" cy="6382080"/>
            <a:chOff x="-36360" y="71280"/>
            <a:chExt cx="9159480" cy="63820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0" t="0" r="0" b="11344"/>
            <a:stretch/>
          </p:blipFill>
          <p:spPr>
            <a:xfrm>
              <a:off x="-36360" y="71280"/>
              <a:ext cx="8970840" cy="63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747280" y="5978520"/>
              <a:ext cx="37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5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91400" y="3014640"/>
            <a:ext cx="688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Group 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http://www.drcmr.dk/JavaCompass/BasicMRgroupwork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-27000"/>
            <a:ext cx="9180360" cy="6825960"/>
            <a:chOff x="0" y="-27000"/>
            <a:chExt cx="9180360" cy="68259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0" t="0" r="0" b="3134"/>
            <a:stretch/>
          </p:blipFill>
          <p:spPr>
            <a:xfrm>
              <a:off x="0" y="-27000"/>
              <a:ext cx="9180360" cy="64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Datei:Gyroscope precession.gif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00880" y="3906720"/>
              <a:ext cx="250344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47560" y="6354720"/>
              <a:ext cx="7989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300" spc="-1" strike="noStrike">
                  <a:solidFill>
                    <a:srgbClr val="ffffff"/>
                  </a:solidFill>
                  <a:latin typeface="Comic Sans MS"/>
                </a:rPr>
                <a:t>The difference is due to the rotation of the protons (spin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1:18:02Z</dcterms:created>
  <dc:creator>Lars G. Hanson</dc:creator>
  <dc:description/>
  <dc:language>en-US</dc:language>
  <cp:lastModifiedBy>Lars G. Hanson</cp:lastModifiedBy>
  <dcterms:modified xsi:type="dcterms:W3CDTF">2011-04-05T11:41:33Z</dcterms:modified>
  <cp:revision>5</cp:revision>
  <dc:subject/>
  <dc:title>Dias nummer 1</dc:title>
</cp:coreProperties>
</file>