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0.png" ContentType="image/png"/>
  <Override PartName="/ppt/media/image35.jpeg" ContentType="image/jpeg"/>
  <Override PartName="/ppt/media/image5.png" ContentType="image/png"/>
  <Override PartName="/ppt/media/image28.png" ContentType="image/png"/>
  <Override PartName="/ppt/media/image29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34.jpeg" ContentType="image/jpeg"/>
  <Override PartName="/ppt/media/image12.png" ContentType="image/png"/>
  <Override PartName="/ppt/media/image9.png" ContentType="image/png"/>
  <Override PartName="/ppt/media/image8.png" ContentType="image/png"/>
  <Override PartName="/ppt/media/image25.png" ContentType="image/png"/>
  <Override PartName="/ppt/media/image2.png" ContentType="image/png"/>
  <Override PartName="/ppt/media/image31.jpeg" ContentType="image/jpeg"/>
  <Override PartName="/ppt/media/image30.jpeg" ContentType="image/jpeg"/>
  <Override PartName="/ppt/media/image15.png" ContentType="image/png"/>
  <Override PartName="/ppt/media/image4.png" ContentType="image/png"/>
  <Override PartName="/ppt/media/image33.jpeg" ContentType="image/jpeg"/>
  <Override PartName="/ppt/media/image27.png" ContentType="image/png"/>
  <Override PartName="/ppt/media/image3.png" ContentType="image/png"/>
  <Override PartName="/ppt/media/image26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3.pct" ContentType="image/x-pict"/>
  <Override PartName="/ppt/media/image16.png" ContentType="image/png"/>
  <Override PartName="/ppt/media/image32.jpeg" ContentType="image/jpeg"/>
  <Override PartName="/ppt/media/image17.png" ContentType="image/pn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99"/>
                </a:solidFill>
                <a:latin typeface="Georgia"/>
              </a:rPr>
              <a:t>Click to move the slide</a:t>
            </a:r>
            <a:endParaRPr b="0" lang="en-US" sz="3600" spc="-1" strike="noStrike">
              <a:solidFill>
                <a:srgbClr val="99ff99"/>
              </a:solidFill>
              <a:latin typeface="Georgi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575ED-614D-47B9-84BC-C29EB2FD0C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ST goes from motor cortex through capsule to brainstem, lateral to thalamus, medial to pallid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58419-F176-4E15-AC2F-97EFF8B85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11000" y="90360"/>
            <a:ext cx="60786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ff99"/>
              </a:solidFill>
              <a:latin typeface="Georg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13FCF-98BF-45DC-A213-D40AE3824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11000" y="90360"/>
            <a:ext cx="60786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ff99"/>
              </a:solidFill>
              <a:latin typeface="Georg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B927C-C769-4992-AB54-B94AD42F7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11000" y="90360"/>
            <a:ext cx="60786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ff99"/>
              </a:solidFill>
              <a:latin typeface="Georg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26C0E-0369-4BE0-AE71-C697F12C3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11000" y="90360"/>
            <a:ext cx="60786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ff99"/>
              </a:solidFill>
              <a:latin typeface="Georg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214D7-F198-4E9F-89A7-18F80F928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11000" y="90360"/>
            <a:ext cx="60786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ff99"/>
              </a:solidFill>
              <a:latin typeface="Georg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2D04A-0FC3-4B07-8E7A-428ABFB2D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11000" y="90360"/>
            <a:ext cx="60786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ff99"/>
              </a:solidFill>
              <a:latin typeface="Georg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E0CC1-D269-422F-810D-1309A9F33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11000" y="90360"/>
            <a:ext cx="60786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ff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9CD92-A1F6-4016-947B-EFB81220B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11000" y="90360"/>
            <a:ext cx="6078600" cy="552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89E0B-B233-4984-AC31-2EBCD567A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11000" y="90360"/>
            <a:ext cx="60786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ff99"/>
              </a:solidFill>
              <a:latin typeface="Georg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2B930-08B7-40E4-84E4-020C7AFBC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11000" y="90360"/>
            <a:ext cx="60786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ff99"/>
              </a:solidFill>
              <a:latin typeface="Georg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37047-89C6-466A-AC07-1C6A27BE4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11000" y="90360"/>
            <a:ext cx="60786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ff99"/>
              </a:solidFill>
              <a:latin typeface="Georg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B187C-D7FC-4B4A-9216-C532A55AE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85800" y="7621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611000" y="90360"/>
            <a:ext cx="6078600" cy="119124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99"/>
                </a:solidFill>
                <a:latin typeface="Georgia"/>
              </a:rPr>
              <a:t>Click to edit the title text format</a:t>
            </a:r>
            <a:endParaRPr b="0" lang="en-US" sz="3600" spc="-1" strike="noStrike">
              <a:solidFill>
                <a:srgbClr val="99ff99"/>
              </a:solidFill>
              <a:latin typeface="Georgi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78960" y="6400800"/>
            <a:ext cx="1554120" cy="254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9ff99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99"/>
                </a:solidFill>
                <a:latin typeface="Georgia"/>
              </a:rPr>
              <a:t>&lt;date/time&gt;</a:t>
            </a:r>
            <a:r>
              <a:rPr b="0" lang="en-US" sz="1200" spc="-1" strike="noStrike">
                <a:solidFill>
                  <a:srgbClr val="99ff99"/>
                </a:solidFill>
                <a:latin typeface="Georgia"/>
              </a:rPr>
              <a:t>02/02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29920" y="6400800"/>
            <a:ext cx="4496040" cy="254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9ff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99"/>
                </a:solidFill>
                <a:latin typeface="Georgia"/>
              </a:rPr>
              <a:t>&lt;footer&gt;</a:t>
            </a:r>
            <a:r>
              <a:rPr b="0" lang="en-US" sz="1200" spc="-1" strike="noStrike">
                <a:solidFill>
                  <a:srgbClr val="99ff99"/>
                </a:solidFill>
                <a:latin typeface="Georgia"/>
              </a:rPr>
              <a:t>Future directions: TRAC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10200" y="6400800"/>
            <a:ext cx="1554120" cy="254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9ff99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4698C-F914-406C-AD9C-B20BA8FD00C3}" type="slidenum">
              <a:rPr b="0" lang="en-US" sz="1200" spc="-1" strike="noStrike">
                <a:solidFill>
                  <a:srgbClr val="99ff99"/>
                </a:solidFill>
                <a:latin typeface="Georgia"/>
              </a:rPr>
              <a:t>&lt;number&gt;</a:t>
            </a:fld>
            <a:r>
              <a:rPr b="0" lang="en-US" sz="1200" spc="-1" strike="noStrike">
                <a:solidFill>
                  <a:srgbClr val="99ff99"/>
                </a:solidFill>
                <a:latin typeface="Georgia"/>
              </a:rPr>
              <a:t>/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04920" y="762120"/>
            <a:ext cx="380880" cy="5740200"/>
          </a:xfrm>
          <a:custGeom>
            <a:avLst/>
            <a:gdLst>
              <a:gd name="textAreaLeft" fmla="*/ 111960 w 380880"/>
              <a:gd name="textAreaRight" fmla="*/ 381240 w 380880"/>
              <a:gd name="textAreaTop" fmla="*/ 171360 h 5740200"/>
              <a:gd name="textAreaBottom" fmla="*/ 5568840 h 5740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646"/>
                  <a:pt x="0" y="1291"/>
                </a:cubicBezTo>
                <a:lnTo>
                  <a:pt x="0" y="20309"/>
                </a:lnTo>
                <a:cubicBezTo>
                  <a:pt x="0" y="20955"/>
                  <a:pt x="108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flipH="1">
            <a:off x="8458200" y="762120"/>
            <a:ext cx="371520" cy="5740200"/>
          </a:xfrm>
          <a:custGeom>
            <a:avLst/>
            <a:gdLst>
              <a:gd name="textAreaLeft" fmla="*/ 109080 w 371520"/>
              <a:gd name="textAreaRight" fmla="*/ 371880 w 371520"/>
              <a:gd name="textAreaTop" fmla="*/ 171360 h 5740200"/>
              <a:gd name="textAreaBottom" fmla="*/ 5568840 h 5740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646"/>
                  <a:pt x="0" y="1291"/>
                </a:cubicBezTo>
                <a:lnTo>
                  <a:pt x="0" y="20309"/>
                </a:lnTo>
                <a:cubicBezTo>
                  <a:pt x="0" y="20955"/>
                  <a:pt x="108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3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pct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image" Target="../media/image33.jpeg"/><Relationship Id="rId6" Type="http://schemas.openxmlformats.org/officeDocument/2006/relationships/image" Target="../media/image34.jpeg"/><Relationship Id="rId7" Type="http://schemas.openxmlformats.org/officeDocument/2006/relationships/image" Target="../media/image35.jpeg"/><Relationship Id="rId8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11000" y="1538280"/>
            <a:ext cx="7475400" cy="228852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99"/>
                </a:solidFill>
                <a:latin typeface="Georgia"/>
              </a:rPr>
              <a:t>Future directions:</a:t>
            </a:r>
            <a:br>
              <a:rPr sz="3600"/>
            </a:br>
            <a:r>
              <a:rPr b="0" lang="en-US" sz="3600" spc="-1" strike="noStrike">
                <a:solidFill>
                  <a:srgbClr val="99ff99"/>
                </a:solidFill>
                <a:latin typeface="Georgia"/>
              </a:rPr>
              <a:t>TRActs Constrained by UnderLying </a:t>
            </a:r>
            <a:br>
              <a:rPr sz="3600"/>
            </a:br>
            <a:r>
              <a:rPr b="0" lang="en-US" sz="3600" spc="-1" strike="noStrike">
                <a:solidFill>
                  <a:srgbClr val="99ff99"/>
                </a:solidFill>
                <a:latin typeface="Georgia"/>
              </a:rPr>
              <a:t>Anatomy (TRACULA) </a:t>
            </a:r>
            <a:endParaRPr b="0" lang="en-US" sz="3600" spc="-1" strike="noStrike">
              <a:solidFill>
                <a:srgbClr val="99ff99"/>
              </a:solidFill>
              <a:latin typeface="Georgia"/>
            </a:endParaRPr>
          </a:p>
        </p:txBody>
      </p:sp>
      <p:sp>
        <p:nvSpPr>
          <p:cNvPr id="52" name=""/>
          <p:cNvSpPr/>
          <p:nvPr/>
        </p:nvSpPr>
        <p:spPr>
          <a:xfrm>
            <a:off x="685800" y="7621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23960" y="-760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761760" y="4343400"/>
            <a:ext cx="7010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Anastasia Yendiki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HMS/MGH/MIT Athinoula A. Martinos Center for Biomedical Imaging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91FE7-72F4-48C4-A633-E68E5738C5C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929960" y="90360"/>
            <a:ext cx="5435640" cy="119124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99"/>
                </a:solidFill>
                <a:latin typeface="Georgia"/>
              </a:rPr>
              <a:t>Probabilistic tractography</a:t>
            </a:r>
            <a:endParaRPr b="0" lang="en-US" sz="3600" spc="-1" strike="noStrike">
              <a:solidFill>
                <a:srgbClr val="99ff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9800" y="2971440"/>
            <a:ext cx="79884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Determine the most probable path based on: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What the images tell us about the path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Assume a multi-compartment model of diffusion </a:t>
            </a: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[Jbabdi </a:t>
            </a:r>
            <a:r>
              <a:rPr b="0" i="1" lang="en-US" sz="1400" spc="-1" strike="noStrike">
                <a:solidFill>
                  <a:srgbClr val="ffffff"/>
                </a:solidFill>
                <a:latin typeface="Georgia"/>
              </a:rPr>
              <a:t>et al.,</a:t>
            </a: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 NeuroImage ‘07]</a:t>
            </a:r>
            <a:endParaRPr b="0" lang="en-US" sz="1400" spc="-1" strike="noStrike">
              <a:solidFill>
                <a:srgbClr val="ffffff"/>
              </a:solidFill>
              <a:latin typeface="Georgi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What we already know about the path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Incorporate prior knowledge on path anatomy from training subjects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970360" y="1523880"/>
            <a:ext cx="898200" cy="10969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71" name="" descr=""/>
          <p:cNvPicPr/>
          <p:nvPr/>
        </p:nvPicPr>
        <p:blipFill>
          <a:blip r:embed="rId2"/>
          <a:srcRect l="2165" t="0" r="0" b="0"/>
          <a:stretch/>
        </p:blipFill>
        <p:spPr>
          <a:xfrm>
            <a:off x="2368440" y="1614600"/>
            <a:ext cx="890640" cy="10969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1735200" y="1690560"/>
            <a:ext cx="912600" cy="10969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73" name="" descr=""/>
          <p:cNvPicPr/>
          <p:nvPr/>
        </p:nvPicPr>
        <p:blipFill>
          <a:blip r:embed="rId4"/>
          <a:srcRect l="2085" t="0" r="4816" b="0"/>
          <a:stretch/>
        </p:blipFill>
        <p:spPr>
          <a:xfrm>
            <a:off x="1120680" y="1766880"/>
            <a:ext cx="908280" cy="10969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74" name=""/>
          <p:cNvSpPr/>
          <p:nvPr/>
        </p:nvSpPr>
        <p:spPr>
          <a:xfrm>
            <a:off x="990720" y="106668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ccff"/>
                </a:solidFill>
                <a:latin typeface="Georgi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Have set of ima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rot="20932800">
            <a:off x="3843000" y="16902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791600" y="1136520"/>
            <a:ext cx="438696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Want most probable pat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5"/>
          <a:srcRect l="15504" t="0" r="15181" b="0"/>
          <a:stretch/>
        </p:blipFill>
        <p:spPr>
          <a:xfrm>
            <a:off x="6288120" y="1600200"/>
            <a:ext cx="1371600" cy="12398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78" name=""/>
          <p:cNvSpPr/>
          <p:nvPr/>
        </p:nvSpPr>
        <p:spPr>
          <a:xfrm>
            <a:off x="7037280" y="1676520"/>
            <a:ext cx="165240" cy="914400"/>
          </a:xfrm>
          <a:custGeom>
            <a:avLst/>
            <a:gdLst/>
            <a:ahLst/>
            <a:rect l="l" t="t" r="r" b="b"/>
            <a:pathLst>
              <a:path w="365" h="1648">
                <a:moveTo>
                  <a:pt x="0" y="0"/>
                </a:moveTo>
                <a:cubicBezTo>
                  <a:pt x="114" y="148"/>
                  <a:pt x="228" y="296"/>
                  <a:pt x="288" y="432"/>
                </a:cubicBezTo>
                <a:cubicBezTo>
                  <a:pt x="348" y="568"/>
                  <a:pt x="365" y="675"/>
                  <a:pt x="360" y="816"/>
                </a:cubicBezTo>
                <a:cubicBezTo>
                  <a:pt x="355" y="957"/>
                  <a:pt x="307" y="1141"/>
                  <a:pt x="256" y="1280"/>
                </a:cubicBezTo>
                <a:cubicBezTo>
                  <a:pt x="205" y="1419"/>
                  <a:pt x="89" y="1587"/>
                  <a:pt x="56" y="1648"/>
                </a:cubicBezTo>
              </a:path>
            </a:pathLst>
          </a:custGeom>
          <a:noFill/>
          <a:ln w="47520">
            <a:solidFill>
              <a:srgbClr val="ff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F7E75-4C27-425B-88CB-06B6D80DAAF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819080" y="90360"/>
            <a:ext cx="5583240" cy="119124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99"/>
                </a:solidFill>
                <a:latin typeface="Georgia"/>
              </a:rPr>
              <a:t>Multi-compartment model</a:t>
            </a:r>
            <a:endParaRPr b="0" lang="en-US" sz="3600" spc="-1" strike="noStrike">
              <a:solidFill>
                <a:srgbClr val="99ff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47760" y="1447920"/>
            <a:ext cx="57150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Multiple diffusion compartments in each voxel: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lvl="1" marL="690840" indent="-265680">
              <a:spcBef>
                <a:spcPts val="601"/>
              </a:spcBef>
              <a:buClr>
                <a:srgbClr val="fffff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Anisotropic compartments that model fibers (1, 2, …)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lvl="1" marL="690840" indent="-265680">
              <a:spcBef>
                <a:spcPts val="601"/>
              </a:spcBef>
              <a:buClr>
                <a:srgbClr val="fffff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One isotropic compartment that models everything left over (0)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81" name=""/>
          <p:cNvSpPr/>
          <p:nvPr/>
        </p:nvSpPr>
        <p:spPr>
          <a:xfrm>
            <a:off x="5408640" y="914400"/>
            <a:ext cx="3716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eorgia"/>
              </a:rPr>
              <a:t>Behrens </a:t>
            </a:r>
            <a:r>
              <a:rPr b="0" i="1" lang="en-US" sz="1600" spc="-1" strike="noStrike">
                <a:solidFill>
                  <a:srgbClr val="ffffff"/>
                </a:solidFill>
                <a:latin typeface="Georgia"/>
              </a:rPr>
              <a:t>et al.,</a:t>
            </a:r>
            <a:r>
              <a:rPr b="0" lang="en-US" sz="1600" spc="-1" strike="noStrike">
                <a:solidFill>
                  <a:srgbClr val="ffffff"/>
                </a:solidFill>
                <a:latin typeface="Georgia"/>
              </a:rPr>
              <a:t> MRM ‘0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eorgia"/>
              </a:rPr>
              <a:t>Jbabdi </a:t>
            </a:r>
            <a:r>
              <a:rPr b="0" i="1" lang="en-US" sz="1600" spc="-1" strike="noStrike">
                <a:solidFill>
                  <a:srgbClr val="ffffff"/>
                </a:solidFill>
                <a:latin typeface="Georgia"/>
              </a:rPr>
              <a:t>et al.,</a:t>
            </a:r>
            <a:r>
              <a:rPr b="0" lang="en-US" sz="1600" spc="-1" strike="noStrike">
                <a:solidFill>
                  <a:srgbClr val="ffffff"/>
                </a:solidFill>
                <a:latin typeface="Georgia"/>
              </a:rPr>
              <a:t> NeuroImage ‘07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85800" y="3886200"/>
            <a:ext cx="77724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We infer from the dat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Orientation angles of anisotropic compart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Volumes of all compart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Overall diffusivity in the vox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Multiple fibers only if they are supported by da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914400" y="1523880"/>
            <a:ext cx="1905120" cy="1752840"/>
          </a:xfrm>
          <a:prstGeom prst="rect">
            <a:avLst/>
          </a:prstGeom>
          <a:solidFill>
            <a:srgbClr val="90908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914400" y="1523880"/>
            <a:ext cx="1905120" cy="1524240"/>
          </a:xfrm>
          <a:custGeom>
            <a:avLst/>
            <a:gdLst/>
            <a:ahLst/>
            <a:rect l="l" t="t" r="r" b="b"/>
            <a:pathLst>
              <a:path w="1200" h="768">
                <a:moveTo>
                  <a:pt x="384" y="0"/>
                </a:moveTo>
                <a:lnTo>
                  <a:pt x="1200" y="384"/>
                </a:lnTo>
                <a:lnTo>
                  <a:pt x="1200" y="768"/>
                </a:lnTo>
                <a:lnTo>
                  <a:pt x="0" y="192"/>
                </a:lnTo>
                <a:lnTo>
                  <a:pt x="0" y="0"/>
                </a:lnTo>
                <a:lnTo>
                  <a:pt x="384" y="0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H="1" flipV="1">
            <a:off x="1371240" y="1752480"/>
            <a:ext cx="1219320" cy="7495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219320" y="1523880"/>
            <a:ext cx="1066680" cy="1752840"/>
          </a:xfrm>
          <a:custGeom>
            <a:avLst/>
            <a:gdLst/>
            <a:ahLst/>
            <a:rect l="l" t="t" r="r" b="b"/>
            <a:pathLst>
              <a:path w="672" h="1104">
                <a:moveTo>
                  <a:pt x="432" y="0"/>
                </a:moveTo>
                <a:lnTo>
                  <a:pt x="0" y="1104"/>
                </a:lnTo>
                <a:lnTo>
                  <a:pt x="240" y="1104"/>
                </a:lnTo>
                <a:lnTo>
                  <a:pt x="672" y="0"/>
                </a:lnTo>
                <a:lnTo>
                  <a:pt x="432" y="0"/>
                </a:lnTo>
                <a:close/>
              </a:path>
            </a:pathLst>
          </a:custGeom>
          <a:solidFill>
            <a:srgbClr val="809ea8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1549080" y="1879560"/>
            <a:ext cx="406440" cy="1028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966960" y="14479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290600" y="28195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37680" y="27432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1D342-A4D1-4CCC-937D-05297B835D2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287000" y="90360"/>
            <a:ext cx="6721560" cy="119124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99"/>
                </a:solidFill>
                <a:latin typeface="Georgia"/>
              </a:rPr>
              <a:t>Anatomical priors for WM paths</a:t>
            </a:r>
            <a:endParaRPr b="0" lang="en-US" sz="3600" spc="-1" strike="noStrike">
              <a:solidFill>
                <a:srgbClr val="99ff99"/>
              </a:solidFill>
              <a:latin typeface="Georgi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09120" y="2514600"/>
            <a:ext cx="769644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Sources of prior anatomical information: 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lvl="1" marL="690840" indent="-265680">
              <a:spcBef>
                <a:spcPts val="499"/>
              </a:spcBef>
              <a:buClr>
                <a:srgbClr val="fffff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Shape of the path in a set of training subjects 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lvl="1" marL="690840" indent="-265680">
              <a:spcBef>
                <a:spcPts val="499"/>
              </a:spcBef>
              <a:buClr>
                <a:srgbClr val="fffff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Anatomical regions around the path in the training subjects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marL="318960" indent="-318960">
              <a:spcBef>
                <a:spcPts val="601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Other types of anatomical constraints often used: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lvl="1" marL="690840" indent="-265680">
              <a:spcBef>
                <a:spcPts val="499"/>
              </a:spcBef>
              <a:buClr>
                <a:srgbClr val="fffff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WM masks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lvl="1" marL="690840" indent="-265680">
              <a:spcBef>
                <a:spcPts val="499"/>
              </a:spcBef>
              <a:buClr>
                <a:srgbClr val="fffff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Constraints on path angle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lvl="1" marL="690840" indent="-265680">
              <a:spcBef>
                <a:spcPts val="499"/>
              </a:spcBef>
              <a:buClr>
                <a:srgbClr val="fffff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Constraints on path length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rcRect l="15504" t="0" r="15181" b="0"/>
          <a:stretch/>
        </p:blipFill>
        <p:spPr>
          <a:xfrm>
            <a:off x="6781680" y="1219320"/>
            <a:ext cx="1600200" cy="14475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94" name=""/>
          <p:cNvSpPr/>
          <p:nvPr/>
        </p:nvSpPr>
        <p:spPr>
          <a:xfrm>
            <a:off x="7662960" y="1295280"/>
            <a:ext cx="172800" cy="1044720"/>
          </a:xfrm>
          <a:custGeom>
            <a:avLst/>
            <a:gdLst/>
            <a:ahLst/>
            <a:rect l="l" t="t" r="r" b="b"/>
            <a:pathLst>
              <a:path w="365" h="1648">
                <a:moveTo>
                  <a:pt x="0" y="0"/>
                </a:moveTo>
                <a:cubicBezTo>
                  <a:pt x="114" y="148"/>
                  <a:pt x="228" y="296"/>
                  <a:pt x="288" y="432"/>
                </a:cubicBezTo>
                <a:cubicBezTo>
                  <a:pt x="348" y="568"/>
                  <a:pt x="365" y="675"/>
                  <a:pt x="360" y="816"/>
                </a:cubicBezTo>
                <a:cubicBezTo>
                  <a:pt x="355" y="957"/>
                  <a:pt x="307" y="1141"/>
                  <a:pt x="256" y="1280"/>
                </a:cubicBezTo>
                <a:cubicBezTo>
                  <a:pt x="205" y="1419"/>
                  <a:pt x="89" y="1587"/>
                  <a:pt x="56" y="1648"/>
                </a:cubicBezTo>
              </a:path>
            </a:pathLst>
          </a:custGeom>
          <a:noFill/>
          <a:ln w="47520">
            <a:solidFill>
              <a:srgbClr val="ff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09480" y="1143000"/>
            <a:ext cx="601992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WM pathways are well-constrained by surrounding anatom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4B97A-2A59-4F01-BE06-225A1CA50C9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490920" y="364680"/>
            <a:ext cx="2316240" cy="6426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99"/>
                </a:solidFill>
                <a:latin typeface="Georgia"/>
              </a:rPr>
              <a:t>TRACULA</a:t>
            </a:r>
            <a:endParaRPr b="0" lang="en-US" sz="3600" spc="-1" strike="noStrike">
              <a:solidFill>
                <a:srgbClr val="99ff99"/>
              </a:solidFill>
              <a:latin typeface="Georgi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3520" y="3809880"/>
            <a:ext cx="6705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601"/>
              </a:spcBef>
              <a:buClr>
                <a:srgbClr val="fffb6a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b6a"/>
                </a:solidFill>
                <a:latin typeface="Georgia"/>
              </a:rPr>
              <a:t>Manual labeling</a:t>
            </a: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 of paths on a set of training subjects, performed by an expert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98" name=""/>
          <p:cNvSpPr/>
          <p:nvPr/>
        </p:nvSpPr>
        <p:spPr>
          <a:xfrm>
            <a:off x="533520" y="4876920"/>
            <a:ext cx="51814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601"/>
              </a:spcBef>
              <a:buClr>
                <a:srgbClr val="fffb6a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b6a"/>
                </a:solidFill>
                <a:latin typeface="Georgia"/>
              </a:rPr>
              <a:t>Anatomical segmentation</a:t>
            </a: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 maps of the training subjects, produced by FreeSurf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46120" y="1143000"/>
            <a:ext cx="791208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b6a"/>
                </a:solidFill>
                <a:latin typeface="Georgia"/>
              </a:rPr>
              <a:t>TRA</a:t>
            </a: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cts </a:t>
            </a:r>
            <a:r>
              <a:rPr b="0" lang="en-US" sz="2400" spc="-1" strike="noStrike">
                <a:solidFill>
                  <a:srgbClr val="fffb6a"/>
                </a:solidFill>
                <a:latin typeface="Georgia"/>
              </a:rPr>
              <a:t>C</a:t>
            </a: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onstrained by </a:t>
            </a:r>
            <a:r>
              <a:rPr b="0" lang="en-US" sz="2400" spc="-1" strike="noStrike">
                <a:solidFill>
                  <a:srgbClr val="fffb6a"/>
                </a:solidFill>
                <a:latin typeface="Georgia"/>
              </a:rPr>
              <a:t>U</a:t>
            </a: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nder</a:t>
            </a:r>
            <a:r>
              <a:rPr b="0" lang="en-US" sz="2400" spc="-1" strike="noStrike">
                <a:solidFill>
                  <a:srgbClr val="fffb6a"/>
                </a:solidFill>
                <a:latin typeface="Georgia"/>
              </a:rPr>
              <a:t>L</a:t>
            </a: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ying </a:t>
            </a:r>
            <a:r>
              <a:rPr b="0" lang="en-US" sz="2400" spc="-1" strike="noStrike">
                <a:solidFill>
                  <a:srgbClr val="fffb6a"/>
                </a:solidFill>
                <a:latin typeface="Georgia"/>
              </a:rPr>
              <a:t>A</a:t>
            </a: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natomy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Global probabilistic tractograph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Prior info on tract anatomy from training subje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No manual intervention in new subjec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Robustness w.r.t. initialization and ROI sel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Anatomically plausible solu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5715000" y="4849920"/>
          <a:ext cx="4419720" cy="1170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15000" y="4849920"/>
                    <a:ext cx="4419720" cy="117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2" name="" descr=""/>
          <p:cNvPicPr/>
          <p:nvPr/>
        </p:nvPicPr>
        <p:blipFill>
          <a:blip r:embed="rId3"/>
          <a:stretch/>
        </p:blipFill>
        <p:spPr>
          <a:xfrm>
            <a:off x="7201080" y="3497400"/>
            <a:ext cx="1347480" cy="1226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520E0-3319-4D59-81A7-40B29A19D0C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630520" y="90360"/>
            <a:ext cx="4051440" cy="119124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99"/>
                </a:solidFill>
                <a:latin typeface="Georgia"/>
              </a:rPr>
              <a:t>Preliminary results</a:t>
            </a:r>
            <a:endParaRPr b="0" lang="en-US" sz="3600" spc="-1" strike="noStrike">
              <a:solidFill>
                <a:srgbClr val="99ff99"/>
              </a:solidFill>
              <a:latin typeface="Georgi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Manual labeling of: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lvl="1" marL="609120" indent="-234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Corticospinal tract (CST)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lvl="1" marL="609120" indent="-234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Superior longitudinal fasciculus (SLF) 1, 2, 3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lvl="1" marL="609120" indent="-234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Cingulum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marL="28116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marL="281160" indent="-2811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DTI reliability data set from Mental Illness and Neuroscience Discovery (MIND) Institute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lvl="1" marL="609120" indent="-234360">
              <a:lnSpc>
                <a:spcPct val="90000"/>
              </a:lnSpc>
              <a:spcBef>
                <a:spcPts val="601"/>
              </a:spcBef>
              <a:buClr>
                <a:srgbClr val="fffb6a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b6a"/>
                </a:solidFill>
                <a:latin typeface="Georgia"/>
              </a:rPr>
              <a:t>10 healthy volunteers scanned twice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lvl="1" marL="609120" indent="-234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DWI: 2x2x2 mm resolution, 60 gradient directions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lvl="1" marL="609120" indent="-234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T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Georgia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: 1x1x1 mm resolution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marL="28116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marL="281160" indent="-281160">
              <a:lnSpc>
                <a:spcPct val="90000"/>
              </a:lnSpc>
              <a:spcBef>
                <a:spcPts val="601"/>
              </a:spcBef>
              <a:buClr>
                <a:srgbClr val="fffb6a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b6a"/>
                </a:solidFill>
                <a:latin typeface="Georgia"/>
              </a:rPr>
              <a:t>Use manual labeling of 9 subjects to obtain path priors and path initialization for 10th subject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05" name=""/>
          <p:cNvSpPr/>
          <p:nvPr/>
        </p:nvSpPr>
        <p:spPr>
          <a:xfrm>
            <a:off x="4719960" y="914400"/>
            <a:ext cx="444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eorgia"/>
              </a:rPr>
              <a:t>Data courtesy of Dr. R. Gollub, MGH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7810D-58BF-4B6D-AB7C-0D65848D7D9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914200" y="90360"/>
            <a:ext cx="3475080" cy="119124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99"/>
                </a:solidFill>
                <a:latin typeface="Georgia"/>
              </a:rPr>
              <a:t>Reliability study</a:t>
            </a:r>
            <a:endParaRPr b="0" lang="en-US" sz="3600" spc="-1" strike="noStrike">
              <a:solidFill>
                <a:srgbClr val="99ff99"/>
              </a:solidFill>
              <a:latin typeface="Georgia"/>
            </a:endParaRPr>
          </a:p>
        </p:txBody>
      </p:sp>
      <p:sp>
        <p:nvSpPr>
          <p:cNvPr id="207" name=""/>
          <p:cNvSpPr/>
          <p:nvPr/>
        </p:nvSpPr>
        <p:spPr>
          <a:xfrm>
            <a:off x="3146040" y="942840"/>
            <a:ext cx="6276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eorgia"/>
              </a:rPr>
              <a:t>Manual labeling by Allison Stevens and Cibu Thoma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eorgia"/>
              </a:rPr>
              <a:t>Visualization tool by Ruopeng Wang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1095840" y="1384200"/>
            <a:ext cx="2142720" cy="2210760"/>
            <a:chOff x="1095840" y="1384200"/>
            <a:chExt cx="2142720" cy="2210760"/>
          </a:xfrm>
        </p:grpSpPr>
        <p:pic>
          <p:nvPicPr>
            <p:cNvPr id="209" name="" descr=""/>
            <p:cNvPicPr/>
            <p:nvPr/>
          </p:nvPicPr>
          <p:blipFill>
            <a:blip r:embed="rId1"/>
            <a:srcRect l="22584" t="11150" r="19661" b="0"/>
            <a:stretch/>
          </p:blipFill>
          <p:spPr>
            <a:xfrm>
              <a:off x="1116000" y="1384200"/>
              <a:ext cx="2122560" cy="221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"/>
            <p:cNvSpPr/>
            <p:nvPr/>
          </p:nvSpPr>
          <p:spPr>
            <a:xfrm>
              <a:off x="1095840" y="325764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Georgia"/>
                </a:rPr>
                <a:t>CS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736560" y="3733920"/>
            <a:ext cx="2502000" cy="2224080"/>
            <a:chOff x="736560" y="3733920"/>
            <a:chExt cx="2502000" cy="2224080"/>
          </a:xfrm>
        </p:grpSpPr>
        <p:pic>
          <p:nvPicPr>
            <p:cNvPr id="212" name="" descr=""/>
            <p:cNvPicPr/>
            <p:nvPr/>
          </p:nvPicPr>
          <p:blipFill>
            <a:blip r:embed="rId2"/>
            <a:srcRect l="23882" t="18344" r="16700" b="5398"/>
            <a:stretch/>
          </p:blipFill>
          <p:spPr>
            <a:xfrm>
              <a:off x="736560" y="3733920"/>
              <a:ext cx="2502000" cy="222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"/>
            <p:cNvSpPr/>
            <p:nvPr/>
          </p:nvSpPr>
          <p:spPr>
            <a:xfrm>
              <a:off x="2652480" y="559296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Georgia"/>
                </a:rPr>
                <a:t>SLF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214" name="" descr=""/>
          <p:cNvPicPr/>
          <p:nvPr/>
        </p:nvPicPr>
        <p:blipFill>
          <a:blip r:embed="rId3"/>
          <a:stretch/>
        </p:blipFill>
        <p:spPr>
          <a:xfrm>
            <a:off x="3365640" y="1957320"/>
            <a:ext cx="5092560" cy="3986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83F82-FC80-470F-A354-8D274FCE5AF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449440" y="90360"/>
            <a:ext cx="4408560" cy="119124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99"/>
                </a:solidFill>
                <a:latin typeface="Georgia"/>
              </a:rPr>
              <a:t>Test-retest reliability</a:t>
            </a:r>
            <a:endParaRPr b="0" lang="en-US" sz="3600" spc="-1" strike="noStrike">
              <a:solidFill>
                <a:srgbClr val="99ff99"/>
              </a:solidFill>
              <a:latin typeface="Georgia"/>
            </a:endParaRPr>
          </a:p>
        </p:txBody>
      </p:sp>
      <p:sp>
        <p:nvSpPr>
          <p:cNvPr id="216" name=""/>
          <p:cNvSpPr/>
          <p:nvPr/>
        </p:nvSpPr>
        <p:spPr>
          <a:xfrm>
            <a:off x="8785080" y="3557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69140" b="62900"/>
          <a:stretch/>
        </p:blipFill>
        <p:spPr>
          <a:xfrm>
            <a:off x="1587600" y="1752480"/>
            <a:ext cx="2313000" cy="186552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2"/>
          <a:srcRect l="0" t="50838" r="69140" b="11873"/>
          <a:stretch/>
        </p:blipFill>
        <p:spPr>
          <a:xfrm>
            <a:off x="1589040" y="3809880"/>
            <a:ext cx="2313000" cy="187488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3"/>
          <a:srcRect l="68803" t="0" r="508" b="62900"/>
          <a:stretch/>
        </p:blipFill>
        <p:spPr>
          <a:xfrm>
            <a:off x="5334120" y="1754280"/>
            <a:ext cx="2300040" cy="186516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8607600" y="5195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4"/>
          <a:srcRect l="68124" t="50838" r="1187" b="11873"/>
          <a:stretch/>
        </p:blipFill>
        <p:spPr>
          <a:xfrm>
            <a:off x="5334120" y="3814920"/>
            <a:ext cx="2300040" cy="187452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605880" y="1309680"/>
            <a:ext cx="429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No info from training subjec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156560" y="1309680"/>
            <a:ext cx="456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With info from training subjec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903760" y="326556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Visi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625080" y="326376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Visi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931120" y="533556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Visi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640920" y="533412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Visi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2D1AD-94E1-4844-B5AF-34FA039B4AC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38320" y="90360"/>
            <a:ext cx="7027920" cy="119124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99"/>
                </a:solidFill>
                <a:latin typeface="Georgia"/>
              </a:rPr>
              <a:t>Application: Huntington’s disease</a:t>
            </a:r>
            <a:endParaRPr b="0" lang="en-US" sz="3600" spc="-1" strike="noStrike">
              <a:solidFill>
                <a:srgbClr val="99ff99"/>
              </a:solidFill>
              <a:latin typeface="Georgia"/>
            </a:endParaRPr>
          </a:p>
        </p:txBody>
      </p:sp>
      <p:sp>
        <p:nvSpPr>
          <p:cNvPr id="229" name=""/>
          <p:cNvSpPr/>
          <p:nvPr/>
        </p:nvSpPr>
        <p:spPr>
          <a:xfrm>
            <a:off x="2574720" y="3422520"/>
            <a:ext cx="103716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eorgia"/>
              </a:rPr>
              <a:t>Health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970520" y="3422520"/>
            <a:ext cx="2116080" cy="5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eorgia"/>
              </a:rPr>
              <a:t>Huntington’s stage 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8886960" y="2719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rcRect l="505" t="5217" r="1516" b="3062"/>
          <a:stretch/>
        </p:blipFill>
        <p:spPr>
          <a:xfrm>
            <a:off x="1878120" y="1231920"/>
            <a:ext cx="2463840" cy="22352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4991040" y="6000840"/>
            <a:ext cx="2116080" cy="5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eorgia"/>
              </a:rPr>
              <a:t>Huntington’s stage 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2"/>
          <a:srcRect l="507" t="529" r="1511" b="2667"/>
          <a:stretch/>
        </p:blipFill>
        <p:spPr>
          <a:xfrm>
            <a:off x="4800600" y="1238400"/>
            <a:ext cx="2470320" cy="223992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2043000" y="6006960"/>
            <a:ext cx="2116080" cy="5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eorgia"/>
              </a:rPr>
              <a:t>Huntington’s stage 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3"/>
          <a:srcRect l="511" t="1115" r="2042" b="2218"/>
          <a:stretch/>
        </p:blipFill>
        <p:spPr>
          <a:xfrm>
            <a:off x="1878120" y="3822840"/>
            <a:ext cx="2465280" cy="223992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4"/>
          <a:srcRect l="1907" t="2562" r="5237" b="4087"/>
          <a:stretch/>
        </p:blipFill>
        <p:spPr>
          <a:xfrm>
            <a:off x="4808520" y="3809880"/>
            <a:ext cx="2468520" cy="22464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4749120" y="914400"/>
            <a:ext cx="432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eorgia"/>
              </a:rPr>
              <a:t>Data courtesy of Dr. D. Rosas, MGH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9D809-BBF1-4FE3-9359-B133332602B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" descr=""/>
          <p:cNvPicPr/>
          <p:nvPr/>
        </p:nvPicPr>
        <p:blipFill>
          <a:blip r:embed="rId1"/>
          <a:srcRect l="20605" t="27798" r="22777" b="22731"/>
          <a:stretch/>
        </p:blipFill>
        <p:spPr>
          <a:xfrm>
            <a:off x="1752480" y="1298520"/>
            <a:ext cx="5626080" cy="4581720"/>
          </a:xfrm>
          <a:prstGeom prst="rect">
            <a:avLst/>
          </a:prstGeom>
          <a:ln w="0">
            <a:noFill/>
          </a:ln>
        </p:spPr>
      </p:pic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157120" y="91080"/>
            <a:ext cx="4987800" cy="119124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99"/>
                </a:solidFill>
                <a:latin typeface="Georgia"/>
              </a:rPr>
              <a:t>MD changes in patients</a:t>
            </a:r>
            <a:endParaRPr b="0" lang="en-US" sz="3600" spc="-1" strike="noStrike">
              <a:solidFill>
                <a:srgbClr val="99ff99"/>
              </a:solidFill>
              <a:latin typeface="Georgi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2"/>
          <a:stretch/>
        </p:blipFill>
        <p:spPr>
          <a:xfrm>
            <a:off x="7483320" y="4403880"/>
            <a:ext cx="330480" cy="145728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7723440" y="5546880"/>
            <a:ext cx="945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0.00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701480" y="4251240"/>
            <a:ext cx="640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0.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431520" y="1432080"/>
            <a:ext cx="640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C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962520" y="1736640"/>
            <a:ext cx="990360" cy="2286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554800" y="1508040"/>
            <a:ext cx="457200" cy="3970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927320" y="1187280"/>
            <a:ext cx="7930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SLF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45680" y="1187280"/>
            <a:ext cx="7930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SLF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451560" y="1508040"/>
            <a:ext cx="0" cy="5335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6552720" y="2346480"/>
            <a:ext cx="414360" cy="5331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456600" y="2025720"/>
            <a:ext cx="7930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SLF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981080" y="4632480"/>
            <a:ext cx="12956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Cingulu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3098880" y="4114440"/>
            <a:ext cx="330120" cy="6094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-533520" y="5987880"/>
            <a:ext cx="1017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eorgia"/>
              </a:rPr>
              <a:t>P-values for T-test on mean MD of Huntington’s patients (N=33) and controls (N=2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663F7-CC65-4AAB-9FC2-9DE8D97F51D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531440" y="91080"/>
            <a:ext cx="6280200" cy="119124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99"/>
                </a:solidFill>
                <a:latin typeface="Georgia"/>
              </a:rPr>
              <a:t>Correlation with disease stage</a:t>
            </a:r>
            <a:endParaRPr b="0" lang="en-US" sz="3600" spc="-1" strike="noStrike">
              <a:solidFill>
                <a:srgbClr val="99ff99"/>
              </a:solidFill>
              <a:latin typeface="Georgia"/>
            </a:endParaRPr>
          </a:p>
        </p:txBody>
      </p:sp>
      <p:graphicFrame>
        <p:nvGraphicFramePr>
          <p:cNvPr id="256" name=""/>
          <p:cNvGraphicFramePr/>
          <p:nvPr/>
        </p:nvGraphicFramePr>
        <p:xfrm>
          <a:off x="685800" y="1189080"/>
          <a:ext cx="7772400" cy="3459240"/>
        </p:xfrm>
        <a:graphic>
          <a:graphicData uri="http://schemas.openxmlformats.org/drawingml/2006/table">
            <a:tbl>
              <a:tblPr/>
              <a:tblGrid>
                <a:gridCol w="609480"/>
                <a:gridCol w="944640"/>
                <a:gridCol w="777960"/>
                <a:gridCol w="776160"/>
                <a:gridCol w="777960"/>
                <a:gridCol w="777960"/>
                <a:gridCol w="776160"/>
                <a:gridCol w="777960"/>
                <a:gridCol w="776160"/>
                <a:gridCol w="777960"/>
              </a:tblGrid>
              <a:tr h="396000">
                <a:tc rowSpan="2">
                  <a:txBody>
                    <a:bodyPr lIns="90720" rIns="90720"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720" marR="9072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5">
                  <a:txBody>
                    <a:bodyPr lIns="90720" rIns="90720"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Lef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720" marR="90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720" rIns="90720"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Righ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720" marR="9072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0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720" rIns="90720"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6666"/>
                          </a:solidFill>
                          <a:latin typeface="Georgia"/>
                        </a:rPr>
                        <a:t>CS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720" marR="90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720" rIns="90720"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6666"/>
                          </a:solidFill>
                          <a:latin typeface="Georgia"/>
                        </a:rPr>
                        <a:t>SLF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720" marR="90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720" rIns="90720"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6666"/>
                          </a:solidFill>
                          <a:latin typeface="Georgia"/>
                        </a:rPr>
                        <a:t>SLF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720" marR="90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720" rIns="90720"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6666"/>
                          </a:solidFill>
                          <a:latin typeface="Georgia"/>
                        </a:rPr>
                        <a:t>SLF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720" marR="90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720" rIns="90720"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6666"/>
                          </a:solidFill>
                          <a:latin typeface="Georgia"/>
                        </a:rPr>
                        <a:t>C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720" marR="90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720" rIns="90720"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6666"/>
                          </a:solidFill>
                          <a:latin typeface="Georgia"/>
                        </a:rPr>
                        <a:t>SLF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720" marR="90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720" rIns="90720"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6666"/>
                          </a:solidFill>
                          <a:latin typeface="Georgia"/>
                        </a:rPr>
                        <a:t>SLF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720" marR="90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720" rIns="90720"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6666"/>
                          </a:solidFill>
                          <a:latin typeface="Georgia"/>
                        </a:rPr>
                        <a:t>SLF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720" marR="90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720" rIns="90720"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6666"/>
                          </a:solidFill>
                          <a:latin typeface="Georgia"/>
                        </a:rPr>
                        <a:t>C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720" marR="9072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6000">
                <a:tc>
                  <a:txBody>
                    <a:bodyPr lIns="90720" rIns="90720"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b6a"/>
                          </a:solidFill>
                          <a:latin typeface="Georgia"/>
                        </a:rPr>
                        <a:t>F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720" marR="9072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720" rIns="9072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-.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720" marR="90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720" rIns="9072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-.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720" marR="90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720" rIns="9072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-.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720" marR="90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720" rIns="9072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-.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720" marR="90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720" rIns="9072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-.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720" marR="90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720" rIns="9072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-.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720" marR="90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720" rIns="9072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-.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720" marR="90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720" rIns="9072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-.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720" marR="90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720" rIns="9072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-.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720" marR="9072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2720">
                <a:tc>
                  <a:txBody>
                    <a:bodyPr lIns="90720" rIns="90720"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b6a"/>
                          </a:solidFill>
                          <a:latin typeface="Georgia"/>
                        </a:rPr>
                        <a:t>M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720" marR="9072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720" rIns="9072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.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720" marR="90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720" rIns="9072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.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720" marR="90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720" rIns="9072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6600"/>
                          </a:solidFill>
                          <a:latin typeface="Georgia"/>
                        </a:rPr>
                        <a:t>.7 </a:t>
                      </a:r>
                      <a:r>
                        <a:rPr b="0" lang="en-US" sz="1600" spc="-1" strike="noStrike">
                          <a:solidFill>
                            <a:srgbClr val="ff6600"/>
                          </a:solidFill>
                          <a:latin typeface="Georgia"/>
                        </a:rPr>
                        <a:t>p&lt;10</a:t>
                      </a:r>
                      <a:r>
                        <a:rPr b="0" lang="en-US" sz="1600" spc="-1" strike="noStrike" baseline="30000">
                          <a:solidFill>
                            <a:srgbClr val="ff6600"/>
                          </a:solidFill>
                          <a:latin typeface="Georgia"/>
                        </a:rPr>
                        <a:t>-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720" marR="90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720" rIns="9072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6600"/>
                          </a:solidFill>
                          <a:latin typeface="Georgia"/>
                        </a:rPr>
                        <a:t>.6 </a:t>
                      </a:r>
                      <a:r>
                        <a:rPr b="0" lang="en-US" sz="1600" spc="-1" strike="noStrike">
                          <a:solidFill>
                            <a:srgbClr val="ff6600"/>
                          </a:solidFill>
                          <a:latin typeface="Georgia"/>
                        </a:rPr>
                        <a:t>p&lt;10</a:t>
                      </a:r>
                      <a:r>
                        <a:rPr b="0" lang="en-US" sz="1600" spc="-1" strike="noStrike" baseline="30000">
                          <a:solidFill>
                            <a:srgbClr val="ff6600"/>
                          </a:solidFill>
                          <a:latin typeface="Georgia"/>
                        </a:rPr>
                        <a:t>-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720" marR="90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720" rIns="9072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.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720" marR="90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720" rIns="9072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.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720" marR="90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720" rIns="9072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6600"/>
                          </a:solidFill>
                          <a:latin typeface="Georgia"/>
                        </a:rPr>
                        <a:t>.7 </a:t>
                      </a:r>
                      <a:r>
                        <a:rPr b="0" lang="en-US" sz="1600" spc="-1" strike="noStrike">
                          <a:solidFill>
                            <a:srgbClr val="ff6600"/>
                          </a:solidFill>
                          <a:latin typeface="Georgia"/>
                        </a:rPr>
                        <a:t>p&lt;10</a:t>
                      </a:r>
                      <a:r>
                        <a:rPr b="0" lang="en-US" sz="1600" spc="-1" strike="noStrike" baseline="30000">
                          <a:solidFill>
                            <a:srgbClr val="ff6600"/>
                          </a:solidFill>
                          <a:latin typeface="Georgia"/>
                        </a:rPr>
                        <a:t>-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720" marR="90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720" rIns="9072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6600"/>
                          </a:solidFill>
                          <a:latin typeface="Georgia"/>
                        </a:rPr>
                        <a:t>.6 </a:t>
                      </a:r>
                      <a:r>
                        <a:rPr b="0" lang="en-US" sz="1600" spc="-1" strike="noStrike">
                          <a:solidFill>
                            <a:srgbClr val="ff6600"/>
                          </a:solidFill>
                          <a:latin typeface="Georgia"/>
                        </a:rPr>
                        <a:t>p&lt;10</a:t>
                      </a:r>
                      <a:r>
                        <a:rPr b="0" lang="en-US" sz="1600" spc="-1" strike="noStrike" baseline="30000">
                          <a:solidFill>
                            <a:srgbClr val="ff6600"/>
                          </a:solidFill>
                          <a:latin typeface="Georgia"/>
                        </a:rPr>
                        <a:t>-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720" marR="90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720" rIns="9072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.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720" marR="9072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6000">
                <a:tc>
                  <a:txBody>
                    <a:bodyPr lIns="90720" rIns="90720"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b6a"/>
                          </a:solidFill>
                          <a:latin typeface="Georgia"/>
                        </a:rPr>
                        <a:t>R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720" marR="9072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720" rIns="9072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.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720" marR="90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720" rIns="9072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.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720" marR="90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720" rIns="9072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6600"/>
                          </a:solidFill>
                          <a:latin typeface="Georgia"/>
                        </a:rPr>
                        <a:t>.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720" marR="90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720" rIns="9072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6600"/>
                          </a:solidFill>
                          <a:latin typeface="Georgia"/>
                        </a:rPr>
                        <a:t>.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720" marR="90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720" rIns="9072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.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720" marR="90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720" rIns="9072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.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720" marR="90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720" rIns="9072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6600"/>
                          </a:solidFill>
                          <a:latin typeface="Georgia"/>
                        </a:rPr>
                        <a:t>.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720" marR="90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720" rIns="9072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6600"/>
                          </a:solidFill>
                          <a:latin typeface="Georgia"/>
                        </a:rPr>
                        <a:t>.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720" marR="90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720" rIns="9072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.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720" marR="9072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6000">
                <a:tc>
                  <a:txBody>
                    <a:bodyPr lIns="90720" rIns="90720"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b6a"/>
                          </a:solidFill>
                          <a:latin typeface="Georgia"/>
                        </a:rPr>
                        <a:t>A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720" marR="9072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720" rIns="9072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.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720" marR="90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720" rIns="9072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.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720" marR="90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720" rIns="9072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6600"/>
                          </a:solidFill>
                          <a:latin typeface="Georgia"/>
                        </a:rPr>
                        <a:t>.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720" marR="90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720" rIns="9072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6600"/>
                          </a:solidFill>
                          <a:latin typeface="Georgia"/>
                        </a:rPr>
                        <a:t>.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720" marR="90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720" rIns="9072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.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720" marR="90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720" rIns="9072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.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720" marR="90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720" rIns="9072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6600"/>
                          </a:solidFill>
                          <a:latin typeface="Georgia"/>
                        </a:rPr>
                        <a:t>.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720" marR="90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720" rIns="9072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6600"/>
                          </a:solidFill>
                          <a:latin typeface="Georgia"/>
                        </a:rPr>
                        <a:t>.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720" marR="90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720" rIns="9072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.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720" marR="9072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57" name=""/>
          <p:cNvGraphicFramePr/>
          <p:nvPr/>
        </p:nvGraphicFramePr>
        <p:xfrm>
          <a:off x="4419720" y="4784760"/>
          <a:ext cx="4572000" cy="1095120"/>
        </p:xfrm>
        <a:graphic>
          <a:graphicData uri="http://schemas.openxmlformats.org/drawingml/2006/table">
            <a:tbl>
              <a:tblPr/>
              <a:tblGrid>
                <a:gridCol w="673200"/>
                <a:gridCol w="3898800"/>
              </a:tblGrid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6666"/>
                          </a:solidFill>
                          <a:latin typeface="Georgia"/>
                        </a:rPr>
                        <a:t>CST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Corticospinal trac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6666"/>
                          </a:solidFill>
                          <a:latin typeface="Georgia"/>
                        </a:rPr>
                        <a:t>SLF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Superior longitudinal fasciculu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6666"/>
                          </a:solidFill>
                          <a:latin typeface="Georgia"/>
                        </a:rPr>
                        <a:t>CB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Cingulum bod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58" name=""/>
          <p:cNvGraphicFramePr/>
          <p:nvPr/>
        </p:nvGraphicFramePr>
        <p:xfrm>
          <a:off x="685800" y="4788000"/>
          <a:ext cx="3505320" cy="1460520"/>
        </p:xfrm>
        <a:graphic>
          <a:graphicData uri="http://schemas.openxmlformats.org/drawingml/2006/table">
            <a:tbl>
              <a:tblPr/>
              <a:tblGrid>
                <a:gridCol w="647640"/>
                <a:gridCol w="2857680"/>
              </a:tblGrid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b6a"/>
                          </a:solidFill>
                          <a:latin typeface="Georgia"/>
                        </a:rPr>
                        <a:t>FA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Fractional anisotrop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b6a"/>
                          </a:solidFill>
                          <a:latin typeface="Georgia"/>
                        </a:rPr>
                        <a:t>MD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Mean diffusiv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b6a"/>
                          </a:solidFill>
                          <a:latin typeface="Georgia"/>
                        </a:rPr>
                        <a:t>RD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Radial diffusiv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b6a"/>
                          </a:solidFill>
                          <a:latin typeface="Georgia"/>
                        </a:rPr>
                        <a:t>AD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Axial diffusiv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BE966-E708-460C-BDF8-82419C97362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197160" y="90360"/>
            <a:ext cx="2898720" cy="119124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99"/>
                </a:solidFill>
                <a:latin typeface="Georgia"/>
              </a:rPr>
              <a:t>Tractography</a:t>
            </a:r>
            <a:endParaRPr b="0" lang="en-US" sz="3600" spc="-1" strike="noStrike">
              <a:solidFill>
                <a:srgbClr val="99ff99"/>
              </a:solidFill>
              <a:latin typeface="Georgia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5029200" y="1295280"/>
            <a:ext cx="3146400" cy="472464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4114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Identify fiber bundles in cerebral white matter (WM)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marL="288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marL="288000" indent="-288000">
              <a:spcBef>
                <a:spcPts val="601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Characterizing these WM pathways is important for: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lvl="1" marL="623880" indent="-239760">
              <a:spcBef>
                <a:spcPts val="601"/>
              </a:spcBef>
              <a:buClr>
                <a:srgbClr val="fffff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Inferring connections b/w brain regions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lvl="1" marL="623880" indent="-239760">
              <a:spcBef>
                <a:spcPts val="601"/>
              </a:spcBef>
              <a:buClr>
                <a:srgbClr val="fffff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Understanding effects of neurodegenerative diseases, stroke, aging, development …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8" name=""/>
          <p:cNvSpPr/>
          <p:nvPr/>
        </p:nvSpPr>
        <p:spPr>
          <a:xfrm>
            <a:off x="4952880" y="6087960"/>
            <a:ext cx="2971800" cy="1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3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Georgia"/>
              </a:rPr>
              <a:t>From </a:t>
            </a:r>
            <a:r>
              <a:rPr b="0" i="1" lang="en-US" sz="900" spc="-1" strike="noStrike">
                <a:solidFill>
                  <a:srgbClr val="ffffff"/>
                </a:solidFill>
                <a:latin typeface="Georgia"/>
              </a:rPr>
              <a:t>Gray's Anatomy: IX. Neurology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A21AF-4420-4145-8024-DCCDD61A26E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825200" y="90360"/>
            <a:ext cx="5661000" cy="119124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99"/>
                </a:solidFill>
                <a:latin typeface="Georgia"/>
              </a:rPr>
              <a:t>Application: Schizophrenia</a:t>
            </a:r>
            <a:endParaRPr b="0" lang="en-US" sz="3600" spc="-1" strike="noStrike">
              <a:solidFill>
                <a:srgbClr val="99ff99"/>
              </a:solidFill>
              <a:latin typeface="Georgia"/>
            </a:endParaRPr>
          </a:p>
        </p:txBody>
      </p:sp>
      <p:sp>
        <p:nvSpPr>
          <p:cNvPr id="260" name=""/>
          <p:cNvSpPr/>
          <p:nvPr/>
        </p:nvSpPr>
        <p:spPr>
          <a:xfrm>
            <a:off x="4719960" y="914400"/>
            <a:ext cx="444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eorgia"/>
              </a:rPr>
              <a:t>Data courtesy of Dr. R. Gollub, MGH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8886960" y="2719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-595440" y="5987880"/>
            <a:ext cx="1029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eorgia"/>
              </a:rPr>
              <a:t>P-values for T-test on mean RD of schizophrenia patients (N=25) and controls (N=18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rcRect l="18562" t="26943" r="20823" b="18854"/>
          <a:stretch/>
        </p:blipFill>
        <p:spPr>
          <a:xfrm>
            <a:off x="2057400" y="1371600"/>
            <a:ext cx="5027760" cy="453384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2"/>
          <a:stretch/>
        </p:blipFill>
        <p:spPr>
          <a:xfrm>
            <a:off x="7254720" y="4429080"/>
            <a:ext cx="330480" cy="145728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7494840" y="5572080"/>
            <a:ext cx="945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0.00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7472880" y="4276800"/>
            <a:ext cx="640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0.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355200" y="1447920"/>
            <a:ext cx="640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C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886200" y="1752480"/>
            <a:ext cx="990720" cy="2286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326200" y="1660680"/>
            <a:ext cx="457200" cy="3967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98720" y="1339920"/>
            <a:ext cx="7930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SLF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5617080" y="1339920"/>
            <a:ext cx="7930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SLF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222960" y="1660680"/>
            <a:ext cx="0" cy="5331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6324120" y="2301840"/>
            <a:ext cx="414360" cy="5335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228000" y="1981080"/>
            <a:ext cx="7930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SLF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133720" y="4479840"/>
            <a:ext cx="12952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Cingulu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3251160" y="3962160"/>
            <a:ext cx="330120" cy="6094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C8FE6-D9EF-4FFB-8E9B-645A2EDE75A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7169760" y="4919760"/>
            <a:ext cx="114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* p&lt;.0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° p&lt;.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1"/>
          <a:srcRect l="0" t="1334" r="204" b="0"/>
          <a:stretch/>
        </p:blipFill>
        <p:spPr>
          <a:xfrm>
            <a:off x="919080" y="1011240"/>
            <a:ext cx="6151680" cy="3691080"/>
          </a:xfrm>
          <a:prstGeom prst="rect">
            <a:avLst/>
          </a:prstGeom>
          <a:ln w="0">
            <a:noFill/>
          </a:ln>
        </p:spPr>
      </p:pic>
      <p:grpSp>
        <p:nvGrpSpPr>
          <p:cNvPr id="279" name=""/>
          <p:cNvGrpSpPr/>
          <p:nvPr/>
        </p:nvGrpSpPr>
        <p:grpSpPr>
          <a:xfrm>
            <a:off x="7078680" y="1015920"/>
            <a:ext cx="1399680" cy="647640"/>
            <a:chOff x="7078680" y="1015920"/>
            <a:chExt cx="1399680" cy="647640"/>
          </a:xfrm>
        </p:grpSpPr>
        <p:pic>
          <p:nvPicPr>
            <p:cNvPr id="280" name="" descr=""/>
            <p:cNvPicPr/>
            <p:nvPr/>
          </p:nvPicPr>
          <p:blipFill>
            <a:blip r:embed="rId2"/>
            <a:srcRect l="56796" t="23277" r="0" b="0"/>
            <a:stretch/>
          </p:blipFill>
          <p:spPr>
            <a:xfrm>
              <a:off x="7488360" y="1015920"/>
              <a:ext cx="990000" cy="64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1" name="" descr=""/>
            <p:cNvPicPr/>
            <p:nvPr/>
          </p:nvPicPr>
          <p:blipFill>
            <a:blip r:embed="rId3"/>
            <a:srcRect l="0" t="23277" r="81907" b="0"/>
            <a:stretch/>
          </p:blipFill>
          <p:spPr>
            <a:xfrm>
              <a:off x="7078680" y="1015920"/>
              <a:ext cx="414720" cy="647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2" name=""/>
          <p:cNvSpPr/>
          <p:nvPr/>
        </p:nvSpPr>
        <p:spPr>
          <a:xfrm>
            <a:off x="1784520" y="3119400"/>
            <a:ext cx="528156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1741320" y="3071880"/>
            <a:ext cx="5319720" cy="76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4"/>
          <a:srcRect l="0" t="0" r="0" b="16938"/>
          <a:stretch/>
        </p:blipFill>
        <p:spPr>
          <a:xfrm>
            <a:off x="914400" y="3186000"/>
            <a:ext cx="6164280" cy="3143520"/>
          </a:xfrm>
          <a:prstGeom prst="rect">
            <a:avLst/>
          </a:prstGeom>
          <a:ln w="0">
            <a:noFill/>
          </a:ln>
        </p:spPr>
      </p:pic>
      <p:grpSp>
        <p:nvGrpSpPr>
          <p:cNvPr id="285" name=""/>
          <p:cNvGrpSpPr/>
          <p:nvPr/>
        </p:nvGrpSpPr>
        <p:grpSpPr>
          <a:xfrm>
            <a:off x="3144960" y="1738440"/>
            <a:ext cx="363600" cy="459720"/>
            <a:chOff x="3144960" y="1738440"/>
            <a:chExt cx="363600" cy="459720"/>
          </a:xfrm>
        </p:grpSpPr>
        <p:sp>
          <p:nvSpPr>
            <p:cNvPr id="286" name=""/>
            <p:cNvSpPr/>
            <p:nvPr/>
          </p:nvSpPr>
          <p:spPr>
            <a:xfrm rot="5400000">
              <a:off x="3256200" y="1937520"/>
              <a:ext cx="119160" cy="289080"/>
            </a:xfrm>
            <a:custGeom>
              <a:avLst/>
              <a:gdLst>
                <a:gd name="textAreaLeft" fmla="*/ 34920 w 119160"/>
                <a:gd name="textAreaRight" fmla="*/ 119520 w 119160"/>
                <a:gd name="textAreaTop" fmla="*/ 11880 h 289080"/>
                <a:gd name="textAreaBottom" fmla="*/ 277200 h 289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3144960" y="17384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*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8" name=""/>
          <p:cNvGrpSpPr/>
          <p:nvPr/>
        </p:nvGrpSpPr>
        <p:grpSpPr>
          <a:xfrm>
            <a:off x="3691080" y="1368360"/>
            <a:ext cx="363600" cy="459720"/>
            <a:chOff x="3691080" y="1368360"/>
            <a:chExt cx="363600" cy="459720"/>
          </a:xfrm>
        </p:grpSpPr>
        <p:sp>
          <p:nvSpPr>
            <p:cNvPr id="289" name=""/>
            <p:cNvSpPr/>
            <p:nvPr/>
          </p:nvSpPr>
          <p:spPr>
            <a:xfrm rot="5400000">
              <a:off x="3802680" y="1567440"/>
              <a:ext cx="119160" cy="288720"/>
            </a:xfrm>
            <a:custGeom>
              <a:avLst/>
              <a:gdLst>
                <a:gd name="textAreaLeft" fmla="*/ 34920 w 119160"/>
                <a:gd name="textAreaRight" fmla="*/ 119520 w 119160"/>
                <a:gd name="textAreaTop" fmla="*/ 11880 h 288720"/>
                <a:gd name="textAreaBottom" fmla="*/ 276840 h 288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691080" y="13683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*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91" name=""/>
          <p:cNvGrpSpPr/>
          <p:nvPr/>
        </p:nvGrpSpPr>
        <p:grpSpPr>
          <a:xfrm>
            <a:off x="4219560" y="1417680"/>
            <a:ext cx="363600" cy="459720"/>
            <a:chOff x="4219560" y="1417680"/>
            <a:chExt cx="363600" cy="459720"/>
          </a:xfrm>
        </p:grpSpPr>
        <p:sp>
          <p:nvSpPr>
            <p:cNvPr id="292" name=""/>
            <p:cNvSpPr/>
            <p:nvPr/>
          </p:nvSpPr>
          <p:spPr>
            <a:xfrm rot="5400000">
              <a:off x="4331160" y="1616760"/>
              <a:ext cx="119160" cy="289080"/>
            </a:xfrm>
            <a:custGeom>
              <a:avLst/>
              <a:gdLst>
                <a:gd name="textAreaLeft" fmla="*/ 34920 w 119160"/>
                <a:gd name="textAreaRight" fmla="*/ 119520 w 119160"/>
                <a:gd name="textAreaTop" fmla="*/ 11880 h 289080"/>
                <a:gd name="textAreaBottom" fmla="*/ 277200 h 289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219560" y="14176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*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94" name=""/>
          <p:cNvGrpSpPr/>
          <p:nvPr/>
        </p:nvGrpSpPr>
        <p:grpSpPr>
          <a:xfrm>
            <a:off x="3139920" y="3297240"/>
            <a:ext cx="363600" cy="459720"/>
            <a:chOff x="3139920" y="3297240"/>
            <a:chExt cx="363600" cy="459720"/>
          </a:xfrm>
        </p:grpSpPr>
        <p:sp>
          <p:nvSpPr>
            <p:cNvPr id="295" name=""/>
            <p:cNvSpPr/>
            <p:nvPr/>
          </p:nvSpPr>
          <p:spPr>
            <a:xfrm rot="5400000">
              <a:off x="3251520" y="3496320"/>
              <a:ext cx="118800" cy="289080"/>
            </a:xfrm>
            <a:custGeom>
              <a:avLst/>
              <a:gdLst>
                <a:gd name="textAreaLeft" fmla="*/ 34920 w 118800"/>
                <a:gd name="textAreaRight" fmla="*/ 119160 w 118800"/>
                <a:gd name="textAreaTop" fmla="*/ 11880 h 289080"/>
                <a:gd name="textAreaBottom" fmla="*/ 277200 h 289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139920" y="32972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*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97" name=""/>
          <p:cNvGrpSpPr/>
          <p:nvPr/>
        </p:nvGrpSpPr>
        <p:grpSpPr>
          <a:xfrm>
            <a:off x="6322320" y="3349800"/>
            <a:ext cx="363600" cy="459720"/>
            <a:chOff x="6322320" y="3349800"/>
            <a:chExt cx="363600" cy="459720"/>
          </a:xfrm>
        </p:grpSpPr>
        <p:sp>
          <p:nvSpPr>
            <p:cNvPr id="298" name=""/>
            <p:cNvSpPr/>
            <p:nvPr/>
          </p:nvSpPr>
          <p:spPr>
            <a:xfrm rot="5400000">
              <a:off x="6445440" y="3549240"/>
              <a:ext cx="119160" cy="289080"/>
            </a:xfrm>
            <a:custGeom>
              <a:avLst/>
              <a:gdLst>
                <a:gd name="textAreaLeft" fmla="*/ 34920 w 119160"/>
                <a:gd name="textAreaRight" fmla="*/ 119520 w 119160"/>
                <a:gd name="textAreaTop" fmla="*/ 11880 h 289080"/>
                <a:gd name="textAreaBottom" fmla="*/ 277200 h 289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322320" y="33498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°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4203000" y="3454560"/>
            <a:ext cx="363600" cy="459720"/>
            <a:chOff x="4203000" y="3454560"/>
            <a:chExt cx="363600" cy="459720"/>
          </a:xfrm>
        </p:grpSpPr>
        <p:sp>
          <p:nvSpPr>
            <p:cNvPr id="301" name=""/>
            <p:cNvSpPr/>
            <p:nvPr/>
          </p:nvSpPr>
          <p:spPr>
            <a:xfrm rot="5400000">
              <a:off x="4326480" y="3653640"/>
              <a:ext cx="119160" cy="288720"/>
            </a:xfrm>
            <a:custGeom>
              <a:avLst/>
              <a:gdLst>
                <a:gd name="textAreaLeft" fmla="*/ 34920 w 119160"/>
                <a:gd name="textAreaRight" fmla="*/ 119520 w 119160"/>
                <a:gd name="textAreaTop" fmla="*/ 11880 h 288720"/>
                <a:gd name="textAreaBottom" fmla="*/ 276840 h 288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203000" y="34545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°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3694320" y="3576600"/>
            <a:ext cx="363600" cy="459720"/>
            <a:chOff x="3694320" y="3576600"/>
            <a:chExt cx="363600" cy="459720"/>
          </a:xfrm>
        </p:grpSpPr>
        <p:sp>
          <p:nvSpPr>
            <p:cNvPr id="304" name=""/>
            <p:cNvSpPr/>
            <p:nvPr/>
          </p:nvSpPr>
          <p:spPr>
            <a:xfrm rot="5400000">
              <a:off x="3805560" y="3775680"/>
              <a:ext cx="119160" cy="289080"/>
            </a:xfrm>
            <a:custGeom>
              <a:avLst/>
              <a:gdLst>
                <a:gd name="textAreaLeft" fmla="*/ 34920 w 119160"/>
                <a:gd name="textAreaRight" fmla="*/ 119520 w 119160"/>
                <a:gd name="textAreaTop" fmla="*/ 11880 h 289080"/>
                <a:gd name="textAreaBottom" fmla="*/ 277200 h 289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694320" y="35766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*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5789520" y="3297240"/>
            <a:ext cx="363600" cy="459720"/>
            <a:chOff x="5789520" y="3297240"/>
            <a:chExt cx="363600" cy="459720"/>
          </a:xfrm>
        </p:grpSpPr>
        <p:sp>
          <p:nvSpPr>
            <p:cNvPr id="307" name=""/>
            <p:cNvSpPr/>
            <p:nvPr/>
          </p:nvSpPr>
          <p:spPr>
            <a:xfrm rot="5400000">
              <a:off x="5901480" y="3496680"/>
              <a:ext cx="118800" cy="288720"/>
            </a:xfrm>
            <a:custGeom>
              <a:avLst/>
              <a:gdLst>
                <a:gd name="textAreaLeft" fmla="*/ 34920 w 118800"/>
                <a:gd name="textAreaRight" fmla="*/ 119160 w 118800"/>
                <a:gd name="textAreaTop" fmla="*/ 11880 h 288720"/>
                <a:gd name="textAreaBottom" fmla="*/ 276840 h 288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789520" y="32972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*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583000" y="90360"/>
            <a:ext cx="4147920" cy="119124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99"/>
                </a:solidFill>
                <a:latin typeface="Georgia"/>
              </a:rPr>
              <a:t>FA and RD changes</a:t>
            </a:r>
            <a:endParaRPr b="0" lang="en-US" sz="3600" spc="-1" strike="noStrike">
              <a:solidFill>
                <a:srgbClr val="99ff99"/>
              </a:solidFill>
              <a:latin typeface="Georgia"/>
            </a:endParaRPr>
          </a:p>
        </p:txBody>
      </p:sp>
      <p:sp>
        <p:nvSpPr>
          <p:cNvPr id="310" name=""/>
          <p:cNvSpPr/>
          <p:nvPr/>
        </p:nvSpPr>
        <p:spPr>
          <a:xfrm>
            <a:off x="3306600" y="5397480"/>
            <a:ext cx="1752840" cy="914400"/>
          </a:xfrm>
          <a:prstGeom prst="parallelogram">
            <a:avLst>
              <a:gd name="adj" fmla="val 81132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rot="18843600">
            <a:off x="3292200" y="5636880"/>
            <a:ext cx="1348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cingulu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 rot="18843600">
            <a:off x="3701160" y="5681880"/>
            <a:ext cx="147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cingulu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46790-70EC-4B6F-A088-D9881CC5E06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05160" y="90360"/>
            <a:ext cx="4495680" cy="119124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99"/>
                </a:solidFill>
                <a:latin typeface="Georgia"/>
              </a:rPr>
              <a:t>Current development</a:t>
            </a:r>
            <a:endParaRPr b="0" lang="en-US" sz="3600" spc="-1" strike="noStrike">
              <a:solidFill>
                <a:srgbClr val="99ff99"/>
              </a:solidFill>
              <a:latin typeface="Georgi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TRACULA: A method for diffusion tractography that combines a global probabilistic approach with prior knowledge on path anatomy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More detailed models of tracts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Improved inter-subject registration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Coming soon to a FreeSurfer near you!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51CC2-43FD-49D1-AE00-376776C03ED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2590920" y="90360"/>
            <a:ext cx="4114800" cy="119124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99"/>
                </a:solidFill>
                <a:latin typeface="Georgia"/>
              </a:rPr>
              <a:t>Acknowledgements</a:t>
            </a:r>
            <a:endParaRPr b="0" lang="en-US" sz="3600" spc="-1" strike="noStrike">
              <a:solidFill>
                <a:srgbClr val="99ff99"/>
              </a:solidFill>
              <a:latin typeface="Georgi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Support provided in part by: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marL="281160" indent="-281160">
              <a:lnSpc>
                <a:spcPct val="90000"/>
              </a:lnSpc>
              <a:spcBef>
                <a:spcPts val="499"/>
              </a:spcBef>
              <a:buClr>
                <a:srgbClr val="ff99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99"/>
                </a:solidFill>
                <a:latin typeface="Georgia"/>
              </a:rPr>
              <a:t>National Center for Research Resources</a:t>
            </a: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lvl="1" marL="609120" indent="-2343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P41 RR14075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lvl="1" marL="609120" indent="-2343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R01 RR16594 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lvl="1" marL="609120" indent="-2343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The NCRR BIRN Morphometric Project BIRN002, U24 RR021382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marL="281160" indent="-281160">
              <a:lnSpc>
                <a:spcPct val="90000"/>
              </a:lnSpc>
              <a:spcBef>
                <a:spcPts val="499"/>
              </a:spcBef>
              <a:buClr>
                <a:srgbClr val="ff99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99"/>
                </a:solidFill>
                <a:latin typeface="Georgia"/>
              </a:rPr>
              <a:t>National Institute for Biomedical Imaging and Bioengineering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lvl="1" marL="609120" indent="-2343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K99 EB008129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lvl="1" marL="609120" indent="-2343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R01 EB001550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lvl="1" marL="609120" indent="-2343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R01 EB006758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marL="281160" indent="-281160">
              <a:lnSpc>
                <a:spcPct val="90000"/>
              </a:lnSpc>
              <a:spcBef>
                <a:spcPts val="499"/>
              </a:spcBef>
              <a:buClr>
                <a:srgbClr val="ff99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99"/>
                </a:solidFill>
                <a:latin typeface="Georgia"/>
              </a:rPr>
              <a:t>National Institute for Neurological Disorders and Stroke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lvl="1" marL="609120" indent="-2343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R01 NS052585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marL="281160" indent="-281160">
              <a:lnSpc>
                <a:spcPct val="90000"/>
              </a:lnSpc>
              <a:spcBef>
                <a:spcPts val="499"/>
              </a:spcBef>
              <a:buClr>
                <a:srgbClr val="ff99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99"/>
                </a:solidFill>
                <a:latin typeface="Georgia"/>
              </a:rPr>
              <a:t>Mental Illness and Neuroscience Discovery (MIND) Institute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marL="281160" indent="-281160">
              <a:lnSpc>
                <a:spcPct val="90000"/>
              </a:lnSpc>
              <a:spcBef>
                <a:spcPts val="499"/>
              </a:spcBef>
              <a:buClr>
                <a:srgbClr val="ff99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99"/>
                </a:solidFill>
                <a:latin typeface="Georgia"/>
              </a:rPr>
              <a:t>National Alliance for Medical Image Computing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lvl="1" marL="609120" indent="-2343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Funded by the NIH Roadmap for Medical Research, grant U54 EB005149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C2781-843B-4BB5-A7A4-76835B6BF4A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685800" y="7621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514600" y="90360"/>
            <a:ext cx="4114800" cy="119124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99"/>
                </a:solidFill>
                <a:latin typeface="Georgia"/>
              </a:rPr>
              <a:t>Acknowledgements</a:t>
            </a:r>
            <a:endParaRPr b="0" lang="en-US" sz="3600" spc="-1" strike="noStrike">
              <a:solidFill>
                <a:srgbClr val="99ff99"/>
              </a:solidFill>
              <a:latin typeface="Georgia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>
            <a:off x="958680" y="1317600"/>
            <a:ext cx="1581480" cy="1830240"/>
          </a:xfrm>
          <a:prstGeom prst="rect">
            <a:avLst/>
          </a:prstGeom>
          <a:ln w="22320">
            <a:solidFill>
              <a:srgbClr val="000000"/>
            </a:solidFill>
            <a:miter/>
          </a:ln>
        </p:spPr>
      </p:pic>
      <p:pic>
        <p:nvPicPr>
          <p:cNvPr id="320" name="" descr=""/>
          <p:cNvPicPr/>
          <p:nvPr/>
        </p:nvPicPr>
        <p:blipFill>
          <a:blip r:embed="rId2"/>
          <a:stretch/>
        </p:blipFill>
        <p:spPr>
          <a:xfrm>
            <a:off x="2556000" y="1320840"/>
            <a:ext cx="1371600" cy="1828800"/>
          </a:xfrm>
          <a:prstGeom prst="rect">
            <a:avLst/>
          </a:prstGeom>
          <a:ln w="22320">
            <a:solidFill>
              <a:srgbClr val="000000"/>
            </a:solidFill>
            <a:miter/>
          </a:ln>
        </p:spPr>
      </p:pic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5389560" y="1319040"/>
            <a:ext cx="1371600" cy="1828800"/>
          </a:xfrm>
          <a:prstGeom prst="rect">
            <a:avLst/>
          </a:prstGeom>
          <a:ln w="22320">
            <a:solidFill>
              <a:srgbClr val="000000"/>
            </a:solidFill>
            <a:miter/>
          </a:ln>
        </p:spPr>
      </p:pic>
      <p:pic>
        <p:nvPicPr>
          <p:cNvPr id="322" name="" descr=""/>
          <p:cNvPicPr/>
          <p:nvPr/>
        </p:nvPicPr>
        <p:blipFill>
          <a:blip r:embed="rId4"/>
          <a:stretch/>
        </p:blipFill>
        <p:spPr>
          <a:xfrm>
            <a:off x="6781680" y="1320840"/>
            <a:ext cx="1371600" cy="1828800"/>
          </a:xfrm>
          <a:prstGeom prst="rect">
            <a:avLst/>
          </a:prstGeom>
          <a:ln w="22320">
            <a:solidFill>
              <a:srgbClr val="000000"/>
            </a:solidFill>
            <a:miter/>
          </a:ln>
        </p:spPr>
      </p:pic>
      <p:pic>
        <p:nvPicPr>
          <p:cNvPr id="323" name="" descr=""/>
          <p:cNvPicPr/>
          <p:nvPr/>
        </p:nvPicPr>
        <p:blipFill>
          <a:blip r:embed="rId5"/>
          <a:srcRect l="0" t="4167" r="0" b="0"/>
          <a:stretch/>
        </p:blipFill>
        <p:spPr>
          <a:xfrm>
            <a:off x="3940200" y="1322280"/>
            <a:ext cx="1430280" cy="1828800"/>
          </a:xfrm>
          <a:prstGeom prst="rect">
            <a:avLst/>
          </a:prstGeom>
          <a:ln w="22320">
            <a:solidFill>
              <a:srgbClr val="000000"/>
            </a:solidFill>
            <a:miter/>
          </a:ln>
        </p:spPr>
      </p:pic>
      <p:pic>
        <p:nvPicPr>
          <p:cNvPr id="324" name="" descr=""/>
          <p:cNvPicPr/>
          <p:nvPr/>
        </p:nvPicPr>
        <p:blipFill>
          <a:blip r:embed="rId6"/>
          <a:stretch/>
        </p:blipFill>
        <p:spPr>
          <a:xfrm>
            <a:off x="961920" y="3960720"/>
            <a:ext cx="2440080" cy="1830600"/>
          </a:xfrm>
          <a:prstGeom prst="rect">
            <a:avLst/>
          </a:prstGeom>
          <a:ln w="22320">
            <a:solidFill>
              <a:srgbClr val="000000"/>
            </a:solidFill>
            <a:miter/>
          </a:ln>
        </p:spPr>
      </p:pic>
      <p:sp>
        <p:nvSpPr>
          <p:cNvPr id="325" name=""/>
          <p:cNvSpPr/>
          <p:nvPr/>
        </p:nvSpPr>
        <p:spPr>
          <a:xfrm>
            <a:off x="2622600" y="3114720"/>
            <a:ext cx="5530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Georgia"/>
              </a:rPr>
              <a:t>Lilla Zöllei     Allison Stevens    David Salat       Bruce Fisch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2057400" y="5759280"/>
            <a:ext cx="2819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eorgia"/>
              </a:rPr>
              <a:t>Saad Jbabdi      Tim Behren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936360" y="1058760"/>
            <a:ext cx="164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ff99"/>
                </a:solidFill>
                <a:latin typeface="Georgia"/>
              </a:rPr>
              <a:t>MGH/Martin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933120" y="3705120"/>
            <a:ext cx="164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ff99"/>
                </a:solidFill>
                <a:latin typeface="Georgia"/>
              </a:rPr>
              <a:t>Oxford/FMRI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7"/>
          <a:srcRect l="68608" t="5166" r="2160" b="36054"/>
          <a:stretch/>
        </p:blipFill>
        <p:spPr>
          <a:xfrm>
            <a:off x="3422520" y="3962520"/>
            <a:ext cx="1363680" cy="1828800"/>
          </a:xfrm>
          <a:prstGeom prst="rect">
            <a:avLst/>
          </a:prstGeom>
          <a:ln w="22320">
            <a:solidFill>
              <a:srgbClr val="000000"/>
            </a:solidFill>
            <a:miter/>
          </a:ln>
        </p:spPr>
      </p:pic>
      <p:sp>
        <p:nvSpPr>
          <p:cNvPr id="330" name=""/>
          <p:cNvSpPr/>
          <p:nvPr/>
        </p:nvSpPr>
        <p:spPr>
          <a:xfrm>
            <a:off x="5410080" y="34131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Georgia"/>
              </a:rPr>
              <a:t>&amp; Jean Augustinac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CDACC-92DB-41CF-A4D1-BB53720A57D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119960" y="364680"/>
            <a:ext cx="7038720" cy="6426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99"/>
                </a:solidFill>
                <a:latin typeface="Georgia"/>
              </a:rPr>
              <a:t>Diffusion in brain tissu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2362320"/>
            <a:ext cx="419112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Gray matter: Diffusion is unrestricted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 isotrop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White matter: Diffusion is restricted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 anisotrop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85800" y="1143000"/>
            <a:ext cx="75438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Differentiate tissues based on the diffusion (random motion) of water molecules within th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562720" y="270504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cc66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5765760" y="2260080"/>
            <a:ext cx="266760" cy="406440"/>
          </a:xfrm>
          <a:prstGeom prst="line">
            <a:avLst/>
          </a:prstGeom>
          <a:ln w="19080">
            <a:solidFill>
              <a:srgbClr val="ffcc66"/>
            </a:solidFill>
            <a:miter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842080" y="2806560"/>
            <a:ext cx="533160" cy="0"/>
          </a:xfrm>
          <a:prstGeom prst="line">
            <a:avLst/>
          </a:prstGeom>
          <a:ln w="19080">
            <a:solidFill>
              <a:srgbClr val="ffcc66"/>
            </a:solidFill>
            <a:miter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4965480" y="2806560"/>
            <a:ext cx="533160" cy="0"/>
          </a:xfrm>
          <a:prstGeom prst="line">
            <a:avLst/>
          </a:prstGeom>
          <a:ln w="19080">
            <a:solidFill>
              <a:srgbClr val="ffcc66"/>
            </a:solidFill>
            <a:miter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5295960" y="2971800"/>
            <a:ext cx="279360" cy="380880"/>
          </a:xfrm>
          <a:prstGeom prst="line">
            <a:avLst/>
          </a:prstGeom>
          <a:ln w="19080">
            <a:solidFill>
              <a:srgbClr val="ffcc66"/>
            </a:solidFill>
            <a:miter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803920" y="2945520"/>
            <a:ext cx="304920" cy="381240"/>
          </a:xfrm>
          <a:prstGeom prst="line">
            <a:avLst/>
          </a:prstGeom>
          <a:ln w="19080">
            <a:solidFill>
              <a:srgbClr val="ffcc66"/>
            </a:solidFill>
            <a:miter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 flipV="1">
            <a:off x="5283360" y="2286000"/>
            <a:ext cx="304560" cy="380880"/>
          </a:xfrm>
          <a:prstGeom prst="line">
            <a:avLst/>
          </a:prstGeom>
          <a:ln w="19080">
            <a:solidFill>
              <a:srgbClr val="ffcc66"/>
            </a:solidFill>
            <a:miter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715000" y="518148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cc66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5969160" y="5079600"/>
            <a:ext cx="482400" cy="152280"/>
          </a:xfrm>
          <a:prstGeom prst="line">
            <a:avLst/>
          </a:prstGeom>
          <a:ln w="19080">
            <a:solidFill>
              <a:srgbClr val="ffcc66"/>
            </a:solidFill>
            <a:miter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994360" y="5295960"/>
            <a:ext cx="482760" cy="0"/>
          </a:xfrm>
          <a:prstGeom prst="line">
            <a:avLst/>
          </a:prstGeom>
          <a:ln w="19080">
            <a:solidFill>
              <a:srgbClr val="ffcc66"/>
            </a:solidFill>
            <a:miter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 flipV="1">
            <a:off x="5118120" y="5219280"/>
            <a:ext cx="533520" cy="50760"/>
          </a:xfrm>
          <a:prstGeom prst="line">
            <a:avLst/>
          </a:prstGeom>
          <a:ln w="19080">
            <a:solidFill>
              <a:srgbClr val="ffcc66"/>
            </a:solidFill>
            <a:miter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5117760" y="5346000"/>
            <a:ext cx="546120" cy="50760"/>
          </a:xfrm>
          <a:prstGeom prst="line">
            <a:avLst/>
          </a:prstGeom>
          <a:ln w="19080">
            <a:solidFill>
              <a:srgbClr val="ffcc66"/>
            </a:solidFill>
            <a:miter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952880" y="3733920"/>
            <a:ext cx="2514600" cy="1409760"/>
          </a:xfrm>
          <a:custGeom>
            <a:avLst/>
            <a:gdLst/>
            <a:ahLst/>
            <a:rect l="l" t="t" r="r" b="b"/>
            <a:pathLst>
              <a:path w="1392" h="744">
                <a:moveTo>
                  <a:pt x="0" y="720"/>
                </a:moveTo>
                <a:cubicBezTo>
                  <a:pt x="316" y="732"/>
                  <a:pt x="632" y="744"/>
                  <a:pt x="864" y="624"/>
                </a:cubicBezTo>
                <a:cubicBezTo>
                  <a:pt x="1096" y="504"/>
                  <a:pt x="1304" y="104"/>
                  <a:pt x="1392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181480" y="4191120"/>
            <a:ext cx="2590920" cy="1371600"/>
          </a:xfrm>
          <a:custGeom>
            <a:avLst/>
            <a:gdLst/>
            <a:ahLst/>
            <a:rect l="l" t="t" r="r" b="b"/>
            <a:pathLst>
              <a:path w="1392" h="744">
                <a:moveTo>
                  <a:pt x="0" y="720"/>
                </a:moveTo>
                <a:cubicBezTo>
                  <a:pt x="316" y="732"/>
                  <a:pt x="632" y="744"/>
                  <a:pt x="864" y="624"/>
                </a:cubicBezTo>
                <a:cubicBezTo>
                  <a:pt x="1096" y="504"/>
                  <a:pt x="1304" y="104"/>
                  <a:pt x="1392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124760" y="438156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cc66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7289640" y="3949200"/>
            <a:ext cx="228600" cy="381240"/>
          </a:xfrm>
          <a:prstGeom prst="line">
            <a:avLst/>
          </a:prstGeom>
          <a:ln w="19080">
            <a:solidFill>
              <a:srgbClr val="ffcc66"/>
            </a:solidFill>
            <a:miter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7353360" y="4076280"/>
            <a:ext cx="304920" cy="304920"/>
          </a:xfrm>
          <a:prstGeom prst="line">
            <a:avLst/>
          </a:prstGeom>
          <a:ln w="19080">
            <a:solidFill>
              <a:srgbClr val="ffcc66"/>
            </a:solidFill>
            <a:miter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6806880" y="4584600"/>
            <a:ext cx="291960" cy="304920"/>
          </a:xfrm>
          <a:prstGeom prst="line">
            <a:avLst/>
          </a:prstGeom>
          <a:ln w="19080">
            <a:solidFill>
              <a:srgbClr val="ffcc66"/>
            </a:solidFill>
            <a:miter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6997680" y="4648320"/>
            <a:ext cx="177840" cy="342720"/>
          </a:xfrm>
          <a:prstGeom prst="line">
            <a:avLst/>
          </a:prstGeom>
          <a:ln w="19080">
            <a:solidFill>
              <a:srgbClr val="ffcc66"/>
            </a:solidFill>
            <a:miter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143000" y="4495680"/>
            <a:ext cx="3429000" cy="13068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4470480" y="5130720"/>
            <a:ext cx="75960" cy="763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4559400" y="5105520"/>
            <a:ext cx="317520" cy="252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533840" y="5194440"/>
            <a:ext cx="571680" cy="3045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24C5C-78CF-4C5F-8110-F2E8A848C88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96720" y="90360"/>
            <a:ext cx="3102120" cy="119124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99"/>
                </a:solidFill>
                <a:latin typeface="Georgia"/>
              </a:rPr>
              <a:t>Diffusion MRI</a:t>
            </a:r>
            <a:endParaRPr b="0" lang="en-US" sz="3600" spc="-1" strike="noStrike">
              <a:solidFill>
                <a:srgbClr val="99ff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Magnetic resonance imaging can provide “diffusion encoding”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Magnetic field strength is varied by gradients in different directions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Image intensity is attenuated depending on water diffusion in each direction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Compare with baseline images to infer on diffusion process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rcRect l="2085" t="0" r="4816" b="0"/>
          <a:stretch/>
        </p:blipFill>
        <p:spPr>
          <a:xfrm>
            <a:off x="5181480" y="4724280"/>
            <a:ext cx="1096920" cy="13255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5165640" y="1338120"/>
            <a:ext cx="1047960" cy="12798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89" name="" descr=""/>
          <p:cNvPicPr/>
          <p:nvPr/>
        </p:nvPicPr>
        <p:blipFill>
          <a:blip r:embed="rId3"/>
          <a:srcRect l="2165" t="0" r="0" b="0"/>
          <a:stretch/>
        </p:blipFill>
        <p:spPr>
          <a:xfrm>
            <a:off x="6172200" y="1719360"/>
            <a:ext cx="1038240" cy="12794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90" name="" descr=""/>
          <p:cNvPicPr/>
          <p:nvPr/>
        </p:nvPicPr>
        <p:blipFill>
          <a:blip r:embed="rId4"/>
          <a:stretch/>
        </p:blipFill>
        <p:spPr>
          <a:xfrm>
            <a:off x="7164360" y="2143080"/>
            <a:ext cx="1065240" cy="12794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91" name="" descr=""/>
          <p:cNvPicPr/>
          <p:nvPr/>
        </p:nvPicPr>
        <p:blipFill>
          <a:blip r:embed="rId5"/>
          <a:srcRect l="3744" t="0" r="0" b="0"/>
          <a:stretch/>
        </p:blipFill>
        <p:spPr>
          <a:xfrm>
            <a:off x="5165640" y="2701800"/>
            <a:ext cx="1063800" cy="12798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92" name="" descr=""/>
          <p:cNvPicPr/>
          <p:nvPr/>
        </p:nvPicPr>
        <p:blipFill>
          <a:blip r:embed="rId6"/>
          <a:srcRect l="0" t="0" r="2334" b="0"/>
          <a:stretch/>
        </p:blipFill>
        <p:spPr>
          <a:xfrm>
            <a:off x="6138720" y="3063960"/>
            <a:ext cx="1063800" cy="12794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93" name="" descr=""/>
          <p:cNvPicPr/>
          <p:nvPr/>
        </p:nvPicPr>
        <p:blipFill>
          <a:blip r:embed="rId7"/>
          <a:srcRect l="2967" t="0" r="2967" b="0"/>
          <a:stretch/>
        </p:blipFill>
        <p:spPr>
          <a:xfrm>
            <a:off x="7170840" y="3506760"/>
            <a:ext cx="1058760" cy="12794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732720" y="5630760"/>
            <a:ext cx="137160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9999"/>
                </a:solidFill>
                <a:latin typeface="Georgia"/>
              </a:rPr>
              <a:t>No diffusion encod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553080" y="936720"/>
            <a:ext cx="1524240" cy="6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9999"/>
                </a:solidFill>
                <a:latin typeface="Georgia"/>
              </a:rPr>
              <a:t>Diffusion encoding in direction g</a:t>
            </a:r>
            <a:r>
              <a:rPr b="1" lang="en-US" sz="1200" spc="-1" strike="noStrike" baseline="-25000">
                <a:solidFill>
                  <a:srgbClr val="ff9999"/>
                </a:solidFill>
                <a:latin typeface="Georgia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6291360" y="5824440"/>
            <a:ext cx="457200" cy="1800"/>
          </a:xfrm>
          <a:prstGeom prst="line">
            <a:avLst/>
          </a:prstGeom>
          <a:ln w="28440">
            <a:solidFill>
              <a:srgbClr val="ff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543800" y="1546200"/>
            <a:ext cx="38088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9999"/>
                </a:solidFill>
                <a:latin typeface="Georgia"/>
              </a:rPr>
              <a:t>g</a:t>
            </a:r>
            <a:r>
              <a:rPr b="1" lang="en-US" sz="1200" spc="-1" strike="noStrike" baseline="-25000">
                <a:solidFill>
                  <a:srgbClr val="ff9999"/>
                </a:solidFill>
                <a:latin typeface="Georgia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7229520" y="1744560"/>
            <a:ext cx="357120" cy="160560"/>
          </a:xfrm>
          <a:prstGeom prst="line">
            <a:avLst/>
          </a:prstGeom>
          <a:ln w="28440">
            <a:solidFill>
              <a:srgbClr val="ff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8305920" y="1752480"/>
            <a:ext cx="38088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9999"/>
                </a:solidFill>
                <a:latin typeface="Georgia"/>
              </a:rPr>
              <a:t>g</a:t>
            </a:r>
            <a:r>
              <a:rPr b="1" lang="en-US" sz="1200" spc="-1" strike="noStrike" baseline="-25000">
                <a:solidFill>
                  <a:srgbClr val="ff9999"/>
                </a:solidFill>
                <a:latin typeface="Georgia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7981920" y="1925640"/>
            <a:ext cx="357120" cy="160200"/>
          </a:xfrm>
          <a:prstGeom prst="line">
            <a:avLst/>
          </a:prstGeom>
          <a:ln w="28440">
            <a:solidFill>
              <a:srgbClr val="ff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672080" y="4086360"/>
            <a:ext cx="38088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9999"/>
                </a:solidFill>
                <a:latin typeface="Georgia"/>
              </a:rPr>
              <a:t>g</a:t>
            </a:r>
            <a:r>
              <a:rPr b="1" lang="en-US" sz="1200" spc="-1" strike="noStrike" baseline="-25000">
                <a:solidFill>
                  <a:srgbClr val="ff9999"/>
                </a:solidFill>
                <a:latin typeface="Georgia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900680" y="4009680"/>
            <a:ext cx="357120" cy="160200"/>
          </a:xfrm>
          <a:prstGeom prst="line">
            <a:avLst/>
          </a:prstGeom>
          <a:ln w="28440">
            <a:solidFill>
              <a:srgbClr val="ff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510160" y="4267080"/>
            <a:ext cx="38088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9999"/>
                </a:solidFill>
                <a:latin typeface="Georgia"/>
              </a:rPr>
              <a:t>g</a:t>
            </a:r>
            <a:r>
              <a:rPr b="1" lang="en-US" sz="1200" spc="-1" strike="noStrike" baseline="-25000">
                <a:solidFill>
                  <a:srgbClr val="ff9999"/>
                </a:solidFill>
                <a:latin typeface="Georgia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5738760" y="4190760"/>
            <a:ext cx="357120" cy="160200"/>
          </a:xfrm>
          <a:prstGeom prst="line">
            <a:avLst/>
          </a:prstGeom>
          <a:ln w="28440">
            <a:solidFill>
              <a:srgbClr val="ff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576840" y="4572000"/>
            <a:ext cx="3812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9999"/>
                </a:solidFill>
                <a:latin typeface="Georgia"/>
              </a:rPr>
              <a:t>g</a:t>
            </a:r>
            <a:r>
              <a:rPr b="1" lang="en-US" sz="1200" spc="-1" strike="noStrike" baseline="-25000">
                <a:solidFill>
                  <a:srgbClr val="ff9999"/>
                </a:solidFill>
                <a:latin typeface="Georgia"/>
              </a:rPr>
              <a:t>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6805440" y="4495680"/>
            <a:ext cx="357480" cy="160560"/>
          </a:xfrm>
          <a:prstGeom prst="line">
            <a:avLst/>
          </a:prstGeom>
          <a:ln w="28440">
            <a:solidFill>
              <a:srgbClr val="ff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6248520" y="1270080"/>
            <a:ext cx="357120" cy="160200"/>
          </a:xfrm>
          <a:prstGeom prst="line">
            <a:avLst/>
          </a:prstGeom>
          <a:ln w="28440">
            <a:solidFill>
              <a:srgbClr val="ff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997760" y="5869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A6903-FEDE-49ED-BD7B-8E57BB0166C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5680" y="90360"/>
            <a:ext cx="6253200" cy="119124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99"/>
                </a:solidFill>
                <a:latin typeface="Georgia"/>
              </a:rPr>
              <a:t>Deterministic vs. probabilistic</a:t>
            </a:r>
            <a:endParaRPr b="0" lang="en-US" sz="3600" spc="-1" strike="noStrike">
              <a:solidFill>
                <a:srgbClr val="99ff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83920" y="1066680"/>
            <a:ext cx="420372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601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Determine “best” pathway between two brain regions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marL="291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marL="291600" indent="-291600"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Challenges: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lvl="1" marL="631440" indent="-242640">
              <a:buClr>
                <a:srgbClr val="ffffff"/>
              </a:buClr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Noisy, distorted images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lvl="1" marL="631440" indent="-242640">
              <a:buClr>
                <a:srgbClr val="ffffff"/>
              </a:buClr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Pathway crossings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lvl="1" marL="631440" indent="-242640">
              <a:buClr>
                <a:srgbClr val="ffffff"/>
              </a:buClr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High-dimensional space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lvl="1" marL="63144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marL="291600" indent="-291600">
              <a:lnSpc>
                <a:spcPct val="90000"/>
              </a:lnSpc>
              <a:spcBef>
                <a:spcPts val="349"/>
              </a:spcBef>
              <a:buClr>
                <a:srgbClr val="fffb6a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b6a"/>
                </a:solidFill>
                <a:latin typeface="Georgia"/>
              </a:rPr>
              <a:t>Deterministic methods:</a:t>
            </a: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 Model geometry of diffusion data, </a:t>
            </a:r>
            <a:r>
              <a:rPr b="0" i="1" lang="en-US" sz="2400" spc="-1" strike="noStrike">
                <a:solidFill>
                  <a:srgbClr val="ffffff"/>
                </a:solidFill>
                <a:latin typeface="Georgia"/>
              </a:rPr>
              <a:t>e.g., </a:t>
            </a: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tensor/eigenvectors </a:t>
            </a: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[Conturo ‘99, Jones ‘99, Mori ‘99, Basser ‘00, Catani ‘02, Parker ‘02, O’Donnell ‘02, Lazar ‘03, Jackowski ‘04, Pichon ‘05, Fletcher ‘07, Melonakos ‘07, …]</a:t>
            </a:r>
            <a:endParaRPr b="0" lang="en-US" sz="1400" spc="-1" strike="noStrike">
              <a:solidFill>
                <a:srgbClr val="ffffff"/>
              </a:solidFill>
              <a:latin typeface="Georgia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4800600" y="1066680"/>
            <a:ext cx="3809880" cy="3429000"/>
            <a:chOff x="4800600" y="1066680"/>
            <a:chExt cx="3809880" cy="3429000"/>
          </a:xfrm>
        </p:grpSpPr>
        <p:pic>
          <p:nvPicPr>
            <p:cNvPr id="112" name="" descr=""/>
            <p:cNvPicPr/>
            <p:nvPr/>
          </p:nvPicPr>
          <p:blipFill>
            <a:blip r:embed="rId1"/>
            <a:srcRect l="15504" t="0" r="15181" b="0"/>
            <a:stretch/>
          </p:blipFill>
          <p:spPr>
            <a:xfrm>
              <a:off x="4800600" y="1066680"/>
              <a:ext cx="3809880" cy="342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"/>
            <p:cNvSpPr/>
            <p:nvPr/>
          </p:nvSpPr>
          <p:spPr>
            <a:xfrm>
              <a:off x="6829200" y="1139400"/>
              <a:ext cx="219600" cy="218520"/>
            </a:xfrm>
            <a:prstGeom prst="ellipse">
              <a:avLst/>
            </a:prstGeom>
            <a:solidFill>
              <a:srgbClr val="00ccff">
                <a:alpha val="71000"/>
              </a:srgbClr>
            </a:solidFill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755760" y="3620160"/>
              <a:ext cx="219600" cy="218520"/>
            </a:xfrm>
            <a:prstGeom prst="ellipse">
              <a:avLst/>
            </a:prstGeom>
            <a:solidFill>
              <a:srgbClr val="00ccff">
                <a:alpha val="71000"/>
              </a:srgbClr>
            </a:solidFill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65520" y="1336320"/>
              <a:ext cx="927000" cy="2235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159" y="919"/>
                  </a:moveTo>
                  <a:arcTo wR="10800" hR="10800" stAng="-3971581" swAng="8631630"/>
                  <a:lnTo>
                    <a:pt x="10800" y="10800"/>
                  </a:lnTo>
                  <a:close/>
                </a:path>
                <a:path fill="none" w="21600" h="21600">
                  <a:moveTo>
                    <a:pt x="15159" y="919"/>
                  </a:moveTo>
                  <a:arcTo wR="10800" hR="10800" stAng="-3971581" swAng="8631630"/>
                </a:path>
              </a:pathLst>
            </a:custGeom>
            <a:noFill/>
            <a:ln w="69840">
              <a:solidFill>
                <a:srgbClr val="33c1e5">
                  <a:alpha val="71000"/>
                </a:srgbClr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197480" y="1796040"/>
              <a:ext cx="552600" cy="8251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33c1e5"/>
                  </a:solidFill>
                  <a:latin typeface="Arial"/>
                </a:rPr>
                <a:t>?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7" name=""/>
          <p:cNvSpPr/>
          <p:nvPr/>
        </p:nvSpPr>
        <p:spPr>
          <a:xfrm>
            <a:off x="4724280" y="4788000"/>
            <a:ext cx="40388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400"/>
              </a:spcBef>
              <a:buClr>
                <a:srgbClr val="fffb6a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b6a"/>
                </a:solidFill>
                <a:latin typeface="Georgia"/>
              </a:rPr>
              <a:t>Probabilistic methods:</a:t>
            </a: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 Also model statistics of diffusion data </a:t>
            </a: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[Behrens ‘03, Hagmann ‘03, Pajevic ‘03, Jones ‘05, Lazar ‘05, Parker ‘05, Friman</a:t>
            </a:r>
            <a:r>
              <a:rPr b="0" i="1" lang="en-US" sz="14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‘06, Jbabdi ‘07, …]</a:t>
            </a:r>
            <a:r>
              <a:rPr b="0" i="1" lang="en-US" sz="1600" spc="-1" strike="noStrike">
                <a:solidFill>
                  <a:srgbClr val="ffffff"/>
                </a:solidFill>
                <a:latin typeface="Georgi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00613-BF6A-4892-8837-A9DBEB4F1CF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rcRect l="14626" t="0" r="14074" b="0"/>
          <a:stretch/>
        </p:blipFill>
        <p:spPr>
          <a:xfrm>
            <a:off x="574560" y="1219320"/>
            <a:ext cx="3962520" cy="348444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14280" y="90360"/>
            <a:ext cx="3272040" cy="119124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99"/>
                </a:solidFill>
                <a:latin typeface="Georgia"/>
              </a:rPr>
              <a:t>Local vs. global</a:t>
            </a:r>
            <a:endParaRPr b="0" lang="en-US" sz="3600" spc="-1" strike="noStrike">
              <a:solidFill>
                <a:srgbClr val="99ff99"/>
              </a:solidFill>
              <a:latin typeface="Georgi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rcRect l="14868" t="0" r="14866" b="1349"/>
          <a:stretch/>
        </p:blipFill>
        <p:spPr>
          <a:xfrm>
            <a:off x="4613400" y="1219320"/>
            <a:ext cx="3962160" cy="348444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6594480" y="1295280"/>
            <a:ext cx="228600" cy="228600"/>
          </a:xfrm>
          <a:prstGeom prst="ellipse">
            <a:avLst/>
          </a:prstGeom>
          <a:solidFill>
            <a:srgbClr val="00ccff">
              <a:alpha val="71000"/>
            </a:srgbClr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696000" y="3894120"/>
            <a:ext cx="228600" cy="228600"/>
          </a:xfrm>
          <a:prstGeom prst="ellipse">
            <a:avLst/>
          </a:prstGeom>
          <a:solidFill>
            <a:srgbClr val="00ccff">
              <a:alpha val="71000"/>
            </a:srgbClr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631960" y="1306440"/>
            <a:ext cx="228600" cy="228600"/>
          </a:xfrm>
          <a:prstGeom prst="ellipse">
            <a:avLst/>
          </a:prstGeom>
          <a:solidFill>
            <a:srgbClr val="00ccff">
              <a:alpha val="71000"/>
            </a:srgbClr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rot="19800000">
            <a:off x="2752200" y="1534680"/>
            <a:ext cx="228600" cy="2192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ccff">
              <a:alpha val="71000"/>
            </a:srgbClr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rot="19800000">
            <a:off x="2885760" y="1773000"/>
            <a:ext cx="228600" cy="218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ccff">
              <a:alpha val="71000"/>
            </a:srgbClr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rot="20220000">
            <a:off x="3014280" y="1990440"/>
            <a:ext cx="228600" cy="218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ccff">
              <a:alpha val="71000"/>
            </a:srgbClr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709720" y="1384200"/>
            <a:ext cx="516240" cy="2616480"/>
          </a:xfrm>
          <a:custGeom>
            <a:avLst/>
            <a:gdLst/>
            <a:ahLst/>
            <a:rect l="l" t="t" r="r" b="b"/>
            <a:pathLst>
              <a:path w="365" h="1648">
                <a:moveTo>
                  <a:pt x="0" y="0"/>
                </a:moveTo>
                <a:cubicBezTo>
                  <a:pt x="114" y="148"/>
                  <a:pt x="228" y="296"/>
                  <a:pt x="288" y="432"/>
                </a:cubicBezTo>
                <a:cubicBezTo>
                  <a:pt x="348" y="568"/>
                  <a:pt x="365" y="675"/>
                  <a:pt x="360" y="816"/>
                </a:cubicBezTo>
                <a:cubicBezTo>
                  <a:pt x="355" y="957"/>
                  <a:pt x="307" y="1141"/>
                  <a:pt x="256" y="1280"/>
                </a:cubicBezTo>
                <a:cubicBezTo>
                  <a:pt x="205" y="1419"/>
                  <a:pt x="89" y="1587"/>
                  <a:pt x="56" y="1648"/>
                </a:cubicBezTo>
              </a:path>
            </a:pathLst>
          </a:custGeom>
          <a:noFill/>
          <a:ln cap="rnd" w="1908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47242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fb6a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b6a"/>
                </a:solidFill>
                <a:latin typeface="Georgia"/>
              </a:rPr>
              <a:t>Local:</a:t>
            </a: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 Uses local information to determine next step, errors propagate from areas of high uncertainty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marL="339480" indent="-339480">
              <a:spcBef>
                <a:spcPts val="601"/>
              </a:spcBef>
              <a:buClr>
                <a:srgbClr val="fffb6a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b6a"/>
                </a:solidFill>
                <a:latin typeface="Georgia"/>
              </a:rPr>
              <a:t>Global:</a:t>
            </a: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 Integrates information along the entire path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6576480" y="1208160"/>
            <a:ext cx="823320" cy="2970000"/>
            <a:chOff x="6576480" y="1208160"/>
            <a:chExt cx="823320" cy="2970000"/>
          </a:xfrm>
        </p:grpSpPr>
        <p:sp>
          <p:nvSpPr>
            <p:cNvPr id="130" name=""/>
            <p:cNvSpPr/>
            <p:nvPr/>
          </p:nvSpPr>
          <p:spPr>
            <a:xfrm>
              <a:off x="6705720" y="1371600"/>
              <a:ext cx="579240" cy="2616120"/>
            </a:xfrm>
            <a:custGeom>
              <a:avLst/>
              <a:gdLst/>
              <a:ahLst/>
              <a:rect l="l" t="t" r="r" b="b"/>
              <a:pathLst>
                <a:path w="365" h="1648">
                  <a:moveTo>
                    <a:pt x="0" y="0"/>
                  </a:moveTo>
                  <a:cubicBezTo>
                    <a:pt x="114" y="148"/>
                    <a:pt x="228" y="296"/>
                    <a:pt x="288" y="432"/>
                  </a:cubicBezTo>
                  <a:cubicBezTo>
                    <a:pt x="348" y="568"/>
                    <a:pt x="365" y="675"/>
                    <a:pt x="360" y="816"/>
                  </a:cubicBezTo>
                  <a:cubicBezTo>
                    <a:pt x="355" y="957"/>
                    <a:pt x="307" y="1141"/>
                    <a:pt x="256" y="1280"/>
                  </a:cubicBezTo>
                  <a:cubicBezTo>
                    <a:pt x="205" y="1419"/>
                    <a:pt x="89" y="1587"/>
                    <a:pt x="56" y="1648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033680" y="1905120"/>
              <a:ext cx="26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Webdings"/>
                  <a:ea typeface="Webdings"/>
                </a:rPr>
                <a:t>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135200" y="2490840"/>
              <a:ext cx="26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Webdings"/>
                  <a:ea typeface="Webdings"/>
                </a:rPr>
                <a:t>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982920" y="3213000"/>
              <a:ext cx="26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Webdings"/>
                  <a:ea typeface="Webdings"/>
                </a:rPr>
                <a:t>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671520" y="3809880"/>
              <a:ext cx="26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Webdings"/>
                  <a:ea typeface="Webdings"/>
                </a:rPr>
                <a:t>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76480" y="1208160"/>
              <a:ext cx="26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Webdings"/>
                  <a:ea typeface="Webdings"/>
                </a:rPr>
                <a:t>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91AFD-C2B5-4694-B12C-B7E5C65260E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660760" y="90360"/>
            <a:ext cx="3976560" cy="119124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99"/>
                </a:solidFill>
                <a:latin typeface="Georgia"/>
              </a:rPr>
              <a:t>Local tractography</a:t>
            </a:r>
            <a:endParaRPr b="0" lang="en-US" sz="3600" spc="-1" strike="noStrike">
              <a:solidFill>
                <a:srgbClr val="99ff99"/>
              </a:solidFill>
              <a:latin typeface="Georgi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14626" t="0" r="14074" b="0"/>
          <a:stretch/>
        </p:blipFill>
        <p:spPr>
          <a:xfrm>
            <a:off x="574560" y="1219320"/>
            <a:ext cx="3962520" cy="348444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2631960" y="1306440"/>
            <a:ext cx="228600" cy="228600"/>
          </a:xfrm>
          <a:prstGeom prst="ellipse">
            <a:avLst/>
          </a:prstGeom>
          <a:solidFill>
            <a:srgbClr val="00ccff">
              <a:alpha val="71000"/>
            </a:srgbClr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rot="19800000">
            <a:off x="2752200" y="1534680"/>
            <a:ext cx="228600" cy="2192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ccff">
              <a:alpha val="71000"/>
            </a:srgbClr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rot="19800000">
            <a:off x="2885760" y="1773000"/>
            <a:ext cx="228600" cy="218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ccff">
              <a:alpha val="71000"/>
            </a:srgbClr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rot="20220000">
            <a:off x="3014280" y="1990440"/>
            <a:ext cx="228600" cy="218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ccff">
              <a:alpha val="71000"/>
            </a:srgbClr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724280" y="1218960"/>
            <a:ext cx="37339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Define a </a:t>
            </a:r>
            <a:r>
              <a:rPr b="0" lang="en-US" sz="2400" spc="-1" strike="noStrike">
                <a:solidFill>
                  <a:srgbClr val="fffb6a"/>
                </a:solidFill>
                <a:latin typeface="Georgia"/>
              </a:rPr>
              <a:t>“seed”</a:t>
            </a: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 voxel or ROI to start the tract from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Trace the tract by small steps, determine “best” direction at each step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marL="325800" indent="-325800">
              <a:spcBef>
                <a:spcPts val="601"/>
              </a:spcBef>
              <a:buClr>
                <a:srgbClr val="fffb6a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b6a"/>
                </a:solidFill>
                <a:latin typeface="Georgia"/>
              </a:rPr>
              <a:t>Deterministic:</a:t>
            </a: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 Only one possible direction at each step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43" name=""/>
          <p:cNvSpPr/>
          <p:nvPr/>
        </p:nvSpPr>
        <p:spPr>
          <a:xfrm>
            <a:off x="685800" y="4876920"/>
            <a:ext cx="792468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100000"/>
              </a:lnSpc>
              <a:spcBef>
                <a:spcPts val="601"/>
              </a:spcBef>
              <a:buClr>
                <a:srgbClr val="fffb6a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b6a"/>
                </a:solidFill>
                <a:latin typeface="Georgia"/>
              </a:rPr>
              <a:t>Probabilistic:</a:t>
            </a: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 Many possible directions at each step (because of noise), some more likely than oth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-2314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709720" y="1384200"/>
            <a:ext cx="516240" cy="2616480"/>
          </a:xfrm>
          <a:custGeom>
            <a:avLst/>
            <a:gdLst/>
            <a:ahLst/>
            <a:rect l="l" t="t" r="r" b="b"/>
            <a:pathLst>
              <a:path w="365" h="1648">
                <a:moveTo>
                  <a:pt x="0" y="0"/>
                </a:moveTo>
                <a:cubicBezTo>
                  <a:pt x="114" y="148"/>
                  <a:pt x="228" y="296"/>
                  <a:pt x="288" y="432"/>
                </a:cubicBezTo>
                <a:cubicBezTo>
                  <a:pt x="348" y="568"/>
                  <a:pt x="365" y="675"/>
                  <a:pt x="360" y="816"/>
                </a:cubicBezTo>
                <a:cubicBezTo>
                  <a:pt x="355" y="957"/>
                  <a:pt x="307" y="1141"/>
                  <a:pt x="256" y="1280"/>
                </a:cubicBezTo>
                <a:cubicBezTo>
                  <a:pt x="205" y="1419"/>
                  <a:pt x="89" y="1587"/>
                  <a:pt x="56" y="1648"/>
                </a:cubicBezTo>
              </a:path>
            </a:pathLst>
          </a:custGeom>
          <a:noFill/>
          <a:ln cap="rnd" w="1908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0CA7B-77F2-4664-B115-24E0240CFE6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333600" y="90360"/>
            <a:ext cx="2632320" cy="119124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99"/>
                </a:solidFill>
                <a:latin typeface="Georgia"/>
              </a:rPr>
              <a:t>Some issues</a:t>
            </a:r>
            <a:endParaRPr b="0" lang="en-US" sz="3600" spc="-1" strike="noStrike">
              <a:solidFill>
                <a:srgbClr val="99ff99"/>
              </a:solidFill>
              <a:latin typeface="Georgi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rcRect l="14626" t="0" r="14074" b="0"/>
          <a:stretch/>
        </p:blipFill>
        <p:spPr>
          <a:xfrm>
            <a:off x="574560" y="1219320"/>
            <a:ext cx="3962520" cy="348444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2631960" y="1306440"/>
            <a:ext cx="228600" cy="228600"/>
          </a:xfrm>
          <a:prstGeom prst="ellipse">
            <a:avLst/>
          </a:prstGeom>
          <a:solidFill>
            <a:srgbClr val="00ccff">
              <a:alpha val="71000"/>
            </a:srgbClr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rot="19800000">
            <a:off x="2752200" y="1534680"/>
            <a:ext cx="228600" cy="2192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ccff">
              <a:alpha val="71000"/>
            </a:srgbClr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rot="19800000">
            <a:off x="2885760" y="1773000"/>
            <a:ext cx="228600" cy="218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ccff">
              <a:alpha val="71000"/>
            </a:srgbClr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rot="20220000">
            <a:off x="3014280" y="1990440"/>
            <a:ext cx="228600" cy="218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ccff">
              <a:alpha val="71000"/>
            </a:srgbClr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724280" y="1218960"/>
            <a:ext cx="37339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Not constrained to a connection of the seed to a target region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How do we isolate a specific connection? We can set a threshold, but how?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What if we want a non-dominant connection? We can define waypoints, but there’s no guarantee that we’ll reach them.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lvl="1" marL="705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52" name=""/>
          <p:cNvSpPr/>
          <p:nvPr/>
        </p:nvSpPr>
        <p:spPr>
          <a:xfrm>
            <a:off x="609480" y="5715000"/>
            <a:ext cx="7848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marL="263880" indent="-2638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Not symmetric between tract “start” and “end” poi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709720" y="1384200"/>
            <a:ext cx="516240" cy="2616480"/>
          </a:xfrm>
          <a:custGeom>
            <a:avLst/>
            <a:gdLst/>
            <a:ahLst/>
            <a:rect l="l" t="t" r="r" b="b"/>
            <a:pathLst>
              <a:path w="365" h="1648">
                <a:moveTo>
                  <a:pt x="0" y="0"/>
                </a:moveTo>
                <a:cubicBezTo>
                  <a:pt x="114" y="148"/>
                  <a:pt x="228" y="296"/>
                  <a:pt x="288" y="432"/>
                </a:cubicBezTo>
                <a:cubicBezTo>
                  <a:pt x="348" y="568"/>
                  <a:pt x="365" y="675"/>
                  <a:pt x="360" y="816"/>
                </a:cubicBezTo>
                <a:cubicBezTo>
                  <a:pt x="355" y="957"/>
                  <a:pt x="307" y="1141"/>
                  <a:pt x="256" y="1280"/>
                </a:cubicBezTo>
                <a:cubicBezTo>
                  <a:pt x="205" y="1419"/>
                  <a:pt x="89" y="1587"/>
                  <a:pt x="56" y="1648"/>
                </a:cubicBezTo>
              </a:path>
            </a:pathLst>
          </a:custGeom>
          <a:noFill/>
          <a:ln cap="rnd" w="1908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E745A-C574-424B-AB9E-A7F541F2BF5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523600" y="90360"/>
            <a:ext cx="4210200" cy="119124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99"/>
                </a:solidFill>
                <a:latin typeface="Georgia"/>
              </a:rPr>
              <a:t>Global tractography</a:t>
            </a:r>
            <a:endParaRPr b="0" lang="en-US" sz="3600" spc="-1" strike="noStrike">
              <a:solidFill>
                <a:srgbClr val="99ff99"/>
              </a:solidFill>
              <a:latin typeface="Georgi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14868" t="0" r="14866" b="1349"/>
          <a:stretch/>
        </p:blipFill>
        <p:spPr>
          <a:xfrm>
            <a:off x="584280" y="1219320"/>
            <a:ext cx="3962160" cy="348444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2565360" y="1295280"/>
            <a:ext cx="228600" cy="228600"/>
          </a:xfrm>
          <a:prstGeom prst="ellipse">
            <a:avLst/>
          </a:prstGeom>
          <a:solidFill>
            <a:srgbClr val="00ccff">
              <a:alpha val="71000"/>
            </a:srgbClr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666880" y="3894120"/>
            <a:ext cx="228600" cy="228600"/>
          </a:xfrm>
          <a:prstGeom prst="ellipse">
            <a:avLst/>
          </a:prstGeom>
          <a:solidFill>
            <a:srgbClr val="00ccff">
              <a:alpha val="71000"/>
            </a:srgbClr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78000" y="45864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723920" y="1193400"/>
            <a:ext cx="3886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Define a </a:t>
            </a:r>
            <a:r>
              <a:rPr b="0" lang="en-US" sz="2400" spc="-1" strike="noStrike">
                <a:solidFill>
                  <a:srgbClr val="fffb6a"/>
                </a:solidFill>
                <a:latin typeface="Georgia"/>
              </a:rPr>
              <a:t>“seed”</a:t>
            </a: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 voxel or ROI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Define a </a:t>
            </a:r>
            <a:r>
              <a:rPr b="0" lang="en-US" sz="2400" spc="-1" strike="noStrike">
                <a:solidFill>
                  <a:srgbClr val="fffb6a"/>
                </a:solidFill>
                <a:latin typeface="Georgia"/>
              </a:rPr>
              <a:t>“target”</a:t>
            </a: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 voxel or ROI 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601"/>
              </a:spcBef>
              <a:buClr>
                <a:srgbClr val="fffb6a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b6a"/>
                </a:solidFill>
                <a:latin typeface="Georgia"/>
              </a:rPr>
              <a:t>Deterministic:</a:t>
            </a: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 Only one possible path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601"/>
              </a:spcBef>
              <a:buClr>
                <a:srgbClr val="fffb6a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b6a"/>
                </a:solidFill>
                <a:latin typeface="Georgia"/>
              </a:rPr>
              <a:t>Probabilistic:</a:t>
            </a: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 Many possible paths, find their probability distribution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60" name=""/>
          <p:cNvSpPr/>
          <p:nvPr/>
        </p:nvSpPr>
        <p:spPr>
          <a:xfrm>
            <a:off x="609480" y="4876920"/>
            <a:ext cx="7848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Constrained to a specific conne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Symmetric between seed and target reg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2550600" y="1208160"/>
            <a:ext cx="823320" cy="2970000"/>
            <a:chOff x="2550600" y="1208160"/>
            <a:chExt cx="823320" cy="2970000"/>
          </a:xfrm>
        </p:grpSpPr>
        <p:sp>
          <p:nvSpPr>
            <p:cNvPr id="162" name=""/>
            <p:cNvSpPr/>
            <p:nvPr/>
          </p:nvSpPr>
          <p:spPr>
            <a:xfrm>
              <a:off x="2679840" y="1371600"/>
              <a:ext cx="579240" cy="2616120"/>
            </a:xfrm>
            <a:custGeom>
              <a:avLst/>
              <a:gdLst/>
              <a:ahLst/>
              <a:rect l="l" t="t" r="r" b="b"/>
              <a:pathLst>
                <a:path w="365" h="1648">
                  <a:moveTo>
                    <a:pt x="0" y="0"/>
                  </a:moveTo>
                  <a:cubicBezTo>
                    <a:pt x="114" y="148"/>
                    <a:pt x="228" y="296"/>
                    <a:pt x="288" y="432"/>
                  </a:cubicBezTo>
                  <a:cubicBezTo>
                    <a:pt x="348" y="568"/>
                    <a:pt x="365" y="675"/>
                    <a:pt x="360" y="816"/>
                  </a:cubicBezTo>
                  <a:cubicBezTo>
                    <a:pt x="355" y="957"/>
                    <a:pt x="307" y="1141"/>
                    <a:pt x="256" y="1280"/>
                  </a:cubicBezTo>
                  <a:cubicBezTo>
                    <a:pt x="205" y="1419"/>
                    <a:pt x="89" y="1587"/>
                    <a:pt x="56" y="1648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007800" y="1905120"/>
              <a:ext cx="26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Webdings"/>
                  <a:ea typeface="Webdings"/>
                </a:rPr>
                <a:t>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109320" y="2490840"/>
              <a:ext cx="26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Webdings"/>
                  <a:ea typeface="Webdings"/>
                </a:rPr>
                <a:t>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957040" y="3213000"/>
              <a:ext cx="26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Webdings"/>
                  <a:ea typeface="Webdings"/>
                </a:rPr>
                <a:t>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5640" y="3809880"/>
              <a:ext cx="26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Webdings"/>
                  <a:ea typeface="Webdings"/>
                </a:rPr>
                <a:t>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550600" y="1208160"/>
              <a:ext cx="26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Webdings"/>
                  <a:ea typeface="Webdings"/>
                </a:rPr>
                <a:t>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BF09F-A27A-4693-A9A1-E69043D2287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6T22:57:04Z</dcterms:created>
  <dc:creator>Anastasia Yendiki</dc:creator>
  <dc:description/>
  <dc:language>en-US</dc:language>
  <cp:lastModifiedBy>Anastasia Yendiki</cp:lastModifiedBy>
  <dcterms:modified xsi:type="dcterms:W3CDTF">2010-02-02T15:03:35Z</dcterms:modified>
  <cp:revision>26</cp:revision>
  <dc:subject/>
  <dc:title>Future directions: TRActs Constrained by UnderLying  Anatomy (TRACULA) </dc:title>
</cp:coreProperties>
</file>