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10288588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17640" y="696600"/>
            <a:ext cx="517680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C1B8-5134-4421-AA5C-2211C5B064A8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290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294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298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02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988600" y="36576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352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353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385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03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07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11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15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29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35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456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460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464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468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474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476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480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486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488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492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501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514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526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538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566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14760" y="109692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012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644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610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612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680" y="130788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5360" y="4342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69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4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688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689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97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81200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730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732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752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5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qdec-display.jpg"/>
          <p:cNvPicPr/>
          <p:nvPr/>
        </p:nvPicPr>
        <p:blipFill>
          <a:blip r:embed="rId1"/>
          <a:stretch/>
        </p:blipFill>
        <p:spPr>
          <a:xfrm>
            <a:off x="1104840" y="163440"/>
            <a:ext cx="72392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qdec-results2.jpg"/>
          <p:cNvPicPr/>
          <p:nvPr/>
        </p:nvPicPr>
        <p:blipFill>
          <a:blip r:embed="rId1"/>
          <a:stretch/>
        </p:blipFill>
        <p:spPr>
          <a:xfrm>
            <a:off x="952560" y="228600"/>
            <a:ext cx="85564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768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771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774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109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130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138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154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188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195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204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212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226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228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238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242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243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254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257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261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265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271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10-01-21T20:40:32Z</dcterms:modified>
  <cp:revision>921</cp:revision>
  <dc:subject/>
  <dc:title>Understanding Differential Responses in fMRI Through Linear Simulation</dc:title>
</cp:coreProperties>
</file>