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ACC7A2-B871-4528-BD1F-B064FB31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F3E457-BF01-411B-B299-BC6B448B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88F957-E392-4E7D-9343-77845803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353CF5-EBD3-4D7B-B094-8BD31E44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AFA832-2D3A-4382-B174-836D9992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04881A-79B1-4784-9035-367D8FA0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4D1D13-A188-4233-9F7E-72988F4DE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705-9833-4131-AB32-D7DA7155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217-651E-4242-BC66-E914861F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37C-6EE0-493B-9108-602D9681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DF5-1BEC-4D7F-9E72-FDA6EF02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734E9-78B7-4F52-AAE0-DD723B6367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CA05D-4854-408B-8269-692D002D4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21BF-F648-403A-95D5-C3CA11C40E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52E80-40EE-476D-9B0A-9266C92EC3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67A34-22DE-4123-8F75-9DC4E499B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5A9C5-165D-475D-99EE-663E2DB89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2A6AD-A539-4A41-BAD6-719D06822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089-93F2-4A0C-8C60-36590BD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158D1-DBDF-4E0F-AEC1-0C66882F22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3CF4-E4AA-41A5-BE0E-E4D12B622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CF01-B154-483E-8229-2FC18FDC6B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376BA-23B8-4421-9294-9BB81CC5E1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3B20-F545-4145-BE9B-173FAEC48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1C8-25EF-4955-890F-2283AC38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55E-BBE5-45AE-81B7-0D3C3402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2C8-E9CB-4428-8E0C-20F98B1A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777-48B0-409B-BECA-39815C4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BBD-D8FA-4D42-B8A5-AC93B1C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8EC-474A-4EA5-8C33-B23AFD0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05E-8B88-44FB-9CB7-531F2BD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713-55B5-4765-A8B3-9B1C8BA18884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1F4-9E91-4BCC-8B82-2A8D59355E1A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–subject bert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bold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it-fsl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reg register.da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subjec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contr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Initialize with FSL-FLI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81B3-5DD4-472E-B8ED-BAFA385481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kregister2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reg register.dat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surf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isplay white 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532B4-020E-413D-A49F-C3C61D1F2A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B62A-98B3-4F53-A512-17B9FA4D9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DC365-24F8-4255-B5DE-3C3559825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31B1A-1BED-40AE-83FE-FCA8BC789A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66B-27A7-4218-9BE4-69F807240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E0D-6C6D-41C4-89A2-66F729D65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81763-AFBA-4B83-8DB6-A31DAD5B4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0CFE6-F39E-44FB-BC48-0864C092C0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90720"/>
            <a:ext cx="7925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sual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WM Parcel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895-EBDF-49CD-94AF-CB0889972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BD4C2-15CE-4D63-8BF5-5B1F5E9D1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71560"/>
            <a:ext cx="8915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–aparc+ase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sig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2 –fmax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sig.nii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ignificance map in native functional space. could have been z, t, or F map as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register.dat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thresh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lower threshold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max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aturation threshold.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aparc+aseg – display aparc+aseg.mgz. Can load this from the interface too</a:t>
            </a:r>
            <a:r>
              <a:rPr b="0" lang="en-US" sz="2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D8A5-DA0F-4B94-AB6B-A7A17E40B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67080" y="762120"/>
            <a:ext cx="3916080" cy="3352680"/>
            <a:chOff x="4267080" y="762120"/>
            <a:chExt cx="391608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5276" t="10173" r="5018" b="15256"/>
            <a:stretch/>
          </p:blipFill>
          <p:spPr>
            <a:xfrm>
              <a:off x="4267080" y="762120"/>
              <a:ext cx="38862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V="1">
              <a:off x="6705360" y="152388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9440" y="12193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5400" y="1219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152388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3809880"/>
            <a:ext cx="2895480" cy="2362320"/>
            <a:chOff x="533520" y="3809880"/>
            <a:chExt cx="2895480" cy="2362320"/>
          </a:xfrm>
        </p:grpSpPr>
        <p:sp>
          <p:nvSpPr>
            <p:cNvPr id="277" name=""/>
            <p:cNvSpPr/>
            <p:nvPr/>
          </p:nvSpPr>
          <p:spPr>
            <a:xfrm>
              <a:off x="533520" y="3809880"/>
              <a:ext cx="2514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White/G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Half 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541008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rojection 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--projfrac 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rcRect l="10530" t="39430" r="2629" b="19871"/>
          <a:stretch/>
        </p:blipFill>
        <p:spPr>
          <a:xfrm>
            <a:off x="3733920" y="4191120"/>
            <a:ext cx="5029200" cy="2438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1318" t="20352" r="2629" b="16056"/>
          <a:stretch/>
        </p:blipFill>
        <p:spPr>
          <a:xfrm>
            <a:off x="304920" y="990720"/>
            <a:ext cx="3429000" cy="23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V="1">
            <a:off x="6151680" y="2361960"/>
            <a:ext cx="457200" cy="2819160"/>
          </a:xfrm>
          <a:prstGeom prst="line">
            <a:avLst/>
          </a:prstGeom>
          <a:ln w="38160">
            <a:solidFill>
              <a:srgbClr val="f10d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1262" t="21674" r="1262" b="19841"/>
          <a:stretch/>
        </p:blipFill>
        <p:spPr>
          <a:xfrm>
            <a:off x="4190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rcRect l="1262" t="21674" r="1262" b="19841"/>
          <a:stretch/>
        </p:blipFill>
        <p:spPr>
          <a:xfrm>
            <a:off x="33908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1262" t="21674" r="1262" b="19841"/>
          <a:stretch/>
        </p:blipFill>
        <p:spPr>
          <a:xfrm>
            <a:off x="632628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rcRect l="1262" t="21674" r="1262" b="19841"/>
          <a:stretch/>
        </p:blipFill>
        <p:spPr>
          <a:xfrm>
            <a:off x="4190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1262" t="21674" r="1262" b="19841"/>
          <a:stretch/>
        </p:blipFill>
        <p:spPr>
          <a:xfrm>
            <a:off x="33908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1262" t="21674" r="1262" b="19841"/>
          <a:stretch/>
        </p:blipFill>
        <p:spPr>
          <a:xfrm>
            <a:off x="632448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rcRect l="1262" t="21674" r="1262" b="19841"/>
          <a:stretch/>
        </p:blipFill>
        <p:spPr>
          <a:xfrm>
            <a:off x="419040" y="5084640"/>
            <a:ext cx="2594160" cy="1609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rcRect l="1262" t="21674" r="1262" b="19841"/>
          <a:stretch/>
        </p:blipFill>
        <p:spPr>
          <a:xfrm>
            <a:off x="3392640" y="50846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rcRect l="1262" t="21674" r="1262" b="19841"/>
          <a:stretch/>
        </p:blipFill>
        <p:spPr>
          <a:xfrm>
            <a:off x="6326280" y="5084640"/>
            <a:ext cx="259236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80880" y="59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204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5904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0240" y="59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 (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6360" y="466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0 (p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40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99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9160" y="-3816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: Projection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31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3341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ksurfer subject lh inflated -aparc   –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20" y="121932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27DCF-2677-471A-8BAB-37A42C7B31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4AB-A078-4CCA-9E0C-0ABFC7486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1371600"/>
            <a:ext cx="56386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mov ces.nii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ces.anat.m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6440" y="4343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6200" y="1395360"/>
            <a:ext cx="5375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RF map in function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Nearest neighbor interp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pecify anatomical output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file in anatomic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2F077-3FF9-4216-8C3A-58B70E6556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2952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99D8B-DF53-4937-B3E6-7C686911BC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6440" y="434196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3716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mov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nii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anat.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84CDC-4898-4C09-8816-2A4B89CEC9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29528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27672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5A6A-96D1-4964-862F-D92D62C54D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1371600"/>
            <a:ext cx="830592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s_preproc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hemi l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lh.fsaverage.ces.mg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1/ces.nii subject1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2/ces.nii subject2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3/ces.nii subject3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s_fwhm --i lh.fsaverage.ces.mgh --fwhm 10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lh.fsaverage.ces.sm10.mgh --corte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glmfit --surf fsaverage lh –cortex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y lh.fsaverage.ces.sm10.mgh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6BAC-8F1E-498F-813F-C3299B6CCB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13716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ew FA, etc, on subject’s anatomical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tensity ROI Study: Average FA, etc,  inside of White Matter Parcellation ROIs (wmparc.mg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C0DB9-2AE2-4B81-939E-6069C7BDFF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44280" y="1143000"/>
            <a:ext cx="967716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otion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Eddy Current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Correction (MC Templat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low-b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t Tensor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aps: FA (0-1), ADC, Eigenvectors, et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EBFB6-01F1-4AB9-98B3-DD5C528004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371600"/>
            <a:ext cx="830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A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wmaparc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fa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.1 –fmax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3352680"/>
            <a:ext cx="8305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ADC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wmaparc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adc.nii –reg register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052F1-9F2F-4E57-BAFE-D2137422F0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FA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fa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fa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wmparc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fa.anat.mgh --sum fa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A map in DTI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E011D-0475-4A34-9763-7F5DD905E4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1A810-8E9E-4FDE-AA6A-0E6929992C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C43-599C-4451-BB1E-A00988520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143000"/>
            <a:ext cx="8534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dividual Analys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78502-B96A-4BFA-9715-B3BEF21082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5FB-A855-47D9-8C60-1A1E9DAA75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9629F-49F8-4D1F-8612-0D858F720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F20F4-6C44-4212-B088-0CE43D9FF1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08B0-1B11-4DC0-8667-09D97D8A47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2025F-6279-424E-BF2A-AE624814AE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greve</cp:lastModifiedBy>
  <dcterms:modified xsi:type="dcterms:W3CDTF">2010-02-02T20:47:28Z</dcterms:modified>
  <cp:revision>850</cp:revision>
  <dc:subject/>
  <dc:title>Multimodal Integration in FreeSurfer</dc:title>
</cp:coreProperties>
</file>