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23A7A-943C-4FCF-9437-993B91423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richer information in the data. One way to represent it is to draw streamlines / tractography relying on direction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ool to manually isolate certain fi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s DTI reconstruction from the DWI in the input dicom file. Gets gradient directions and bvalues from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dicom file see $FREESURFER_HOME/diffusion/mgh-dti-seqpack/READ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all other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ncoded by diffusion matric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TI if Gaussian assumption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nterest: anisotropy and diffus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: fiber density, axonal diameter, myeleination in 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: magnitude of diffusion (of water molecules) within cerebral tissue. A low value for ADC indicates that the cortical white matter tracts are organized (good), while a high value for ADC indicates that these tracts are disorganized (b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: This is the degree to which diffusion in neighboring voxels has a common orientation (Pfefferbaum et al. 20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This measure is similar to FA but views coherence on a larger spatial, voxel–to–voxel scale (in contrast with FA’s intravoxel sca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9311-19B0-4CD7-B519-CD061963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2C6B-B14C-4CF7-8E69-A2D6F8E9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7BB0-FF71-4366-B94C-7702349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C447-80FF-439F-8825-B8D9C386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BBC9-7786-4A6F-9A06-9D9BC505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422C-7CD0-40F9-BF7E-D1D4BDF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B3A-2791-4C25-8342-D5620BD9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CA7-DE16-4728-B064-687970C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5B72-7492-4194-A88E-AC5BE7D3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3C1E-B553-4CD2-B9B5-2968D95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EBED-6EA0-45E4-9356-2643179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02FD-CC46-4A5B-9BB6-8A0D471C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670E-E7BF-47ED-994D-CC4731E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05BB-7A35-42F3-9C77-9DCF7D0D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EAA4-F8AD-46D9-8C4C-B501DB9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BEB4-3B49-42E0-A59A-AE588547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3B0-0C64-4BB8-891D-CF9B0331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A80C-448D-4C5E-90EA-EA1E0D8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6975-8A5A-4085-909C-939DD5D9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42B4-3B80-49DD-970E-C75E7BF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E2C6-7074-42AE-A53B-1F71444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6B0C-7973-4F52-8CBB-FB57590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DEAA-059F-43DB-B1B3-614FB8B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B771-F950-4472-A965-B3FB291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267-8D37-4C2F-828A-5F4E7DA7D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67F-3348-457B-915F-805339FF4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roduction to Diffusion MRI proces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lla Z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tography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vis and Diffusion Toolki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trackvis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F945-4C1C-492F-A9FB-F46434AEF2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6840" y="60948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24280" y="3710160"/>
            <a:ext cx="4268880" cy="2614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4E4D-93DF-4D16-9F24-2FB6D48657A9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268880" cy="2614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 on (color) F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B7EA-C250-45AE-BD0F-4243B334E12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A8FB-0BA9-42E2-AEAB-1D8116917E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Convert dicom to nifti (creates dwi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Eddy current and motion correction using FSLs eddy_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dwi-ec.nii. Can take 1-2 ho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TI GLM Fit and tensor construction. Includes creation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sor.nii -- maps of the tensor (9 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als.nii -- maps of the eigen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ec?.nii -- maps of the eigenv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b.nii -- Low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als.dat -- b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ecs.dat -- 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creates glm-related 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.nii - regression 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es.nii - residual error (log of 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var.nii - residual variance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td.nii - residual stddev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es.nii - residual error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var.nii - residual variance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gistration of lowb to same-subject anatomical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SLs flirt (creates mask.nii and register.d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Map FA to talairach space (creates fa-tal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us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_recon --i 6-1025.dcm --s M87102113 --o d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080E-EE38-4398-8822-04124485118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heck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register2 --mov dti/lowb.nii --reg dti/register.dat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urf orig --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the subject's an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 M87102113 orig.mgz -overlay dti/fa.nii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overlay-reg dti/register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fs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fsaverage orig.mgz -overlay dti/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roup/Higher level GLM analy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oncatenate fa from individuals into on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 Make sure the order agrees with the fsgd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fa-tal.nii --o group-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reate a mas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mask-tal.nii --o group-masksum-tal.nii --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binarize --i group-masksum-tal.nii --min .999 --o group-mask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LM 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glmfit --y group-fa-tal.nii --mask group-mask-tal.nii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sgd your.fsgd --C contrast --glm groupana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A449-69EF-4C82-8B95-BCA3419821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i inv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s subjec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o output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t_recon --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t_recon --i 6-1025.dcm --s M111 --o d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B8F2-4536-4068-8E50-533CAD1C0B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cess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ddy current and mo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ddy_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ensor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or.nii, eigvals.nii. eigvec?.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scalar maps: adc, fa, ra, vr, i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Registration to anatomic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i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#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lairach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5DC1-0175-4EFA-8269-9AC1BF4947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 bvals bv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-dump infodump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fo dump created by unpacksdcmdir or dcmun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cref 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P as 0-based reference time points for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ff eddy/motion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gister to subject or resample to talair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sample FA to talairch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d subjects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subjects dir (default env SUBJECTS_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res-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resdidual error (dwires and 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PCA/SVD analysis on eres (saves in pca-eres 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rune_thr t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reshold for masking (default is FLT_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lots of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version of this scrip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inous bit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6B45-428E-4A6B-8F7F-C8E269B597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ffu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9120" y="6095880"/>
            <a:ext cx="61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niaaa.nih.gov/publications/arh27-2/146-15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040" y="2438280"/>
            <a:ext cx="857412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26C8-062B-4D55-AD39-57281323C3E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calar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: fractional anisotrop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ber density, axonal diameter, myelination in W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: relativ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: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C: inter-voxel correl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usion orientation agreement in neighb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: apparent diffus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 of diffusion; low valu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ganized tr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: rad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: ax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486400" y="1854360"/>
                <a:ext cx="2413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3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rad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324480" y="5099040"/>
                <a:ext cx="297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4618080"/>
                <a:ext cx="1257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38680" y="4084560"/>
                <a:ext cx="2079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43600" y="2514600"/>
                <a:ext cx="13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rad>
                    <m:r>
                      <m:t xml:space="preserve">/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43600" y="2994120"/>
                <a:ext cx="1349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8A13-04ED-4758-9E80-BC8A19E07E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8924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031840" y="3962520"/>
            <a:ext cx="5054760" cy="28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04C7-70AE-4491-8A2F-C24B435BBE7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4233-06B3-432F-A39F-D547463CF053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4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AA5F-A4FC-4B4C-90AE-8F46048FFF6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54:58Z</dcterms:created>
  <dc:creator>Lilla Zollei</dc:creator>
  <dc:description/>
  <dc:language>en-US</dc:language>
  <cp:lastModifiedBy>Lilla Zollei</cp:lastModifiedBy>
  <dcterms:modified xsi:type="dcterms:W3CDTF">2010-02-01T06:26:17Z</dcterms:modified>
  <cp:revision>47</cp:revision>
  <dc:subject/>
  <dc:title>Slide 1</dc:title>
</cp:coreProperties>
</file>