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3.xml.rels" ContentType="application/vnd.openxmlformats-package.relationships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10288588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933480" y="440352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901440" y="700200"/>
            <a:ext cx="519588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01800" y="700200"/>
            <a:ext cx="5195880" cy="346392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33480" y="4403520"/>
            <a:ext cx="5130720" cy="41734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0001160" y="658332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4E4A-E877-4599-A66A-824253111FC5}" type="slidenum"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1120" y="2130120"/>
            <a:ext cx="874404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2.jpeg"/><Relationship Id="rId4" Type="http://schemas.openxmlformats.org/officeDocument/2006/relationships/image" Target="../media/image11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380520"/>
            <a:ext cx="9086760" cy="207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Group Analysis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n FreeSurfer </a:t>
            </a:r>
            <a:br>
              <a:rPr sz="4000"/>
            </a:b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857680" y="5486400"/>
            <a:ext cx="4809960" cy="810720"/>
            <a:chOff x="2857680" y="5486400"/>
            <a:chExt cx="4809960" cy="81072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3667320" y="5486400"/>
              <a:ext cx="400032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2857680" y="5495760"/>
              <a:ext cx="749160" cy="80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772080" y="1752480"/>
            <a:ext cx="27399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4728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Intersubject Registration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9880" y="6269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1680" y="1752480"/>
            <a:ext cx="9448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Gray Matter-to-Gray Matter (it’s all gray matter!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Gyrus-to-Gyrus and Sulcus-to-Sulcus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ome minor folding patterns won’t line up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ully automated, no landmarking neede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tlas registration is probabilistic, most variable regions get less weight.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one automatically in recon-all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47280" y="-24660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LM Theory: Design Matrix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552760" y="1143000"/>
            <a:ext cx="5003280" cy="2990880"/>
            <a:chOff x="2552760" y="1143000"/>
            <a:chExt cx="5003280" cy="2990880"/>
          </a:xfrm>
        </p:grpSpPr>
        <p:sp>
          <p:nvSpPr>
            <p:cNvPr id="198" name=""/>
            <p:cNvSpPr/>
            <p:nvPr/>
          </p:nvSpPr>
          <p:spPr>
            <a:xfrm>
              <a:off x="2629440" y="1400040"/>
              <a:ext cx="71568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3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3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74960" y="1143000"/>
              <a:ext cx="2809800" cy="28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G1    G2       G1*Age    G2*Ag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 0       20       0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 0       25       0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 0       30       0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0   1         0     18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0   1         0     23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0   1         0     35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2552760" y="1460520"/>
              <a:ext cx="74520" cy="2666160"/>
              <a:chOff x="2552760" y="1460520"/>
              <a:chExt cx="74520" cy="2666160"/>
            </a:xfrm>
          </p:grpSpPr>
          <p:sp>
            <p:nvSpPr>
              <p:cNvPr id="201" name=""/>
              <p:cNvSpPr/>
              <p:nvPr/>
            </p:nvSpPr>
            <p:spPr>
              <a:xfrm>
                <a:off x="2569680" y="1460520"/>
                <a:ext cx="0" cy="2666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552760" y="412668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552760" y="14605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3771720" y="1460520"/>
              <a:ext cx="74520" cy="2666160"/>
              <a:chOff x="3771720" y="1460520"/>
              <a:chExt cx="74520" cy="2666160"/>
            </a:xfrm>
          </p:grpSpPr>
          <p:sp>
            <p:nvSpPr>
              <p:cNvPr id="205" name=""/>
              <p:cNvSpPr/>
              <p:nvPr/>
            </p:nvSpPr>
            <p:spPr>
              <a:xfrm>
                <a:off x="3788640" y="1460520"/>
                <a:ext cx="0" cy="2666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771720" y="412668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771720" y="14605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6896160" y="1476360"/>
              <a:ext cx="659880" cy="1800360"/>
              <a:chOff x="6896160" y="1476360"/>
              <a:chExt cx="659880" cy="1800360"/>
            </a:xfrm>
          </p:grpSpPr>
          <p:sp>
            <p:nvSpPr>
              <p:cNvPr id="209" name=""/>
              <p:cNvSpPr/>
              <p:nvPr/>
            </p:nvSpPr>
            <p:spPr>
              <a:xfrm>
                <a:off x="6921000" y="1476360"/>
                <a:ext cx="635040" cy="180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1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2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1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2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6896160" y="1530360"/>
                <a:ext cx="74520" cy="1698120"/>
                <a:chOff x="6896160" y="1530360"/>
                <a:chExt cx="74520" cy="16981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913080" y="1530360"/>
                  <a:ext cx="0" cy="16981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896160" y="32284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896160" y="153036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7430400" y="1530720"/>
                <a:ext cx="74520" cy="1698120"/>
                <a:chOff x="7430400" y="1530720"/>
                <a:chExt cx="74520" cy="1698120"/>
              </a:xfrm>
            </p:grpSpPr>
            <p:sp>
              <p:nvSpPr>
                <p:cNvPr id="215" name=""/>
                <p:cNvSpPr/>
                <p:nvPr/>
              </p:nvSpPr>
              <p:spPr>
                <a:xfrm flipV="1">
                  <a:off x="7488000" y="1530720"/>
                  <a:ext cx="0" cy="16981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H="1">
                  <a:off x="7430400" y="15307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7430400" y="322884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8" name=""/>
            <p:cNvGrpSpPr/>
            <p:nvPr/>
          </p:nvGrpSpPr>
          <p:grpSpPr>
            <a:xfrm>
              <a:off x="6297120" y="1461240"/>
              <a:ext cx="74520" cy="2666160"/>
              <a:chOff x="6297120" y="1461240"/>
              <a:chExt cx="74520" cy="2666160"/>
            </a:xfrm>
          </p:grpSpPr>
          <p:sp>
            <p:nvSpPr>
              <p:cNvPr id="219" name=""/>
              <p:cNvSpPr/>
              <p:nvPr/>
            </p:nvSpPr>
            <p:spPr>
              <a:xfrm flipV="1">
                <a:off x="6354720" y="1461240"/>
                <a:ext cx="0" cy="2666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6297120" y="14612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6297120" y="41274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3241440" y="1461240"/>
              <a:ext cx="76320" cy="2672640"/>
              <a:chOff x="3241440" y="1461240"/>
              <a:chExt cx="76320" cy="2672640"/>
            </a:xfrm>
          </p:grpSpPr>
          <p:sp>
            <p:nvSpPr>
              <p:cNvPr id="223" name=""/>
              <p:cNvSpPr/>
              <p:nvPr/>
            </p:nvSpPr>
            <p:spPr>
              <a:xfrm flipV="1">
                <a:off x="3300120" y="1461240"/>
                <a:ext cx="0" cy="2672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3241440" y="146124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3241440" y="413388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3294720" y="251136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69120" y="118728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631600" y="4167360"/>
            <a:ext cx="73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    Design Matrix       Regression Coefficient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07200" y="4805280"/>
            <a:ext cx="272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6000" spc="-1" strike="noStrike">
                <a:solidFill>
                  <a:srgbClr val="00ff00"/>
                </a:solidFill>
                <a:latin typeface="Symbol"/>
                <a:ea typeface="Symbol"/>
              </a:rPr>
              <a:t></a:t>
            </a:r>
            <a:endParaRPr b="0" lang="en-US" sz="6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47280" y="-24660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LM Theory: Contras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552760" y="1143000"/>
            <a:ext cx="5003280" cy="2990880"/>
            <a:chOff x="2552760" y="1143000"/>
            <a:chExt cx="5003280" cy="2990880"/>
          </a:xfrm>
        </p:grpSpPr>
        <p:sp>
          <p:nvSpPr>
            <p:cNvPr id="232" name=""/>
            <p:cNvSpPr/>
            <p:nvPr/>
          </p:nvSpPr>
          <p:spPr>
            <a:xfrm>
              <a:off x="2629440" y="1400040"/>
              <a:ext cx="71568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13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1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2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y23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74960" y="1143000"/>
              <a:ext cx="2809800" cy="28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G1    G2       G1*Age    G2*Ag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 0       20       0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 0       25       0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1   0       30       0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0   1         0     18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0   1         0     23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0   1         0     35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2552760" y="1460520"/>
              <a:ext cx="74520" cy="2666160"/>
              <a:chOff x="2552760" y="1460520"/>
              <a:chExt cx="74520" cy="2666160"/>
            </a:xfrm>
          </p:grpSpPr>
          <p:sp>
            <p:nvSpPr>
              <p:cNvPr id="235" name=""/>
              <p:cNvSpPr/>
              <p:nvPr/>
            </p:nvSpPr>
            <p:spPr>
              <a:xfrm>
                <a:off x="2569680" y="1460520"/>
                <a:ext cx="0" cy="2666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552760" y="412668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552760" y="14605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3771720" y="1460520"/>
              <a:ext cx="74520" cy="2666160"/>
              <a:chOff x="3771720" y="1460520"/>
              <a:chExt cx="74520" cy="2666160"/>
            </a:xfrm>
          </p:grpSpPr>
          <p:sp>
            <p:nvSpPr>
              <p:cNvPr id="239" name=""/>
              <p:cNvSpPr/>
              <p:nvPr/>
            </p:nvSpPr>
            <p:spPr>
              <a:xfrm>
                <a:off x="3788640" y="1460520"/>
                <a:ext cx="0" cy="2666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771720" y="412668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771720" y="146052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6896160" y="1476360"/>
              <a:ext cx="659880" cy="1800360"/>
              <a:chOff x="6896160" y="1476360"/>
              <a:chExt cx="659880" cy="1800360"/>
            </a:xfrm>
          </p:grpSpPr>
          <p:sp>
            <p:nvSpPr>
              <p:cNvPr id="243" name=""/>
              <p:cNvSpPr/>
              <p:nvPr/>
            </p:nvSpPr>
            <p:spPr>
              <a:xfrm>
                <a:off x="6921000" y="1476360"/>
                <a:ext cx="635040" cy="180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1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b2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1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ff00"/>
                    </a:solidFill>
                    <a:latin typeface="Times New Roman"/>
                  </a:rPr>
                  <a:t>m2</a:t>
                </a:r>
                <a:endParaRPr b="0" lang="en-US" sz="28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6896160" y="1530360"/>
                <a:ext cx="74520" cy="1698120"/>
                <a:chOff x="6896160" y="1530360"/>
                <a:chExt cx="74520" cy="16981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6913080" y="1530360"/>
                  <a:ext cx="0" cy="16981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896160" y="32284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896160" y="153036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7430400" y="1530720"/>
                <a:ext cx="74520" cy="1698120"/>
                <a:chOff x="7430400" y="1530720"/>
                <a:chExt cx="74520" cy="1698120"/>
              </a:xfrm>
            </p:grpSpPr>
            <p:sp>
              <p:nvSpPr>
                <p:cNvPr id="249" name=""/>
                <p:cNvSpPr/>
                <p:nvPr/>
              </p:nvSpPr>
              <p:spPr>
                <a:xfrm flipV="1">
                  <a:off x="7488000" y="1530720"/>
                  <a:ext cx="0" cy="16981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H="1">
                  <a:off x="7430400" y="15307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7430400" y="322884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2" name=""/>
            <p:cNvGrpSpPr/>
            <p:nvPr/>
          </p:nvGrpSpPr>
          <p:grpSpPr>
            <a:xfrm>
              <a:off x="6297120" y="1461240"/>
              <a:ext cx="74520" cy="2666160"/>
              <a:chOff x="6297120" y="1461240"/>
              <a:chExt cx="74520" cy="2666160"/>
            </a:xfrm>
          </p:grpSpPr>
          <p:sp>
            <p:nvSpPr>
              <p:cNvPr id="253" name=""/>
              <p:cNvSpPr/>
              <p:nvPr/>
            </p:nvSpPr>
            <p:spPr>
              <a:xfrm flipV="1">
                <a:off x="6354720" y="1461240"/>
                <a:ext cx="0" cy="2666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6297120" y="146124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6297120" y="4127400"/>
                <a:ext cx="745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3241440" y="1461240"/>
              <a:ext cx="76320" cy="2672640"/>
              <a:chOff x="3241440" y="1461240"/>
              <a:chExt cx="76320" cy="2672640"/>
            </a:xfrm>
          </p:grpSpPr>
          <p:sp>
            <p:nvSpPr>
              <p:cNvPr id="257" name=""/>
              <p:cNvSpPr/>
              <p:nvPr/>
            </p:nvSpPr>
            <p:spPr>
              <a:xfrm flipV="1">
                <a:off x="3300120" y="1461240"/>
                <a:ext cx="0" cy="2672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3241440" y="146124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3241440" y="4133880"/>
                <a:ext cx="7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3294720" y="251136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369120" y="118728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147760" y="4343400"/>
            <a:ext cx="7253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Grou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= [1 -1      0    0]   Group diff=0?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06800" y="5181480"/>
            <a:ext cx="7385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Ag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=   [0  0    0.5 0.5]  Mean slope=0?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80880" y="5943600"/>
            <a:ext cx="8852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GroupXAg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=   [0  0    +1   -1] Group/Age InterX?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47280" y="-3052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ertex-wise Analysis and Inferenc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5720" y="914400"/>
            <a:ext cx="2713680" cy="17398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 = X*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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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)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=C*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152960" y="914400"/>
                <a:ext cx="449568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∗</m:t>
                        </m:r>
                        <m:r>
                          <m:t xml:space="preserve">β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C</m:t>
                            </m:r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783360" y="2649600"/>
            <a:ext cx="672624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p-value/significan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alue between 0 and 1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oser to 0 means more significan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FreeSurfer stores p-values as –log10(p):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0.1=10</a:t>
            </a:r>
            <a:r>
              <a:rPr b="0" lang="en-US" sz="3200" spc="-1" strike="noStrike" baseline="30000">
                <a:solidFill>
                  <a:srgbClr val="fafd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=1,  0.01=10</a:t>
            </a:r>
            <a:r>
              <a:rPr b="0" lang="en-US" sz="3200" spc="-1" strike="noStrike" baseline="30000">
                <a:solidFill>
                  <a:srgbClr val="fafd00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=2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.mgh fil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gned by sign of </a:t>
            </a:r>
            <a:r>
              <a:rPr b="0" lang="en-US" sz="4000" spc="-1" strike="noStrike">
                <a:solidFill>
                  <a:srgbClr val="fafd00"/>
                </a:solidFill>
                <a:latin typeface="Symbol"/>
                <a:ea typeface="Symbol"/>
              </a:rPr>
              <a:t>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-value is for an unsigned tes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012920" y="533520"/>
            <a:ext cx="1394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Need: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09760" y="1371600"/>
            <a:ext cx="70102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X (Design Matrix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 (Contrast Matrix or Matrices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y (Data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612520" y="533520"/>
            <a:ext cx="42033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pecifying X and C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409760" y="1371600"/>
            <a:ext cx="7010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anually create X – text edito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anually create C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SGD file – text edito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reeSurfer creates X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anually create C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QDEC – spread sheet, etc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reeSurfer creates X and C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FreeSurfer Group Descriptor (FSGD) Fil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7640" y="1600200"/>
            <a:ext cx="8458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mple text file (ascii, clear text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List of all subjects in the study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ccompanying demographic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47280" y="-2066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SGD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181160" y="990720"/>
            <a:ext cx="6705720" cy="28191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137160" anchor="t">
            <a:normAutofit fontScale="95000"/>
          </a:bodyPr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GroupDescriptorFile 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Ma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Fema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ariables                         Age  Weight   IQ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          10      100   1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          15      150   15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Female      20      200   2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Female      25      250   25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81160" y="4191120"/>
            <a:ext cx="76201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One Discrete Factor (Gender) with Two Levels (M&amp;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hree Continuous Variables: Age, Weight, IQ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2360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SGD </a:t>
            </a:r>
            <a:r>
              <a:rPr b="0" lang="en-US" sz="44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X (Automatic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658332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afd00"/>
                </a:solidFill>
                <a:latin typeface="Times New Roman"/>
              </a:rPr>
              <a:t>DO</a:t>
            </a:r>
            <a:r>
              <a:rPr b="0" lang="pl-PL" sz="1200" spc="-1" strike="noStrike">
                <a:solidFill>
                  <a:srgbClr val="fd1414"/>
                </a:solidFill>
                <a:latin typeface="Times New Roman"/>
              </a:rPr>
              <a:t>D</a:t>
            </a:r>
            <a:r>
              <a:rPr b="0" lang="pl-PL" sz="1200" spc="-1" strike="noStrike">
                <a:solidFill>
                  <a:srgbClr val="fafd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 – Different Offset, </a:t>
            </a:r>
            <a:r>
              <a:rPr b="0" lang="en-US" sz="1200" spc="-1" strike="noStrike">
                <a:solidFill>
                  <a:srgbClr val="fd1414"/>
                </a:solidFill>
                <a:latin typeface="Times New Roman"/>
              </a:rPr>
              <a:t>Different</a:t>
            </a:r>
            <a:r>
              <a:rPr b="0" lang="en-US" sz="1200" spc="-1" strike="noStrike">
                <a:solidFill>
                  <a:srgbClr val="fafd00"/>
                </a:solidFill>
                <a:latin typeface="Times New Roman"/>
              </a:rPr>
              <a:t> Slope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99760" y="4114800"/>
            <a:ext cx="72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      [-1 1    0     0         0       0           0         0]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 rot="5400000">
            <a:off x="3070800" y="4434120"/>
            <a:ext cx="4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1414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92840" y="4890960"/>
            <a:ext cx="60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Tests for the difference in </a:t>
            </a:r>
            <a:r>
              <a:rPr b="0" lang="en-US" sz="2000" spc="-1" strike="noStrike" u="sng">
                <a:solidFill>
                  <a:srgbClr val="fd1414"/>
                </a:solidFill>
                <a:uFillTx/>
                <a:latin typeface="Times New Roman"/>
              </a:rPr>
              <a:t>intercept/offset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between group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951480" y="914400"/>
            <a:ext cx="8382960" cy="3218040"/>
            <a:chOff x="951480" y="914400"/>
            <a:chExt cx="8382960" cy="3218040"/>
          </a:xfrm>
        </p:grpSpPr>
        <p:sp>
          <p:nvSpPr>
            <p:cNvPr id="284" name=""/>
            <p:cNvSpPr/>
            <p:nvPr/>
          </p:nvSpPr>
          <p:spPr>
            <a:xfrm>
              <a:off x="2781360" y="1752480"/>
              <a:ext cx="655308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  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0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10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 1000 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  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5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5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1500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1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2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0   20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 200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1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25 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250 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fafd00"/>
                  </a:solidFill>
                  <a:latin typeface="Times New Roman"/>
                </a:rPr>
                <a:t>      </a:t>
              </a:r>
              <a:r>
                <a:rPr b="0" lang="pl-PL" sz="2800" spc="-1" strike="noStrike">
                  <a:solidFill>
                    <a:srgbClr val="fafd00"/>
                  </a:solidFill>
                  <a:latin typeface="Times New Roman"/>
                </a:rPr>
                <a:t>0    2500 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marL="343080" indent="-343080">
                <a:lnSpc>
                  <a:spcPct val="5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951480" y="914400"/>
              <a:ext cx="7771320" cy="3218040"/>
              <a:chOff x="951480" y="914400"/>
              <a:chExt cx="7771320" cy="3218040"/>
            </a:xfrm>
          </p:grpSpPr>
          <p:sp>
            <p:nvSpPr>
              <p:cNvPr id="286" name=""/>
              <p:cNvSpPr/>
              <p:nvPr/>
            </p:nvSpPr>
            <p:spPr>
              <a:xfrm>
                <a:off x="1409760" y="2438280"/>
                <a:ext cx="990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afd00"/>
                    </a:solidFill>
                    <a:latin typeface="Times New Roman"/>
                  </a:rPr>
                  <a:t>X =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951480" y="1447560"/>
                <a:ext cx="141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Male Group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026720" y="990360"/>
                <a:ext cx="164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Female Group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289" name=""/>
              <p:cNvGrpSpPr/>
              <p:nvPr/>
            </p:nvGrpSpPr>
            <p:grpSpPr>
              <a:xfrm>
                <a:off x="2324160" y="1600200"/>
                <a:ext cx="609480" cy="152280"/>
                <a:chOff x="2324160" y="1600200"/>
                <a:chExt cx="609480" cy="1522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2933640" y="1600200"/>
                  <a:ext cx="0" cy="15228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324160" y="160020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2705040" y="1218960"/>
                <a:ext cx="609480" cy="533520"/>
                <a:chOff x="2705040" y="1218960"/>
                <a:chExt cx="609480" cy="53352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3314520" y="1218960"/>
                  <a:ext cx="0" cy="53352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705040" y="121896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4457880" y="1600200"/>
                <a:ext cx="609480" cy="152280"/>
                <a:chOff x="4457880" y="1600200"/>
                <a:chExt cx="609480" cy="1522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4457880" y="1600200"/>
                  <a:ext cx="0" cy="15228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H="1">
                  <a:off x="4457880" y="160020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4000680" y="1152360"/>
                <a:ext cx="609480" cy="533520"/>
                <a:chOff x="4000680" y="1152360"/>
                <a:chExt cx="609480" cy="53352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4000680" y="1152360"/>
                  <a:ext cx="0" cy="53352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H="1">
                  <a:off x="4000680" y="1152360"/>
                  <a:ext cx="609480" cy="0"/>
                </a:xfrm>
                <a:prstGeom prst="line">
                  <a:avLst/>
                </a:prstGeom>
                <a:ln w="12600">
                  <a:solidFill>
                    <a:srgbClr val="fd14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1" name=""/>
              <p:cNvSpPr/>
              <p:nvPr/>
            </p:nvSpPr>
            <p:spPr>
              <a:xfrm>
                <a:off x="5067000" y="1371600"/>
                <a:ext cx="1482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Female*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610160" y="914400"/>
                <a:ext cx="125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Times New Roman"/>
                  </a:rPr>
                  <a:t>Male*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2628720" y="1752480"/>
                <a:ext cx="74520" cy="2057040"/>
                <a:chOff x="2628720" y="1752480"/>
                <a:chExt cx="74520" cy="205704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2645640" y="1752480"/>
                  <a:ext cx="0" cy="2057040"/>
                </a:xfrm>
                <a:prstGeom prst="line">
                  <a:avLst/>
                </a:prstGeom>
                <a:ln w="381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628720" y="38095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628720" y="17524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8648280" y="1752480"/>
                <a:ext cx="74520" cy="2057040"/>
                <a:chOff x="8648280" y="1752480"/>
                <a:chExt cx="74520" cy="205704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8705880" y="1752480"/>
                  <a:ext cx="0" cy="2057040"/>
                </a:xfrm>
                <a:prstGeom prst="line">
                  <a:avLst/>
                </a:prstGeom>
                <a:ln w="381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H="1">
                  <a:off x="8648280" y="380952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H="1">
                  <a:off x="8648280" y="1752480"/>
                  <a:ext cx="745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>
                <a:off x="3619440" y="1904760"/>
                <a:ext cx="0" cy="16765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838760" y="1981080"/>
                <a:ext cx="0" cy="16765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591240" y="2057400"/>
                <a:ext cx="0" cy="167616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219640" y="3657600"/>
                <a:ext cx="93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19191"/>
                    </a:solidFill>
                    <a:latin typeface="Times New Roman"/>
                  </a:rPr>
                  <a:t>Weight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001400" y="3733560"/>
                <a:ext cx="605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19191"/>
                    </a:solidFill>
                    <a:latin typeface="Times New Roman"/>
                  </a:rPr>
                  <a:t>Age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6720" y="3657600"/>
                <a:ext cx="45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19191"/>
                    </a:solidFill>
                    <a:latin typeface="Times New Roman"/>
                  </a:rPr>
                  <a:t>IQ</a:t>
                </a:r>
                <a:endParaRPr b="0" lang="en-US" sz="20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7" name=""/>
          <p:cNvSpPr/>
          <p:nvPr/>
        </p:nvSpPr>
        <p:spPr>
          <a:xfrm>
            <a:off x="1500120" y="5334120"/>
            <a:ext cx="732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      [ 0  0    -1   1          0       0           0         0]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 rot="5400000">
            <a:off x="4197240" y="5516280"/>
            <a:ext cx="42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1414"/>
                </a:solidFill>
                <a:latin typeface="Times New Roman"/>
              </a:rPr>
              <a:t>}</a:t>
            </a:r>
            <a:endParaRPr b="0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25240" y="6019920"/>
            <a:ext cx="55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Tests for the difference in </a:t>
            </a:r>
            <a:r>
              <a:rPr b="0" lang="en-US" sz="2000" spc="-1" strike="noStrike" u="sng">
                <a:solidFill>
                  <a:srgbClr val="fd1414"/>
                </a:solidFill>
                <a:uFillTx/>
                <a:latin typeface="Times New Roman"/>
              </a:rPr>
              <a:t>age slope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between group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49440" y="4038480"/>
            <a:ext cx="790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afd00"/>
                </a:solidFill>
                <a:latin typeface="Times New Roman"/>
              </a:rPr>
              <a:t>{</a:t>
            </a:r>
            <a:endParaRPr b="0" lang="en-US" sz="10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6200000">
            <a:off x="-333720" y="4650480"/>
            <a:ext cx="17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Manual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SGD Terminolog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77320" y="1143000"/>
            <a:ext cx="76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Continuous Variables/Factor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: Age, IQ, Volume, et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76600" y="1905120"/>
            <a:ext cx="8686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Discrete Variables/Factor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: Gender, Handedness, Diagnosi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evels of Discrete 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Handedness: Left and Righ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Gender: Male and Femal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Diagnosis: Normal, MCI, A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annot specify Discrete Factors in FSG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00280" y="4686480"/>
            <a:ext cx="783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Group or Clas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: Specification of All Discrete Factors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eft-handed Male MCI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ight-handed Female Norma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23280" y="457200"/>
            <a:ext cx="1707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600200"/>
            <a:ext cx="701028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GLM Theory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SGD File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rocessing Stag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ertex-wise Analysi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rrection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teractive/Automated GUI (QDEC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umber of Regressor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47640" y="1295280"/>
            <a:ext cx="8686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Each Group/Class: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Has its own Intercept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Has its own Slope (for each continuous variable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NRegressors = NClasses*(NVariables+1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ata (y): Thickness Stud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29600" y="2033640"/>
            <a:ext cx="710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$SUBJECTS_DIR/</a:t>
            </a:r>
            <a:r>
              <a:rPr b="0" lang="en-US" sz="28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/surf/lh.thicknes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457200" indent="-457200"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562040" y="1143000"/>
            <a:ext cx="693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3080" y="1828800"/>
            <a:ext cx="9943920" cy="29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fsgd    FSGDFile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: Specify subjects thru FSGD Fi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hemi  lh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               : Process left hemispher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meas thickness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: $SUBJECTS_DIR/subjectid/surf/hemi.thicknes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target fsaverage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: common space is subject fsaverag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--o lh.thickness.mgh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: output “volume-encoded surface file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Lots of other options!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ssemble Data: mris_preproc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9040" y="10573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d1414"/>
                </a:solidFill>
                <a:latin typeface="Times New Roman"/>
              </a:rPr>
              <a:t>mris_preproc --help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3280" y="5029200"/>
            <a:ext cx="7916760" cy="10688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lh.thickness.mgh – file with thickness maps for all subjects </a:t>
            </a:r>
            <a:r>
              <a:rPr b="0" lang="en-US" sz="32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Input to Smoother or GL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85760" y="6324480"/>
            <a:ext cx="29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ee also: recon-all -qcach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33440" y="304560"/>
            <a:ext cx="694368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patial Smoothing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09920" y="1752480"/>
            <a:ext cx="9249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Why should you smooth?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ight Improve CN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mprove intersubject registration (functional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How much smoothing?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Blob-siz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ypically 10-20 mm FWHM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urface smoothing more forgiving than volume-base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23600" y="-1828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Volume-based Smoothing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99880" y="6269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600880" y="114300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moothing is averaging of nearby voxel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4525920" cy="5554440"/>
          </a:xfrm>
          <a:prstGeom prst="rect">
            <a:avLst/>
          </a:prstGeom>
          <a:ln w="0">
            <a:noFill/>
          </a:ln>
        </p:spPr>
      </p:pic>
      <p:grpSp>
        <p:nvGrpSpPr>
          <p:cNvPr id="342" name=""/>
          <p:cNvGrpSpPr/>
          <p:nvPr/>
        </p:nvGrpSpPr>
        <p:grpSpPr>
          <a:xfrm>
            <a:off x="1090440" y="1198440"/>
            <a:ext cx="2896920" cy="3299040"/>
            <a:chOff x="1090440" y="1198440"/>
            <a:chExt cx="2896920" cy="3299040"/>
          </a:xfrm>
        </p:grpSpPr>
        <p:grpSp>
          <p:nvGrpSpPr>
            <p:cNvPr id="343" name=""/>
            <p:cNvGrpSpPr/>
            <p:nvPr/>
          </p:nvGrpSpPr>
          <p:grpSpPr>
            <a:xfrm>
              <a:off x="1090440" y="1600200"/>
              <a:ext cx="2896920" cy="2897280"/>
              <a:chOff x="1090440" y="1600200"/>
              <a:chExt cx="2896920" cy="2897280"/>
            </a:xfrm>
          </p:grpSpPr>
          <p:sp>
            <p:nvSpPr>
              <p:cNvPr id="344" name=""/>
              <p:cNvSpPr/>
              <p:nvPr/>
            </p:nvSpPr>
            <p:spPr>
              <a:xfrm>
                <a:off x="1814040" y="2324160"/>
                <a:ext cx="1447200" cy="144792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345" name=""/>
              <p:cNvGrpSpPr/>
              <p:nvPr/>
            </p:nvGrpSpPr>
            <p:grpSpPr>
              <a:xfrm>
                <a:off x="2347200" y="2857680"/>
                <a:ext cx="380880" cy="380880"/>
                <a:chOff x="2347200" y="2857680"/>
                <a:chExt cx="380880" cy="38088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2347200" y="3048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flipV="1">
                  <a:off x="2537640" y="2857680"/>
                  <a:ext cx="0" cy="3808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8" name=""/>
              <p:cNvSpPr/>
              <p:nvPr/>
            </p:nvSpPr>
            <p:spPr>
              <a:xfrm>
                <a:off x="1090440" y="1600200"/>
                <a:ext cx="2896920" cy="289728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1927440" y="1981080"/>
              <a:ext cx="156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7mm FWHM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21880" y="1198440"/>
              <a:ext cx="168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14mm FWHM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23600" y="-1828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Volume-based Smoothing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99880" y="6269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524560" y="152388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5 mm apart in 3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25 mm apart on surface!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Kernel much large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veraging with other tissue types (WM, CSF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veraging with other functional area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4525920" cy="5554440"/>
          </a:xfrm>
          <a:prstGeom prst="rect">
            <a:avLst/>
          </a:prstGeom>
          <a:ln w="0">
            <a:noFill/>
          </a:ln>
        </p:spPr>
      </p:pic>
      <p:grpSp>
        <p:nvGrpSpPr>
          <p:cNvPr id="355" name=""/>
          <p:cNvGrpSpPr/>
          <p:nvPr/>
        </p:nvGrpSpPr>
        <p:grpSpPr>
          <a:xfrm>
            <a:off x="2308320" y="2857680"/>
            <a:ext cx="380880" cy="380880"/>
            <a:chOff x="2308320" y="2857680"/>
            <a:chExt cx="380880" cy="380880"/>
          </a:xfrm>
        </p:grpSpPr>
        <p:sp>
          <p:nvSpPr>
            <p:cNvPr id="356" name=""/>
            <p:cNvSpPr/>
            <p:nvPr/>
          </p:nvSpPr>
          <p:spPr>
            <a:xfrm>
              <a:off x="2308320" y="3048120"/>
              <a:ext cx="38088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2498760" y="2857680"/>
              <a:ext cx="0" cy="3808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050840" y="1600200"/>
            <a:ext cx="2897280" cy="28972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562040" y="2514600"/>
            <a:ext cx="380880" cy="380880"/>
            <a:chOff x="1562040" y="2514600"/>
            <a:chExt cx="380880" cy="380880"/>
          </a:xfrm>
        </p:grpSpPr>
        <p:sp>
          <p:nvSpPr>
            <p:cNvPr id="360" name=""/>
            <p:cNvSpPr/>
            <p:nvPr/>
          </p:nvSpPr>
          <p:spPr>
            <a:xfrm>
              <a:off x="1562040" y="2705040"/>
              <a:ext cx="38088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1752480" y="2514600"/>
              <a:ext cx="0" cy="3808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939960" y="2743200"/>
            <a:ext cx="1536480" cy="2019240"/>
          </a:xfrm>
          <a:custGeom>
            <a:avLst/>
            <a:gdLst/>
            <a:ahLst/>
            <a:rect l="l" t="t" r="r" b="b"/>
            <a:pathLst>
              <a:path w="968" h="1272">
                <a:moveTo>
                  <a:pt x="488" y="0"/>
                </a:moveTo>
                <a:cubicBezTo>
                  <a:pt x="488" y="164"/>
                  <a:pt x="488" y="328"/>
                  <a:pt x="440" y="432"/>
                </a:cubicBezTo>
                <a:cubicBezTo>
                  <a:pt x="392" y="536"/>
                  <a:pt x="272" y="536"/>
                  <a:pt x="200" y="624"/>
                </a:cubicBezTo>
                <a:cubicBezTo>
                  <a:pt x="128" y="712"/>
                  <a:pt x="16" y="856"/>
                  <a:pt x="8" y="960"/>
                </a:cubicBezTo>
                <a:cubicBezTo>
                  <a:pt x="0" y="1064"/>
                  <a:pt x="64" y="1224"/>
                  <a:pt x="152" y="1248"/>
                </a:cubicBezTo>
                <a:cubicBezTo>
                  <a:pt x="240" y="1272"/>
                  <a:pt x="448" y="1184"/>
                  <a:pt x="536" y="1104"/>
                </a:cubicBezTo>
                <a:cubicBezTo>
                  <a:pt x="624" y="1024"/>
                  <a:pt x="632" y="872"/>
                  <a:pt x="680" y="768"/>
                </a:cubicBezTo>
                <a:cubicBezTo>
                  <a:pt x="728" y="664"/>
                  <a:pt x="776" y="576"/>
                  <a:pt x="824" y="480"/>
                </a:cubicBezTo>
                <a:cubicBezTo>
                  <a:pt x="872" y="384"/>
                  <a:pt x="920" y="288"/>
                  <a:pt x="968" y="192"/>
                </a:cubicBezTo>
              </a:path>
            </a:pathLst>
          </a:custGeom>
          <a:noFill/>
          <a:ln w="57240">
            <a:solidFill>
              <a:srgbClr val="04e3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98560" y="1206360"/>
            <a:ext cx="16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4mm FWHM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23600" y="-1828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Smoothing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14480" y="3770280"/>
            <a:ext cx="4597200" cy="3017520"/>
            <a:chOff x="114480" y="3770280"/>
            <a:chExt cx="4597200" cy="3017520"/>
          </a:xfrm>
        </p:grpSpPr>
        <p:pic>
          <p:nvPicPr>
            <p:cNvPr id="366" name="" descr=""/>
            <p:cNvPicPr/>
            <p:nvPr/>
          </p:nvPicPr>
          <p:blipFill>
            <a:blip r:embed="rId1"/>
            <a:stretch/>
          </p:blipFill>
          <p:spPr>
            <a:xfrm>
              <a:off x="1079640" y="3770280"/>
              <a:ext cx="2507040" cy="24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248760" y="5820120"/>
              <a:ext cx="170928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superior temporal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9880" y="6267960"/>
              <a:ext cx="18360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664440" y="5833800"/>
              <a:ext cx="91224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calcarin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81720" y="3932280"/>
              <a:ext cx="73224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central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25720" y="5299920"/>
              <a:ext cx="76896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sylvian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2357640" y="4161960"/>
              <a:ext cx="517680" cy="346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3354840" y="5604120"/>
              <a:ext cx="373680" cy="356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830240" y="5332320"/>
              <a:ext cx="603720" cy="590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948600" y="5070600"/>
              <a:ext cx="958680" cy="393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14480" y="4680360"/>
              <a:ext cx="115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anteri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44480" y="5130000"/>
              <a:ext cx="126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posteri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6286680" y="3886200"/>
            <a:ext cx="2438280" cy="22654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341640" y="3200400"/>
            <a:ext cx="45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heet: 2D Coordinate System (X,Y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446080" y="3200400"/>
            <a:ext cx="46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phere: 2D Coordinate System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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1486080" y="4343400"/>
            <a:ext cx="533160" cy="533520"/>
            <a:chOff x="1486080" y="4343400"/>
            <a:chExt cx="533160" cy="533520"/>
          </a:xfrm>
        </p:grpSpPr>
        <p:sp>
          <p:nvSpPr>
            <p:cNvPr id="382" name=""/>
            <p:cNvSpPr/>
            <p:nvPr/>
          </p:nvSpPr>
          <p:spPr>
            <a:xfrm>
              <a:off x="1619280" y="4476600"/>
              <a:ext cx="266400" cy="266760"/>
            </a:xfrm>
            <a:prstGeom prst="ellipse">
              <a:avLst/>
            </a:prstGeom>
            <a:noFill/>
            <a:ln w="38160">
              <a:solidFill>
                <a:srgbClr val="1004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1717200" y="4574880"/>
              <a:ext cx="69840" cy="69840"/>
              <a:chOff x="1717200" y="4574880"/>
              <a:chExt cx="69840" cy="69840"/>
            </a:xfrm>
          </p:grpSpPr>
          <p:sp>
            <p:nvSpPr>
              <p:cNvPr id="384" name=""/>
              <p:cNvSpPr/>
              <p:nvPr/>
            </p:nvSpPr>
            <p:spPr>
              <a:xfrm>
                <a:off x="1717200" y="4609800"/>
                <a:ext cx="69840" cy="0"/>
              </a:xfrm>
              <a:prstGeom prst="line">
                <a:avLst/>
              </a:prstGeom>
              <a:ln w="57240">
                <a:solidFill>
                  <a:srgbClr val="04e3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1752120" y="4574880"/>
                <a:ext cx="0" cy="69840"/>
              </a:xfrm>
              <a:prstGeom prst="line">
                <a:avLst/>
              </a:prstGeom>
              <a:ln w="57240">
                <a:solidFill>
                  <a:srgbClr val="1004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1486080" y="4343400"/>
              <a:ext cx="533160" cy="533520"/>
            </a:xfrm>
            <a:prstGeom prst="ellipse">
              <a:avLst/>
            </a:prstGeom>
            <a:noFill/>
            <a:ln w="38160">
              <a:solidFill>
                <a:srgbClr val="1004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7124760" y="4800600"/>
            <a:ext cx="533520" cy="533520"/>
            <a:chOff x="7124760" y="4800600"/>
            <a:chExt cx="533520" cy="533520"/>
          </a:xfrm>
        </p:grpSpPr>
        <p:sp>
          <p:nvSpPr>
            <p:cNvPr id="388" name=""/>
            <p:cNvSpPr/>
            <p:nvPr/>
          </p:nvSpPr>
          <p:spPr>
            <a:xfrm>
              <a:off x="7257960" y="4933800"/>
              <a:ext cx="266400" cy="266760"/>
            </a:xfrm>
            <a:prstGeom prst="ellipse">
              <a:avLst/>
            </a:prstGeom>
            <a:noFill/>
            <a:ln w="38160">
              <a:solidFill>
                <a:srgbClr val="1004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7356240" y="5032080"/>
              <a:ext cx="70200" cy="69840"/>
              <a:chOff x="7356240" y="5032080"/>
              <a:chExt cx="70200" cy="69840"/>
            </a:xfrm>
          </p:grpSpPr>
          <p:sp>
            <p:nvSpPr>
              <p:cNvPr id="390" name=""/>
              <p:cNvSpPr/>
              <p:nvPr/>
            </p:nvSpPr>
            <p:spPr>
              <a:xfrm>
                <a:off x="7356240" y="5067000"/>
                <a:ext cx="70200" cy="0"/>
              </a:xfrm>
              <a:prstGeom prst="line">
                <a:avLst/>
              </a:prstGeom>
              <a:ln w="57240">
                <a:solidFill>
                  <a:srgbClr val="04e3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7391160" y="5032080"/>
                <a:ext cx="0" cy="69840"/>
              </a:xfrm>
              <a:prstGeom prst="line">
                <a:avLst/>
              </a:prstGeom>
              <a:ln w="57240">
                <a:solidFill>
                  <a:srgbClr val="1004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7124760" y="4800600"/>
              <a:ext cx="533520" cy="533520"/>
            </a:xfrm>
            <a:prstGeom prst="ellipse">
              <a:avLst/>
            </a:prstGeom>
            <a:noFill/>
            <a:ln w="38160">
              <a:solidFill>
                <a:srgbClr val="1004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-266760" y="99072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moothing is averaging of nearby </a:t>
            </a:r>
            <a:r>
              <a:rPr b="0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vertic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4535640" y="837720"/>
            <a:ext cx="5486040" cy="2210040"/>
            <a:chOff x="4535640" y="837720"/>
            <a:chExt cx="5486040" cy="2210040"/>
          </a:xfrm>
        </p:grpSpPr>
        <p:grpSp>
          <p:nvGrpSpPr>
            <p:cNvPr id="395" name=""/>
            <p:cNvGrpSpPr/>
            <p:nvPr/>
          </p:nvGrpSpPr>
          <p:grpSpPr>
            <a:xfrm>
              <a:off x="4535640" y="1020960"/>
              <a:ext cx="2615760" cy="1644480"/>
              <a:chOff x="4535640" y="1020960"/>
              <a:chExt cx="2615760" cy="1644480"/>
            </a:xfrm>
          </p:grpSpPr>
          <p:pic>
            <p:nvPicPr>
              <p:cNvPr id="39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535640" y="1020960"/>
                <a:ext cx="2615760" cy="164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"/>
              <p:cNvSpPr/>
              <p:nvPr/>
            </p:nvSpPr>
            <p:spPr>
              <a:xfrm>
                <a:off x="6715080" y="2096640"/>
                <a:ext cx="373680" cy="379800"/>
              </a:xfrm>
              <a:prstGeom prst="rect">
                <a:avLst/>
              </a:prstGeom>
              <a:noFill/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pic>
          <p:nvPicPr>
            <p:cNvPr id="398" name="" descr=""/>
            <p:cNvPicPr/>
            <p:nvPr/>
          </p:nvPicPr>
          <p:blipFill>
            <a:blip r:embed="rId4"/>
            <a:stretch/>
          </p:blipFill>
          <p:spPr>
            <a:xfrm>
              <a:off x="7626240" y="838080"/>
              <a:ext cx="2395440" cy="2209680"/>
            </a:xfrm>
            <a:prstGeom prst="rect">
              <a:avLst/>
            </a:prstGeom>
            <a:ln w="28440">
              <a:solidFill>
                <a:srgbClr val="cba033"/>
              </a:solidFill>
              <a:miter/>
            </a:ln>
          </p:spPr>
        </p:pic>
        <p:sp>
          <p:nvSpPr>
            <p:cNvPr id="399" name=""/>
            <p:cNvSpPr/>
            <p:nvPr/>
          </p:nvSpPr>
          <p:spPr>
            <a:xfrm flipV="1">
              <a:off x="7096320" y="837720"/>
              <a:ext cx="529560" cy="1279080"/>
            </a:xfrm>
            <a:prstGeom prst="line">
              <a:avLst/>
            </a:prstGeom>
            <a:ln w="28440">
              <a:solidFill>
                <a:srgbClr val="cba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096320" y="2482560"/>
              <a:ext cx="529560" cy="547920"/>
            </a:xfrm>
            <a:prstGeom prst="line">
              <a:avLst/>
            </a:prstGeom>
            <a:ln w="28440">
              <a:solidFill>
                <a:srgbClr val="cba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 Smoothing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23600" y="1676160"/>
            <a:ext cx="899172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1414"/>
                </a:solidFill>
                <a:latin typeface="Times New Roman"/>
              </a:rPr>
              <a:t>mri_surf2surf --help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Loads lh.thickness.mgh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2D surface-based smoothing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pecify FWHM (eg, fwhm = 10 mm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aves lh.thickness.sm10.mg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an be slow (~10-60min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191880" indent="-1918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con-all -qcach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stimation and Inference: 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0800" y="137124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ads in FSGD File and constructs X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ads in your contrasts (C1, C2, etc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oads data (y=lh.thickness.sm10.mgh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its GLM (ie, computes 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omputes contrasts (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=C*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 or F ratios, significances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ignificance -log10(p) (.01 </a:t>
            </a:r>
            <a:r>
              <a:rPr b="0" lang="en-US" sz="28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2, .001 </a:t>
            </a:r>
            <a:r>
              <a:rPr b="0" lang="en-US" sz="28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3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00280" y="759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ri_glmfi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43080" y="1737360"/>
            <a:ext cx="4876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mri_glmfit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--y lh.thickness.sm10.mgh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--fsgd gender_age.tx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--C </a:t>
            </a:r>
            <a:r>
              <a:rPr b="0" lang="en" sz="2800" spc="-1" strike="noStrike">
                <a:solidFill>
                  <a:srgbClr val="00ff00"/>
                </a:solidFill>
                <a:latin typeface="Times New Roman"/>
              </a:rPr>
              <a:t>age</a:t>
            </a: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.mat –C </a:t>
            </a:r>
            <a:r>
              <a:rPr b="0" lang="en" sz="2800" spc="-1" strike="noStrike">
                <a:solidFill>
                  <a:srgbClr val="da68ff"/>
                </a:solidFill>
                <a:latin typeface="Times New Roman"/>
              </a:rPr>
              <a:t>gender</a:t>
            </a: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.ma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--surf fsaverage lh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--cortex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--glmdir </a:t>
            </a:r>
            <a:r>
              <a:rPr b="0" lang="en" sz="2800" spc="-1" strike="noStrike">
                <a:solidFill>
                  <a:srgbClr val="fd1414"/>
                </a:solidFill>
                <a:latin typeface="Times New Roman"/>
              </a:rPr>
              <a:t>lh.gender_age.glmdir</a:t>
            </a: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214600" y="1676520"/>
            <a:ext cx="4650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Creates: </a:t>
            </a:r>
            <a:r>
              <a:rPr b="0" lang="en" sz="2400" spc="-1" strike="noStrike">
                <a:solidFill>
                  <a:srgbClr val="fd1414"/>
                </a:solidFill>
                <a:latin typeface="Times New Roman"/>
              </a:rPr>
              <a:t>lh.gender_age.glmdi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beta.mgh – parameter estimat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rvar.mgh – residual error varianc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etc …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00ff00"/>
                </a:solidFill>
                <a:latin typeface="Times New Roman"/>
              </a:rPr>
              <a:t>age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sig.mgh </a:t>
            </a: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–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-log10(p), uncorrec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gamma.mgh, F.m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ff00"/>
                </a:solidFill>
                <a:latin typeface="Times New Roman"/>
              </a:rPr>
              <a:t>    </a:t>
            </a:r>
            <a:r>
              <a:rPr b="0" lang="en" sz="2400" spc="-1" strike="noStrike">
                <a:solidFill>
                  <a:srgbClr val="da68ff"/>
                </a:solidFill>
                <a:latin typeface="Times New Roman"/>
              </a:rPr>
              <a:t>gender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/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sig.mgh </a:t>
            </a:r>
            <a:r>
              <a:rPr b="0" lang="en" sz="2000" spc="-1" strike="noStrike">
                <a:solidFill>
                  <a:srgbClr val="fafd00"/>
                </a:solidFill>
                <a:latin typeface="Times New Roman"/>
              </a:rPr>
              <a:t>–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-log10(p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      </a:t>
            </a:r>
            <a:r>
              <a:rPr b="0" lang="en" sz="2400" spc="-1" strike="noStrike">
                <a:solidFill>
                  <a:srgbClr val="fafd00"/>
                </a:solidFill>
                <a:latin typeface="Times New Roman"/>
              </a:rPr>
              <a:t>gamma.mgh, F.mg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9040" y="601884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d1414"/>
                </a:solidFill>
                <a:latin typeface="Times New Roman"/>
              </a:rPr>
              <a:t>mri_glmfit --help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72280" y="3352680"/>
            <a:ext cx="4647960" cy="762120"/>
          </a:xfrm>
          <a:prstGeom prst="ellipse">
            <a:avLst/>
          </a:prstGeom>
          <a:noFill/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295960" y="1905120"/>
            <a:ext cx="2870280" cy="2977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00280" y="76320"/>
            <a:ext cx="874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-based Study (Thicknes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90" name="" descr="scatter_plot.jpg"/>
          <p:cNvPicPr/>
          <p:nvPr/>
        </p:nvPicPr>
        <p:blipFill>
          <a:blip r:embed="rId2"/>
          <a:stretch/>
        </p:blipFill>
        <p:spPr>
          <a:xfrm>
            <a:off x="952560" y="1523880"/>
            <a:ext cx="36478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47640" y="-12384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isualization with tksurf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600880" y="55627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View-&gt;Configure-&gt;Overla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13" name="" descr="group_results.jpg"/>
          <p:cNvPicPr/>
          <p:nvPr/>
        </p:nvPicPr>
        <p:blipFill>
          <a:blip r:embed="rId1"/>
          <a:stretch/>
        </p:blipFill>
        <p:spPr>
          <a:xfrm>
            <a:off x="190440" y="790560"/>
            <a:ext cx="3463920" cy="547992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configure_overlay.jpg"/>
          <p:cNvPicPr/>
          <p:nvPr/>
        </p:nvPicPr>
        <p:blipFill>
          <a:blip r:embed="rId2"/>
          <a:stretch/>
        </p:blipFill>
        <p:spPr>
          <a:xfrm>
            <a:off x="5676840" y="914400"/>
            <a:ext cx="2624040" cy="45752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5905440" y="3809880"/>
            <a:ext cx="685800" cy="38124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5143680" y="1904760"/>
            <a:ext cx="838080" cy="198108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30760" y="1233360"/>
            <a:ext cx="128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Threshold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log10(p)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2=.0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96160" y="3809880"/>
            <a:ext cx="685800" cy="38124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7429680" y="1523880"/>
            <a:ext cx="1447560" cy="22860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493840" y="533520"/>
            <a:ext cx="156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aturation: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-log10(p),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5=.0000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972480" y="4800600"/>
            <a:ext cx="685800" cy="38088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572680" y="2819520"/>
            <a:ext cx="114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als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Dicover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Rat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Eg, .0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7505640" y="4114440"/>
            <a:ext cx="1295640" cy="6858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3080" y="62485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ile-&gt;LoadOverlay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4728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47640" y="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Visualization with tksurf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222440" y="5486400"/>
            <a:ext cx="346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le-&gt;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ad Group Descriptor File …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28" name="" descr="scatter_plot.jpg"/>
          <p:cNvPicPr/>
          <p:nvPr/>
        </p:nvPicPr>
        <p:blipFill>
          <a:blip r:embed="rId1"/>
          <a:stretch/>
        </p:blipFill>
        <p:spPr>
          <a:xfrm>
            <a:off x="4381560" y="1066680"/>
            <a:ext cx="3806640" cy="41148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group_results.jpg"/>
          <p:cNvPicPr/>
          <p:nvPr/>
        </p:nvPicPr>
        <p:blipFill>
          <a:blip r:embed="rId2"/>
          <a:stretch/>
        </p:blipFill>
        <p:spPr>
          <a:xfrm>
            <a:off x="114480" y="990720"/>
            <a:ext cx="346392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roblem of Multiple Comparison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rcRect l="11224" t="13511" r="10229" b="9897"/>
          <a:stretch/>
        </p:blipFill>
        <p:spPr>
          <a:xfrm>
            <a:off x="190440" y="1371600"/>
            <a:ext cx="3162240" cy="3200400"/>
          </a:xfrm>
          <a:prstGeom prst="rect">
            <a:avLst/>
          </a:prstGeom>
          <a:ln w="9360">
            <a:solidFill>
              <a:srgbClr val="fafd00"/>
            </a:solidFill>
            <a:miter/>
          </a:ln>
        </p:spPr>
      </p:pic>
      <p:pic>
        <p:nvPicPr>
          <p:cNvPr id="432" name="" descr=""/>
          <p:cNvPicPr/>
          <p:nvPr/>
        </p:nvPicPr>
        <p:blipFill>
          <a:blip r:embed="rId2"/>
          <a:srcRect l="11274" t="13491" r="10186" b="9987"/>
          <a:stretch/>
        </p:blipFill>
        <p:spPr>
          <a:xfrm>
            <a:off x="3527280" y="1371600"/>
            <a:ext cx="3160800" cy="3198960"/>
          </a:xfrm>
          <a:prstGeom prst="rect">
            <a:avLst/>
          </a:prstGeom>
          <a:ln w="9360">
            <a:solidFill>
              <a:srgbClr val="fafd00"/>
            </a:solidFill>
            <a:miter/>
          </a:ln>
        </p:spPr>
      </p:pic>
      <p:pic>
        <p:nvPicPr>
          <p:cNvPr id="433" name="" descr=""/>
          <p:cNvPicPr/>
          <p:nvPr/>
        </p:nvPicPr>
        <p:blipFill>
          <a:blip r:embed="rId3"/>
          <a:srcRect l="11274" t="13491" r="10186" b="9987"/>
          <a:stretch/>
        </p:blipFill>
        <p:spPr>
          <a:xfrm>
            <a:off x="6864480" y="1371600"/>
            <a:ext cx="3159000" cy="3193920"/>
          </a:xfrm>
          <a:prstGeom prst="rect">
            <a:avLst/>
          </a:prstGeom>
          <a:ln w="9360">
            <a:solidFill>
              <a:srgbClr val="fafd00"/>
            </a:solidFill>
            <a:miter/>
          </a:ln>
        </p:spPr>
      </p:pic>
      <p:sp>
        <p:nvSpPr>
          <p:cNvPr id="434" name=""/>
          <p:cNvSpPr/>
          <p:nvPr/>
        </p:nvSpPr>
        <p:spPr>
          <a:xfrm>
            <a:off x="1105920" y="4559400"/>
            <a:ext cx="186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 &lt; 0.10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077720" y="4559400"/>
            <a:ext cx="186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 &lt; 0.01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374240" y="4559400"/>
            <a:ext cx="17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 &lt; 10</a:t>
            </a:r>
            <a:r>
              <a:rPr b="0" lang="en-US" sz="4000" spc="-1" strike="noStrike" baseline="30000">
                <a:solidFill>
                  <a:srgbClr val="fafd00"/>
                </a:solidFill>
                <a:latin typeface="Times New Roman"/>
              </a:rPr>
              <a:t>-7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rrection for Multiple Comparis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561680" y="1828800"/>
            <a:ext cx="815364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uster-base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onte Carlo simulation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ermutation Test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urface Gaussian Random Fields (GRF)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1062720" indent="-21240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here but not fully teste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alse Discovery Rate (FDR) – built into tksurfer and QDEC. (Genovese, et al, NI 2002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23600" y="-76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lustering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28880" y="838080"/>
            <a:ext cx="815328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hoose a vertex-wise threshold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g, 2 (p&lt;.01), or 3 (p&lt;.001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ign (pos, neg, ab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 cluster is a group of connected (neighboring) vertices above threshold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uster has a size (area in mm</a:t>
            </a:r>
            <a:r>
              <a:rPr b="0" lang="en-US" sz="2800" spc="-1" strike="noStrike" baseline="30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41" name="" descr="groupana.lat.cor.th2.gif"/>
          <p:cNvPicPr/>
          <p:nvPr/>
        </p:nvPicPr>
        <p:blipFill>
          <a:blip r:embed="rId1"/>
          <a:stretch/>
        </p:blipFill>
        <p:spPr>
          <a:xfrm>
            <a:off x="3530520" y="3657600"/>
            <a:ext cx="3200400" cy="230832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groupana.lat.clusters.gif"/>
          <p:cNvPicPr/>
          <p:nvPr/>
        </p:nvPicPr>
        <p:blipFill>
          <a:blip r:embed="rId2"/>
          <a:stretch/>
        </p:blipFill>
        <p:spPr>
          <a:xfrm>
            <a:off x="6997680" y="3657600"/>
            <a:ext cx="3289320" cy="221472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groupana.lat.uncor.th2.gif"/>
          <p:cNvPicPr/>
          <p:nvPr/>
        </p:nvPicPr>
        <p:blipFill>
          <a:blip r:embed="rId3"/>
          <a:stretch/>
        </p:blipFill>
        <p:spPr>
          <a:xfrm>
            <a:off x="419040" y="3733920"/>
            <a:ext cx="3048120" cy="218268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1098000" y="5867280"/>
            <a:ext cx="224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&lt;.01 (-log10(p)=2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Neg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687840" y="5867280"/>
            <a:ext cx="25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&lt;.0001 (-log10(p)=4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Negativ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23600" y="-76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uster-based Correction for Multiple Comparis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028880" y="971280"/>
            <a:ext cx="815328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imulate data under Null Hypothesis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ynthesize Gaussian noise and then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Times New Roman"/>
              </a:rPr>
              <a:t>smooth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(Monte Carlo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Permute rows of design matrix (Permutation, orthog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nalyze, threshold, cluster, max cluster siz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epeat 10,000 tim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nalyze real data, get cluster siz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(cluster) = #MaxClusterSize &gt; ClusterSize/10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1680" y="5105520"/>
            <a:ext cx="23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glmfit-sim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rcRect l="1690" t="15238" r="1690" b="952"/>
          <a:stretch/>
        </p:blipFill>
        <p:spPr>
          <a:xfrm>
            <a:off x="4533840" y="4041720"/>
            <a:ext cx="480060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1210680" y="231840"/>
            <a:ext cx="70149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Command-line Processing Stage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9360" y="1371600"/>
            <a:ext cx="9448560" cy="39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odel (X, FSGD) and Contrasts (C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ssemble Data (mris_preproc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esample into Common Sp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catenate into one fil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mooth (mri_surf2surf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t Model (Estimate) (mri_glmfit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rrect for multiple comparisons (mri_glmfit-sim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Visualize (tksurfer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512760" y="58500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recon-all -qcach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576720" y="304920"/>
            <a:ext cx="875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QDEC – An Interactive Statistical Engine GUI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00280" y="1066680"/>
            <a:ext cx="929628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Query – Select subjects based on Match Criteria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esign – Specify discrete and continuous factor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Estimate – Fit Mod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trast – Automatically Generate Contrast Matric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teractive – Makes easy things easy (that used to be hard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 work in progres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No Query ye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wo Discrete Factors (Two Level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wo Continuous Facto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urface onl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2402640" y="304920"/>
            <a:ext cx="40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DEC – Spreadsheet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7640" y="1833840"/>
            <a:ext cx="8915400" cy="22284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fsid                        gender     age    diagnosis         Left-Cerebral-White-Matter-V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11121_vc8048    Female     70     Demented                    202291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1121_62313-2   Female     71    Demented                     210188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10607_vc7017    Female     73    Nondemented               170653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1121_vc10557  Male        75     Demented                     142029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0718_62545      Male        76     Demented                     186087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020322_vc8817    Male        77      Nondemented              149810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9040" y="1295280"/>
            <a:ext cx="84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dec.table.dat – spreadsheet with subject information – spreadsheet can be huge!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028880" y="4958280"/>
            <a:ext cx="1143000" cy="7038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Male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74440" y="449568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der.leve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390840" y="4958280"/>
            <a:ext cx="1905120" cy="7038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Demented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ffffff"/>
                </a:solidFill>
                <a:latin typeface="Times New Roman"/>
              </a:rPr>
              <a:t>Nondemented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12360" y="449568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agnosis.level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400480" y="1828800"/>
            <a:ext cx="1218960" cy="3808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076640" y="1828800"/>
            <a:ext cx="1219320" cy="3808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1562040" y="2209680"/>
            <a:ext cx="1067040" cy="23623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4076280" y="2133720"/>
            <a:ext cx="228600" cy="236196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343560" y="481500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crete Factors need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ctorname.level fi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23600" y="-766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Tutorial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28880" y="971280"/>
            <a:ext cx="815328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399960" indent="-399960">
              <a:lnSpc>
                <a:spcPct val="9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ommand-line Stream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34272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reate an FSGD File for a thickness study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34272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ge and Gende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685800" indent="-34272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Run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s_prepro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surf2surf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glmfit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i_glmfit-sim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971280" indent="-285480">
              <a:lnSpc>
                <a:spcPct val="90000"/>
              </a:lnSpc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ksurfe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QDEC – same data set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  <a:p>
            <a:pPr marL="399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rface-based Measur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62040" y="182880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orphometric (eg, thickness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unctiona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PE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EG/EEG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Diffusion (?) sampled just under the surfac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381560" y="4495680"/>
            <a:ext cx="4734000" cy="1843200"/>
            <a:chOff x="4381560" y="4495680"/>
            <a:chExt cx="4734000" cy="1843200"/>
          </a:xfrm>
        </p:grpSpPr>
        <p:grpSp>
          <p:nvGrpSpPr>
            <p:cNvPr id="94" name=""/>
            <p:cNvGrpSpPr/>
            <p:nvPr/>
          </p:nvGrpSpPr>
          <p:grpSpPr>
            <a:xfrm>
              <a:off x="4381560" y="4648320"/>
              <a:ext cx="2257200" cy="1371600"/>
              <a:chOff x="4381560" y="4648320"/>
              <a:chExt cx="2257200" cy="1371600"/>
            </a:xfrm>
          </p:grpSpPr>
          <p:pic>
            <p:nvPicPr>
              <p:cNvPr id="9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81560" y="4648320"/>
                <a:ext cx="2257200" cy="13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6262560" y="5545800"/>
                <a:ext cx="322200" cy="316440"/>
              </a:xfrm>
              <a:prstGeom prst="rect">
                <a:avLst/>
              </a:prstGeom>
              <a:noFill/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7048440" y="4495680"/>
              <a:ext cx="2067120" cy="1843200"/>
            </a:xfrm>
            <a:prstGeom prst="rect">
              <a:avLst/>
            </a:prstGeom>
            <a:ln w="28440">
              <a:solidFill>
                <a:srgbClr val="cba033"/>
              </a:solidFill>
              <a:miter/>
            </a:ln>
          </p:spPr>
        </p:pic>
        <p:sp>
          <p:nvSpPr>
            <p:cNvPr id="98" name=""/>
            <p:cNvSpPr/>
            <p:nvPr/>
          </p:nvSpPr>
          <p:spPr>
            <a:xfrm flipV="1">
              <a:off x="6591240" y="4495680"/>
              <a:ext cx="457200" cy="1067040"/>
            </a:xfrm>
            <a:prstGeom prst="line">
              <a:avLst/>
            </a:prstGeom>
            <a:ln w="28440">
              <a:solidFill>
                <a:srgbClr val="cba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591240" y="5867280"/>
              <a:ext cx="457200" cy="457200"/>
            </a:xfrm>
            <a:prstGeom prst="line">
              <a:avLst/>
            </a:prstGeom>
            <a:ln w="28440">
              <a:solidFill>
                <a:srgbClr val="cba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nother FSGD Examp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028880" y="2895480"/>
            <a:ext cx="6858000" cy="35053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137160" anchor="t">
            <a:normAutofit fontScale="96000"/>
          </a:bodyPr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GroupDescriptorFile 1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MaleRigh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MaleLef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FemaleRigh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FemaleLef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Variables                                  Age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Left           10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  MaleRight         15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     FemaleRight     2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8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FemaleLeft       25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48520" y="571500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lass = Group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76240" y="91440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28000"/>
          </a:bodyPr>
          <a:p>
            <a:pPr marL="95760" indent="-957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wo Discrete Factor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207720" indent="-7992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ender: Two Levels (M&amp;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207720" indent="-7992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andedness: Two Levels (L&amp;R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95760" indent="-9576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ne Continuous Variable: Ag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4728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teraction Contras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71680" y="3429000"/>
            <a:ext cx="3886200" cy="2819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137160" bIns="137160" anchor="t">
            <a:normAutofit fontScale="97000"/>
          </a:bodyPr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roupDescriptorFile 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Fe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lass Fe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fd1414"/>
                </a:solidFill>
                <a:latin typeface="Times New Roman"/>
              </a:rPr>
              <a:t>bert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  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00ae00"/>
                </a:solidFill>
                <a:latin typeface="Times New Roman"/>
              </a:rPr>
              <a:t>fred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  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jenny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FemaleRigh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Input </a:t>
            </a:r>
            <a:r>
              <a:rPr b="0" lang="en-US" sz="2400" spc="-1" strike="noStrike">
                <a:solidFill>
                  <a:srgbClr val="da68ff"/>
                </a:solidFill>
                <a:latin typeface="Times New Roman"/>
              </a:rPr>
              <a:t>margaret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FemaleLe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9040" y="8380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22000"/>
          </a:bodyPr>
          <a:p>
            <a:pPr marL="75240" indent="-7524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wo Discrete Factors (no continuous, for now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63440" indent="-626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Gender: Two Levels (M&amp;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163440" indent="-626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andedness: Two Levels (L&amp;R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75240" indent="-75240">
              <a:spcBef>
                <a:spcPts val="700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Four Regressors (Offsets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163440" indent="-62640">
              <a:spcBef>
                <a:spcPts val="601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R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, ML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, FR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, FL 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6364080" y="1295280"/>
            <a:ext cx="2642760" cy="2608560"/>
            <a:chOff x="6364080" y="1295280"/>
            <a:chExt cx="2642760" cy="2608560"/>
          </a:xfrm>
        </p:grpSpPr>
        <p:sp>
          <p:nvSpPr>
            <p:cNvPr id="477" name=""/>
            <p:cNvSpPr/>
            <p:nvPr/>
          </p:nvSpPr>
          <p:spPr>
            <a:xfrm flipV="1">
              <a:off x="7581600" y="1665000"/>
              <a:ext cx="914400" cy="4032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6667200" y="1523880"/>
              <a:ext cx="2057400" cy="2058840"/>
              <a:chOff x="6667200" y="1523880"/>
              <a:chExt cx="2057400" cy="2058840"/>
            </a:xfrm>
          </p:grpSpPr>
          <p:sp>
            <p:nvSpPr>
              <p:cNvPr id="479" name=""/>
              <p:cNvSpPr/>
              <p:nvPr/>
            </p:nvSpPr>
            <p:spPr>
              <a:xfrm>
                <a:off x="6895800" y="1523880"/>
                <a:ext cx="0" cy="20588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667200" y="3352320"/>
                <a:ext cx="20574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 flipV="1">
              <a:off x="7581600" y="2699640"/>
              <a:ext cx="838440" cy="228600"/>
            </a:xfrm>
            <a:prstGeom prst="line">
              <a:avLst/>
            </a:prstGeom>
            <a:ln w="5724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505640" y="289548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05640" y="2057040"/>
              <a:ext cx="7596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496000" y="1599840"/>
              <a:ext cx="76320" cy="763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420040" y="2666880"/>
              <a:ext cx="7596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354440" y="3504960"/>
              <a:ext cx="40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345160" y="3504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364440" y="2819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364080" y="190476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31240" y="274284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655480" y="129528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502840" y="236196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207560" y="1752480"/>
              <a:ext cx="351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529480" y="1676160"/>
              <a:ext cx="0" cy="380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462880" y="2742840"/>
              <a:ext cx="0" cy="228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503200" y="2666880"/>
              <a:ext cx="363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503200" y="1676160"/>
              <a:ext cx="363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5448240" y="3809880"/>
            <a:ext cx="4419360" cy="2894760"/>
            <a:chOff x="5448240" y="3809880"/>
            <a:chExt cx="4419360" cy="2894760"/>
          </a:xfrm>
        </p:grpSpPr>
        <p:sp>
          <p:nvSpPr>
            <p:cNvPr id="499" name=""/>
            <p:cNvSpPr/>
            <p:nvPr/>
          </p:nvSpPr>
          <p:spPr>
            <a:xfrm>
              <a:off x="5448240" y="3971520"/>
              <a:ext cx="4419360" cy="273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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Symbol"/>
                  <a:ea typeface="Symbol"/>
                </a:rPr>
                <a:t>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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Symbol"/>
                  <a:ea typeface="Symbol"/>
                </a:rPr>
                <a:t>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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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3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-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)- 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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4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-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    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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+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+ 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3</a:t>
              </a: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-</a:t>
              </a:r>
              <a:r>
                <a:rPr b="0" lang="en-US" sz="3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</a:t>
              </a:r>
              <a:r>
                <a:rPr b="0" lang="en-US" sz="3200" spc="-1" strike="noStrike" baseline="-25000">
                  <a:solidFill>
                    <a:srgbClr val="fafd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C = [-1 +1 +1 -1]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211880" y="38098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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47280" y="1519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SGDF </a:t>
            </a:r>
            <a:r>
              <a:rPr b="0" lang="en-US" sz="44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857680" y="2514600"/>
            <a:ext cx="33526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  0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00  10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  0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5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 15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1500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0  1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0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000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0  1 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5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50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afd00"/>
                </a:solidFill>
                <a:latin typeface="Times New Roman"/>
              </a:rPr>
              <a:t>2500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71680" y="1295280"/>
            <a:ext cx="51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afd00"/>
                </a:solidFill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S</a:t>
            </a:r>
            <a:r>
              <a:rPr b="0" lang="pl-PL" sz="2000" spc="-1" strike="noStrike">
                <a:solidFill>
                  <a:srgbClr val="fafd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– Different Offset, 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Same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Slop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486080" y="32004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X =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494360" y="4549680"/>
            <a:ext cx="45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=       [-1 1      0       0        0]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21800" y="5715000"/>
            <a:ext cx="677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#Regressors = Nv+Nc = 3+2=5 </a:t>
            </a: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Fewer regressors than DOD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DOF = #Rows - #Regressor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029600" y="220968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Male Cla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104840" y="1752480"/>
            <a:ext cx="15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emale Clas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2400480" y="2362320"/>
            <a:ext cx="609480" cy="152280"/>
            <a:chOff x="2400480" y="2362320"/>
            <a:chExt cx="609480" cy="152280"/>
          </a:xfrm>
        </p:grpSpPr>
        <p:sp>
          <p:nvSpPr>
            <p:cNvPr id="510" name=""/>
            <p:cNvSpPr/>
            <p:nvPr/>
          </p:nvSpPr>
          <p:spPr>
            <a:xfrm>
              <a:off x="3009960" y="2362320"/>
              <a:ext cx="0" cy="15228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400480" y="2362320"/>
              <a:ext cx="609480" cy="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2781360" y="1981080"/>
            <a:ext cx="609480" cy="533520"/>
            <a:chOff x="2781360" y="1981080"/>
            <a:chExt cx="609480" cy="533520"/>
          </a:xfrm>
        </p:grpSpPr>
        <p:sp>
          <p:nvSpPr>
            <p:cNvPr id="513" name=""/>
            <p:cNvSpPr/>
            <p:nvPr/>
          </p:nvSpPr>
          <p:spPr>
            <a:xfrm>
              <a:off x="3390840" y="1981080"/>
              <a:ext cx="0" cy="53352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81360" y="1981080"/>
              <a:ext cx="609480" cy="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4077000" y="1981080"/>
            <a:ext cx="609480" cy="533520"/>
            <a:chOff x="4077000" y="1981080"/>
            <a:chExt cx="609480" cy="533520"/>
          </a:xfrm>
        </p:grpSpPr>
        <p:sp>
          <p:nvSpPr>
            <p:cNvPr id="516" name=""/>
            <p:cNvSpPr/>
            <p:nvPr/>
          </p:nvSpPr>
          <p:spPr>
            <a:xfrm>
              <a:off x="4077000" y="1981080"/>
              <a:ext cx="0" cy="53352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4077000" y="1981080"/>
              <a:ext cx="609480" cy="0"/>
            </a:xfrm>
            <a:prstGeom prst="line">
              <a:avLst/>
            </a:prstGeom>
            <a:ln w="12600">
              <a:solidFill>
                <a:srgbClr val="fd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4818240" y="176688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Age for Males and Femal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185880" y="4738680"/>
            <a:ext cx="318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Same test, different vecto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287200" y="380880"/>
            <a:ext cx="1032480" cy="1800360"/>
          </a:xfrm>
          <a:prstGeom prst="rect">
            <a:avLst/>
          </a:prstGeom>
          <a:noFill/>
          <a:ln w="38160">
            <a:solidFill>
              <a:srgbClr val="fd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Input: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3440" y="304560"/>
            <a:ext cx="694368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ntersubject Registration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11560" y="304920"/>
            <a:ext cx="793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ordinate Systems: 3D (Volumetric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5360" y="1523880"/>
            <a:ext cx="670572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3D Coordinate System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XYZ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AS (Right-Anterior-Superior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RS (Column-Row-Slice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Origin (XYZ=0, eg, AC)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R Intensity at each XYZ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753160" y="1071720"/>
            <a:ext cx="4265280" cy="4491000"/>
            <a:chOff x="5753160" y="1071720"/>
            <a:chExt cx="4265280" cy="449100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rcRect l="22305" t="14601" r="26077" b="17284"/>
            <a:stretch/>
          </p:blipFill>
          <p:spPr>
            <a:xfrm>
              <a:off x="6324480" y="1981080"/>
              <a:ext cx="2941920" cy="358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" name=""/>
            <p:cNvGrpSpPr/>
            <p:nvPr/>
          </p:nvGrpSpPr>
          <p:grpSpPr>
            <a:xfrm>
              <a:off x="5753160" y="1295280"/>
              <a:ext cx="4014360" cy="3885840"/>
              <a:chOff x="5753160" y="1295280"/>
              <a:chExt cx="4014360" cy="3885840"/>
            </a:xfrm>
          </p:grpSpPr>
          <p:sp>
            <p:nvSpPr>
              <p:cNvPr id="106" name=""/>
              <p:cNvSpPr/>
              <p:nvPr/>
            </p:nvSpPr>
            <p:spPr>
              <a:xfrm>
                <a:off x="7810200" y="1295280"/>
                <a:ext cx="0" cy="3885840"/>
              </a:xfrm>
              <a:prstGeom prst="line">
                <a:avLst/>
              </a:prstGeom>
              <a:ln w="38160">
                <a:solidFill>
                  <a:srgbClr val="04e3fa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753160" y="3252240"/>
                <a:ext cx="4014360" cy="0"/>
              </a:xfrm>
              <a:prstGeom prst="line">
                <a:avLst/>
              </a:prstGeom>
              <a:ln w="38160">
                <a:solidFill>
                  <a:srgbClr val="04e3fa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6396120" y="1865880"/>
                <a:ext cx="2928960" cy="2744640"/>
              </a:xfrm>
              <a:prstGeom prst="line">
                <a:avLst/>
              </a:prstGeom>
              <a:ln w="38160">
                <a:solidFill>
                  <a:srgbClr val="04e3fa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9532800" y="2490840"/>
              <a:ext cx="485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4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82480" y="4267080"/>
              <a:ext cx="452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endParaRPr b="0" lang="en-US" sz="4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907400" y="1071720"/>
              <a:ext cx="485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4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23600" y="-1828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Coordinate Systems: 2D (Surface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82520" y="1544760"/>
            <a:ext cx="4597200" cy="3017520"/>
            <a:chOff x="182520" y="1544760"/>
            <a:chExt cx="4597200" cy="301752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1147680" y="1544760"/>
              <a:ext cx="2507040" cy="24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316800" y="3594600"/>
              <a:ext cx="170964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superior temporal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7920" y="4042440"/>
              <a:ext cx="18360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33200" y="3608280"/>
              <a:ext cx="91224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calcarin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49760" y="1706760"/>
              <a:ext cx="73224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central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3760" y="3074400"/>
              <a:ext cx="768960" cy="337320"/>
            </a:xfrm>
            <a:prstGeom prst="rect">
              <a:avLst/>
            </a:prstGeom>
            <a:noFill/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Times New Roman"/>
                </a:rPr>
                <a:t>sylvian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425680" y="1936440"/>
              <a:ext cx="517680" cy="3463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3423240" y="3378600"/>
              <a:ext cx="373680" cy="356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1898640" y="3106800"/>
              <a:ext cx="604080" cy="590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1016640" y="2845080"/>
              <a:ext cx="958680" cy="393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520" y="2454840"/>
              <a:ext cx="11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anteri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12520" y="2904480"/>
              <a:ext cx="126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posterior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876240" y="4794120"/>
            <a:ext cx="8975880" cy="1905120"/>
            <a:chOff x="876240" y="4794120"/>
            <a:chExt cx="8975880" cy="1905120"/>
          </a:xfrm>
        </p:grpSpPr>
        <p:grpSp>
          <p:nvGrpSpPr>
            <p:cNvPr id="127" name=""/>
            <p:cNvGrpSpPr/>
            <p:nvPr/>
          </p:nvGrpSpPr>
          <p:grpSpPr>
            <a:xfrm>
              <a:off x="876240" y="4890960"/>
              <a:ext cx="2743200" cy="1582560"/>
              <a:chOff x="876240" y="4890960"/>
              <a:chExt cx="2743200" cy="1582560"/>
            </a:xfrm>
          </p:grpSpPr>
          <p:pic>
            <p:nvPicPr>
              <p:cNvPr id="12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76240" y="4890960"/>
                <a:ext cx="2743200" cy="158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992160" y="5991120"/>
                <a:ext cx="63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66"/>
                    </a:solidFill>
                    <a:latin typeface="Times New Roman"/>
                  </a:rPr>
                  <a:t>pial</a:t>
                </a:r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4194720" y="4794120"/>
              <a:ext cx="3201480" cy="1905120"/>
              <a:chOff x="4194720" y="4794120"/>
              <a:chExt cx="3201480" cy="1905120"/>
            </a:xfrm>
          </p:grpSpPr>
          <p:pic>
            <p:nvPicPr>
              <p:cNvPr id="13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272120" y="4794120"/>
                <a:ext cx="3124080" cy="190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"/>
              <p:cNvSpPr/>
              <p:nvPr/>
            </p:nvSpPr>
            <p:spPr>
              <a:xfrm>
                <a:off x="4194720" y="6051600"/>
                <a:ext cx="111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66"/>
                    </a:solidFill>
                    <a:latin typeface="Times New Roman"/>
                  </a:rPr>
                  <a:t>inflated</a:t>
                </a:r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8164440" y="5168880"/>
              <a:ext cx="16876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Curvature 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buClr>
                  <a:srgbClr val="fd1414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d1414"/>
                  </a:solidFill>
                  <a:latin typeface="Times New Roman"/>
                </a:rPr>
                <a:t>SULCUS (+)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buClr>
                  <a:srgbClr val="00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ff00"/>
                  </a:solidFill>
                  <a:latin typeface="Times New Roman"/>
                </a:rPr>
                <a:t>GYRUS (-)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09680" y="974880"/>
            <a:ext cx="45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heet: 2D Coordinate System (X,Y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29440" y="853920"/>
            <a:ext cx="45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phere: 2D Coordinate System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Latitude and Longitude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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ontinuous, no cu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Value at each point (eg, thicknes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87320" y="1355760"/>
            <a:ext cx="3047760" cy="3048120"/>
            <a:chOff x="787320" y="1355760"/>
            <a:chExt cx="3047760" cy="3048120"/>
          </a:xfrm>
        </p:grpSpPr>
        <p:sp>
          <p:nvSpPr>
            <p:cNvPr id="137" name=""/>
            <p:cNvSpPr/>
            <p:nvPr/>
          </p:nvSpPr>
          <p:spPr>
            <a:xfrm>
              <a:off x="2349360" y="1355760"/>
              <a:ext cx="0" cy="304812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7320" y="2891160"/>
              <a:ext cx="3047760" cy="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650760" y="2381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1960" y="11937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372360" y="2405160"/>
            <a:ext cx="2438280" cy="2743200"/>
            <a:chOff x="6372360" y="2405160"/>
            <a:chExt cx="2438280" cy="2743200"/>
          </a:xfrm>
        </p:grpSpPr>
        <p:sp>
          <p:nvSpPr>
            <p:cNvPr id="142" name=""/>
            <p:cNvSpPr/>
            <p:nvPr/>
          </p:nvSpPr>
          <p:spPr>
            <a:xfrm>
              <a:off x="7591320" y="4295880"/>
              <a:ext cx="0" cy="852480"/>
            </a:xfrm>
            <a:prstGeom prst="line">
              <a:avLst/>
            </a:prstGeom>
            <a:ln w="38160">
              <a:solidFill>
                <a:srgbClr val="1004f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4"/>
            <a:srcRect l="0" t="2105" r="0" b="0"/>
            <a:stretch/>
          </p:blipFill>
          <p:spPr>
            <a:xfrm>
              <a:off x="6372360" y="2604960"/>
              <a:ext cx="2438280" cy="221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6524640" y="3548160"/>
              <a:ext cx="2133000" cy="380880"/>
            </a:xfrm>
            <a:prstGeom prst="ellipse">
              <a:avLst/>
            </a:prstGeom>
            <a:noFill/>
            <a:ln w="38160">
              <a:solidFill>
                <a:srgbClr val="1004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91320" y="2405160"/>
              <a:ext cx="0" cy="1052280"/>
            </a:xfrm>
            <a:prstGeom prst="line">
              <a:avLst/>
            </a:prstGeom>
            <a:ln w="38160">
              <a:solidFill>
                <a:srgbClr val="1004f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pic>
          <p:nvPicPr>
            <p:cNvPr id="146" name="" descr=""/>
            <p:cNvPicPr/>
            <p:nvPr/>
          </p:nvPicPr>
          <p:blipFill>
            <a:blip r:embed="rId5"/>
            <a:srcRect l="0" t="6316" r="0" b="48421"/>
            <a:stretch/>
          </p:blipFill>
          <p:spPr>
            <a:xfrm>
              <a:off x="6372360" y="2698560"/>
              <a:ext cx="2438280" cy="10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8200800" y="3298680"/>
              <a:ext cx="101160" cy="540000"/>
            </a:xfrm>
            <a:custGeom>
              <a:avLst/>
              <a:gdLst/>
              <a:ahLst/>
              <a:rect l="l" t="t" r="r" b="b"/>
              <a:pathLst>
                <a:path w="352" h="720">
                  <a:moveTo>
                    <a:pt x="0" y="0"/>
                  </a:moveTo>
                  <a:cubicBezTo>
                    <a:pt x="52" y="28"/>
                    <a:pt x="104" y="56"/>
                    <a:pt x="144" y="96"/>
                  </a:cubicBezTo>
                  <a:cubicBezTo>
                    <a:pt x="184" y="136"/>
                    <a:pt x="208" y="160"/>
                    <a:pt x="240" y="240"/>
                  </a:cubicBezTo>
                  <a:cubicBezTo>
                    <a:pt x="272" y="320"/>
                    <a:pt x="320" y="496"/>
                    <a:pt x="336" y="576"/>
                  </a:cubicBezTo>
                  <a:cubicBezTo>
                    <a:pt x="352" y="656"/>
                    <a:pt x="344" y="688"/>
                    <a:pt x="336" y="72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67640" y="3832200"/>
              <a:ext cx="609120" cy="88920"/>
            </a:xfrm>
            <a:custGeom>
              <a:avLst/>
              <a:gdLst/>
              <a:ahLst/>
              <a:rect l="l" t="t" r="r" b="b"/>
              <a:pathLst>
                <a:path w="384" h="56">
                  <a:moveTo>
                    <a:pt x="0" y="48"/>
                  </a:moveTo>
                  <a:cubicBezTo>
                    <a:pt x="88" y="52"/>
                    <a:pt x="176" y="56"/>
                    <a:pt x="240" y="48"/>
                  </a:cubicBezTo>
                  <a:cubicBezTo>
                    <a:pt x="304" y="40"/>
                    <a:pt x="344" y="20"/>
                    <a:pt x="384" y="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29520" y="3203640"/>
              <a:ext cx="75600" cy="759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7439040" y="3651120"/>
              <a:ext cx="456840" cy="530280"/>
              <a:chOff x="7439040" y="3651120"/>
              <a:chExt cx="456840" cy="530280"/>
            </a:xfrm>
          </p:grpSpPr>
          <p:sp>
            <p:nvSpPr>
              <p:cNvPr id="151" name=""/>
              <p:cNvSpPr/>
              <p:nvPr/>
            </p:nvSpPr>
            <p:spPr>
              <a:xfrm>
                <a:off x="7673040" y="3651120"/>
                <a:ext cx="0" cy="530280"/>
              </a:xfrm>
              <a:prstGeom prst="line">
                <a:avLst/>
              </a:prstGeom>
              <a:ln w="38160">
                <a:solidFill>
                  <a:srgbClr val="04e3fa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439040" y="3918240"/>
                <a:ext cx="456840" cy="0"/>
              </a:xfrm>
              <a:prstGeom prst="line">
                <a:avLst/>
              </a:prstGeom>
              <a:ln w="38160">
                <a:solidFill>
                  <a:srgbClr val="04e3fa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7897680" y="383220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73880" y="329868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470320" y="304920"/>
            <a:ext cx="61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lumetric Intersubject Registration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000680" y="1143000"/>
            <a:ext cx="6174360" cy="3657600"/>
            <a:chOff x="4000680" y="1143000"/>
            <a:chExt cx="6174360" cy="365760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rcRect l="22305" t="14601" r="26077" b="17284"/>
            <a:stretch/>
          </p:blipFill>
          <p:spPr>
            <a:xfrm>
              <a:off x="4000680" y="1218960"/>
              <a:ext cx="2941200" cy="358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" name=""/>
            <p:cNvGrpSpPr/>
            <p:nvPr/>
          </p:nvGrpSpPr>
          <p:grpSpPr>
            <a:xfrm>
              <a:off x="7073640" y="1143000"/>
              <a:ext cx="3101400" cy="3627000"/>
              <a:chOff x="7073640" y="1143000"/>
              <a:chExt cx="3101400" cy="3627000"/>
            </a:xfrm>
          </p:grpSpPr>
          <p:pic>
            <p:nvPicPr>
              <p:cNvPr id="159" name="" descr=""/>
              <p:cNvPicPr/>
              <p:nvPr/>
            </p:nvPicPr>
            <p:blipFill>
              <a:blip r:embed="rId2"/>
              <a:srcRect l="22026" t="14601" r="24109" b="17284"/>
              <a:stretch/>
            </p:blipFill>
            <p:spPr>
              <a:xfrm>
                <a:off x="7105320" y="1143000"/>
                <a:ext cx="3069720" cy="356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>
                <a:off x="7073640" y="1652040"/>
                <a:ext cx="1078920" cy="89064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289280" y="3879360"/>
                <a:ext cx="1078920" cy="890640"/>
              </a:xfrm>
              <a:prstGeom prst="ellipse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66760" y="1066680"/>
            <a:ext cx="6705720" cy="52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Affine/Linear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Translat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Rotat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tretch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hea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(12 DOF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Match Intensity, Voxel-by-Voxe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Problem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Can use nonlinear volumetric (cf CVS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924360" y="1219320"/>
            <a:ext cx="3048120" cy="3047760"/>
            <a:chOff x="3924360" y="1219320"/>
            <a:chExt cx="3048120" cy="3047760"/>
          </a:xfrm>
        </p:grpSpPr>
        <p:sp>
          <p:nvSpPr>
            <p:cNvPr id="164" name=""/>
            <p:cNvSpPr/>
            <p:nvPr/>
          </p:nvSpPr>
          <p:spPr>
            <a:xfrm>
              <a:off x="5486400" y="1219320"/>
              <a:ext cx="0" cy="304776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24360" y="2754360"/>
              <a:ext cx="3048120" cy="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412520" y="1701360"/>
              <a:ext cx="2224080" cy="208368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048440" y="1066680"/>
            <a:ext cx="3048120" cy="3047760"/>
            <a:chOff x="7048440" y="1066680"/>
            <a:chExt cx="3048120" cy="3047760"/>
          </a:xfrm>
        </p:grpSpPr>
        <p:sp>
          <p:nvSpPr>
            <p:cNvPr id="168" name=""/>
            <p:cNvSpPr/>
            <p:nvPr/>
          </p:nvSpPr>
          <p:spPr>
            <a:xfrm>
              <a:off x="8610480" y="1066680"/>
              <a:ext cx="0" cy="304776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48440" y="2601720"/>
              <a:ext cx="3048120" cy="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7536600" y="1548720"/>
              <a:ext cx="2224080" cy="2083680"/>
            </a:xfrm>
            <a:prstGeom prst="line">
              <a:avLst/>
            </a:prstGeom>
            <a:ln w="38160">
              <a:solidFill>
                <a:srgbClr val="04e3f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23600" y="-18288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rface-based Intersubject Registration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9880" y="6269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152960" y="838080"/>
            <a:ext cx="3047760" cy="3504960"/>
            <a:chOff x="4152960" y="838080"/>
            <a:chExt cx="3047760" cy="3504960"/>
          </a:xfrm>
        </p:grpSpPr>
        <p:grpSp>
          <p:nvGrpSpPr>
            <p:cNvPr id="174" name=""/>
            <p:cNvGrpSpPr/>
            <p:nvPr/>
          </p:nvGrpSpPr>
          <p:grpSpPr>
            <a:xfrm>
              <a:off x="4152960" y="1295280"/>
              <a:ext cx="3047760" cy="3047760"/>
              <a:chOff x="4152960" y="1295280"/>
              <a:chExt cx="3047760" cy="3047760"/>
            </a:xfrm>
          </p:grpSpPr>
          <p:pic>
            <p:nvPicPr>
              <p:cNvPr id="17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513320" y="1483920"/>
                <a:ext cx="2506680" cy="2449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6" name=""/>
              <p:cNvGrpSpPr/>
              <p:nvPr/>
            </p:nvGrpSpPr>
            <p:grpSpPr>
              <a:xfrm>
                <a:off x="4152960" y="1295280"/>
                <a:ext cx="3047760" cy="3047760"/>
                <a:chOff x="4152960" y="1295280"/>
                <a:chExt cx="3047760" cy="30477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5715000" y="1295280"/>
                  <a:ext cx="0" cy="3047760"/>
                </a:xfrm>
                <a:prstGeom prst="line">
                  <a:avLst/>
                </a:prstGeom>
                <a:ln w="38160">
                  <a:solidFill>
                    <a:srgbClr val="04e3fa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152960" y="2830320"/>
                  <a:ext cx="3047760" cy="0"/>
                </a:xfrm>
                <a:prstGeom prst="line">
                  <a:avLst/>
                </a:prstGeom>
                <a:ln w="38160">
                  <a:solidFill>
                    <a:srgbClr val="04e3fa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9" name=""/>
            <p:cNvSpPr/>
            <p:nvPr/>
          </p:nvSpPr>
          <p:spPr>
            <a:xfrm>
              <a:off x="5219280" y="838080"/>
              <a:ext cx="113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Subject 2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60560" y="685800"/>
            <a:ext cx="3933360" cy="3414240"/>
            <a:chOff x="160560" y="685800"/>
            <a:chExt cx="3933360" cy="3414240"/>
          </a:xfrm>
        </p:grpSpPr>
        <p:grpSp>
          <p:nvGrpSpPr>
            <p:cNvPr id="181" name=""/>
            <p:cNvGrpSpPr/>
            <p:nvPr/>
          </p:nvGrpSpPr>
          <p:grpSpPr>
            <a:xfrm>
              <a:off x="160560" y="1310040"/>
              <a:ext cx="3933360" cy="2790000"/>
              <a:chOff x="160560" y="1310040"/>
              <a:chExt cx="3933360" cy="2790000"/>
            </a:xfrm>
          </p:grpSpPr>
          <p:pic>
            <p:nvPicPr>
              <p:cNvPr id="18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200" y="1405440"/>
                <a:ext cx="3491280" cy="2419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3" name=""/>
              <p:cNvGrpSpPr/>
              <p:nvPr/>
            </p:nvGrpSpPr>
            <p:grpSpPr>
              <a:xfrm>
                <a:off x="160560" y="1310040"/>
                <a:ext cx="3933360" cy="2790000"/>
                <a:chOff x="160560" y="1310040"/>
                <a:chExt cx="3933360" cy="279000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1604880" y="1310040"/>
                  <a:ext cx="1134000" cy="2790000"/>
                </a:xfrm>
                <a:prstGeom prst="line">
                  <a:avLst/>
                </a:prstGeom>
                <a:ln w="38160">
                  <a:solidFill>
                    <a:srgbClr val="04e3fa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V="1">
                  <a:off x="160560" y="1935720"/>
                  <a:ext cx="3933360" cy="1598760"/>
                </a:xfrm>
                <a:prstGeom prst="line">
                  <a:avLst/>
                </a:prstGeom>
                <a:ln w="38160">
                  <a:solidFill>
                    <a:srgbClr val="04e3fa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6" name=""/>
            <p:cNvSpPr/>
            <p:nvPr/>
          </p:nvSpPr>
          <p:spPr>
            <a:xfrm>
              <a:off x="1828440" y="685800"/>
              <a:ext cx="113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Times New Roman"/>
                </a:rPr>
                <a:t>Subject 1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27120" y="4572000"/>
            <a:ext cx="891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ranslate,  Rotate,  Stretch,  Shear (12 DO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Match Curvature, Vertex-by-Vertex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Nonlinear Stretching (“Morphing”) allowed (area regularization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ctually done on spher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pherical Morph”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50480" y="1905120"/>
            <a:ext cx="2818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urvature “Intensity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d141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d1414"/>
                </a:solidFill>
                <a:latin typeface="Times New Roman"/>
              </a:rPr>
              <a:t>SULCUS (+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GYRUS (-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Codes folding patter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757760" y="5769000"/>
            <a:ext cx="4800600" cy="1089000"/>
            <a:chOff x="4757760" y="5769000"/>
            <a:chExt cx="4800600" cy="1089000"/>
          </a:xfrm>
        </p:grpSpPr>
        <p:pic>
          <p:nvPicPr>
            <p:cNvPr id="190" name="" descr=""/>
            <p:cNvPicPr/>
            <p:nvPr/>
          </p:nvPicPr>
          <p:blipFill>
            <a:blip r:embed="rId3"/>
            <a:stretch/>
          </p:blipFill>
          <p:spPr>
            <a:xfrm>
              <a:off x="8415360" y="5796000"/>
              <a:ext cx="1143000" cy="10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4"/>
            <a:stretch/>
          </p:blipFill>
          <p:spPr>
            <a:xfrm>
              <a:off x="6510240" y="5769000"/>
              <a:ext cx="1785960" cy="10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5"/>
            <a:stretch/>
          </p:blipFill>
          <p:spPr>
            <a:xfrm>
              <a:off x="4757760" y="5846760"/>
              <a:ext cx="1752480" cy="1011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3T23:11:17Z</dcterms:created>
  <dc:creator>marc burock</dc:creator>
  <dc:description/>
  <cp:keywords/>
  <dc:language>en-US</dc:language>
  <cp:lastModifiedBy>greve</cp:lastModifiedBy>
  <dcterms:modified xsi:type="dcterms:W3CDTF">2009-05-28T20:08:28Z</dcterms:modified>
  <cp:revision>982</cp:revision>
  <dc:subject/>
  <dc:title>Understanding Differential Responses in fMRI Through Linear Simulation</dc:title>
</cp:coreProperties>
</file>