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288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898200" y="701280"/>
            <a:ext cx="52038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ed Design gives context for ER. RP-ER brings problem of schedu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ed Design gives context for ER. RP-ER brings problem of schedu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890640" y="696960"/>
            <a:ext cx="5219640" cy="34812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890640" y="696960"/>
            <a:ext cx="5219640" cy="34812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ed Design gives context for ER. RP-ER brings problem of schedu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81560" y="646128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Surface-based Group Analysis                                                                          </a:t>
            </a:r>
            <a:fld id="{2C508D1D-86B4-4E19-A91C-24EDDA6A7BF3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739960" cy="365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781360" y="5105520"/>
            <a:ext cx="4809960" cy="810720"/>
            <a:chOff x="2781360" y="5105520"/>
            <a:chExt cx="4809960" cy="81072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591000" y="510552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2781360" y="511488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802080" y="6019920"/>
            <a:ext cx="86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urfer.nmr.mgh.harvard.edu/docs/ftp/pub/docs/freesurfer.groupanalysis.pdf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0484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D surface-based smoothing (eg, fwhm = 10 mm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56040" y="3505320"/>
            <a:ext cx="536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mprove CN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mprove inter-subject 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re forgiving than volume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eneral Linear Model (GLM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32920" y="1600200"/>
            <a:ext cx="3287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-tes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aired t-tes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-tes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OV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COV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OV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COV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ultiple Regress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205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71320" y="1143000"/>
            <a:ext cx="4199400" cy="3218400"/>
            <a:chOff x="571320" y="1143000"/>
            <a:chExt cx="4199400" cy="3218400"/>
          </a:xfrm>
        </p:grpSpPr>
        <p:sp>
          <p:nvSpPr>
            <p:cNvPr id="226" name=""/>
            <p:cNvSpPr/>
            <p:nvPr/>
          </p:nvSpPr>
          <p:spPr>
            <a:xfrm>
              <a:off x="800280" y="182880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333800" y="175248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 rot="21465000">
              <a:off x="2095200" y="274212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29800" y="129528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15960" y="213372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1320" y="11430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78080" y="35053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72400" y="1828800"/>
              <a:ext cx="3428280" cy="2532600"/>
              <a:chOff x="572400" y="1828800"/>
              <a:chExt cx="3428280" cy="2532600"/>
            </a:xfrm>
          </p:grpSpPr>
          <p:sp>
            <p:nvSpPr>
              <p:cNvPr id="234" name=""/>
              <p:cNvSpPr/>
              <p:nvPr/>
            </p:nvSpPr>
            <p:spPr>
              <a:xfrm>
                <a:off x="1257480" y="182880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952920" y="373392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14680" y="228600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05200" y="331020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05200" y="251460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781720" y="304812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86800" y="39625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53840" y="39625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2400" y="31244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72400" y="228600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38720" y="243864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705400" y="323388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 flipV="1">
              <a:off x="2629080" y="259092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14000" y="449568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753160" y="1828800"/>
            <a:ext cx="3048840" cy="963000"/>
            <a:chOff x="5753160" y="1828800"/>
            <a:chExt cx="3048840" cy="963000"/>
          </a:xfrm>
        </p:grpSpPr>
        <p:sp>
          <p:nvSpPr>
            <p:cNvPr id="249" name=""/>
            <p:cNvSpPr/>
            <p:nvPr/>
          </p:nvSpPr>
          <p:spPr>
            <a:xfrm>
              <a:off x="5830200" y="18446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73560" y="18446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753160" y="1898640"/>
              <a:ext cx="74520" cy="838080"/>
              <a:chOff x="5753160" y="1898640"/>
              <a:chExt cx="74520" cy="838080"/>
            </a:xfrm>
          </p:grpSpPr>
          <p:sp>
            <p:nvSpPr>
              <p:cNvPr id="252" name=""/>
              <p:cNvSpPr/>
              <p:nvPr/>
            </p:nvSpPr>
            <p:spPr>
              <a:xfrm>
                <a:off x="5770080" y="18986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53160" y="27367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53160" y="189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972120" y="1898640"/>
              <a:ext cx="74520" cy="838080"/>
              <a:chOff x="6972120" y="1898640"/>
              <a:chExt cx="74520" cy="838080"/>
            </a:xfrm>
          </p:grpSpPr>
          <p:sp>
            <p:nvSpPr>
              <p:cNvPr id="256" name=""/>
              <p:cNvSpPr/>
              <p:nvPr/>
            </p:nvSpPr>
            <p:spPr>
              <a:xfrm>
                <a:off x="6989040" y="18986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72120" y="27367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72120" y="189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8343720" y="1828800"/>
              <a:ext cx="458280" cy="947160"/>
              <a:chOff x="8343720" y="1828800"/>
              <a:chExt cx="458280" cy="947160"/>
            </a:xfrm>
          </p:grpSpPr>
          <p:sp>
            <p:nvSpPr>
              <p:cNvPr id="260" name=""/>
              <p:cNvSpPr/>
              <p:nvPr/>
            </p:nvSpPr>
            <p:spPr>
              <a:xfrm>
                <a:off x="8345520" y="18288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8343720" y="1882800"/>
                <a:ext cx="74520" cy="838080"/>
                <a:chOff x="8343720" y="1882800"/>
                <a:chExt cx="74520" cy="8380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8360640" y="1882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343720" y="27208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343720" y="18828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8724600" y="1882800"/>
                <a:ext cx="74520" cy="838080"/>
                <a:chOff x="8724600" y="1882800"/>
                <a:chExt cx="74520" cy="838080"/>
              </a:xfrm>
            </p:grpSpPr>
            <p:sp>
              <p:nvSpPr>
                <p:cNvPr id="266" name=""/>
                <p:cNvSpPr/>
                <p:nvPr/>
              </p:nvSpPr>
              <p:spPr>
                <a:xfrm flipV="1">
                  <a:off x="8782200" y="1882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8724600" y="18828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>
                  <a:off x="8724600" y="27208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7810200" y="1898640"/>
              <a:ext cx="74520" cy="838080"/>
              <a:chOff x="7810200" y="1898640"/>
              <a:chExt cx="74520" cy="83808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7867800" y="18986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810200" y="189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7810200" y="27367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286320" y="1898640"/>
              <a:ext cx="76320" cy="838080"/>
              <a:chOff x="6286320" y="1898640"/>
              <a:chExt cx="76320" cy="83808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6345000" y="18986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286320" y="18986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286320" y="2736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6439680" y="20350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87600" y="2035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531400" y="358128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22040" y="1219320"/>
            <a:ext cx="34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rix Formul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72160" y="4800600"/>
            <a:ext cx="303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679880" y="3505320"/>
            <a:ext cx="1274760" cy="947160"/>
            <a:chOff x="7679880" y="3505320"/>
            <a:chExt cx="1274760" cy="947160"/>
          </a:xfrm>
        </p:grpSpPr>
        <p:grpSp>
          <p:nvGrpSpPr>
            <p:cNvPr id="283" name=""/>
            <p:cNvGrpSpPr/>
            <p:nvPr/>
          </p:nvGrpSpPr>
          <p:grpSpPr>
            <a:xfrm>
              <a:off x="8496360" y="3505320"/>
              <a:ext cx="458280" cy="947160"/>
              <a:chOff x="8496360" y="3505320"/>
              <a:chExt cx="458280" cy="947160"/>
            </a:xfrm>
          </p:grpSpPr>
          <p:sp>
            <p:nvSpPr>
              <p:cNvPr id="284" name=""/>
              <p:cNvSpPr/>
              <p:nvPr/>
            </p:nvSpPr>
            <p:spPr>
              <a:xfrm>
                <a:off x="8498160" y="35053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8496360" y="3559320"/>
                <a:ext cx="74520" cy="838080"/>
                <a:chOff x="8496360" y="3559320"/>
                <a:chExt cx="74520" cy="8380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8513280" y="35593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96360" y="43974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496360" y="35593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8877240" y="3559320"/>
                <a:ext cx="74520" cy="838080"/>
                <a:chOff x="8877240" y="3559320"/>
                <a:chExt cx="74520" cy="838080"/>
              </a:xfrm>
            </p:grpSpPr>
            <p:sp>
              <p:nvSpPr>
                <p:cNvPr id="290" name=""/>
                <p:cNvSpPr/>
                <p:nvPr/>
              </p:nvSpPr>
              <p:spPr>
                <a:xfrm flipV="1">
                  <a:off x="8934840" y="35593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8877240" y="35593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8877240" y="43974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7679880" y="35812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92120" y="624852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42320" y="114300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52200" y="3200400"/>
            <a:ext cx="4199400" cy="3218400"/>
            <a:chOff x="952200" y="3200400"/>
            <a:chExt cx="4199400" cy="3218400"/>
          </a:xfrm>
        </p:grpSpPr>
        <p:sp>
          <p:nvSpPr>
            <p:cNvPr id="298" name=""/>
            <p:cNvSpPr/>
            <p:nvPr/>
          </p:nvSpPr>
          <p:spPr>
            <a:xfrm>
              <a:off x="1181160" y="388620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714680" y="380988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21465000">
              <a:off x="2476080" y="479952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10680" y="335268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96840" y="419112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52200" y="32004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8960" y="55627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953280" y="3886200"/>
              <a:ext cx="3428280" cy="2532600"/>
              <a:chOff x="953280" y="3886200"/>
              <a:chExt cx="3428280" cy="2532600"/>
            </a:xfrm>
          </p:grpSpPr>
          <p:sp>
            <p:nvSpPr>
              <p:cNvPr id="306" name=""/>
              <p:cNvSpPr/>
              <p:nvPr/>
            </p:nvSpPr>
            <p:spPr>
              <a:xfrm>
                <a:off x="1638360" y="388620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33800" y="579132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95560" y="434340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6080" y="536760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6080" y="457200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62600" y="510552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67680" y="6019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34720" y="6019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53280" y="51818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953280" y="434340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19600" y="449604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86280" y="529128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 flipV="1">
              <a:off x="3009960" y="464832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78640" y="3124080"/>
            <a:ext cx="2516760" cy="1343520"/>
            <a:chOff x="5678640" y="3124080"/>
            <a:chExt cx="2516760" cy="1343520"/>
          </a:xfrm>
        </p:grpSpPr>
        <p:sp>
          <p:nvSpPr>
            <p:cNvPr id="320" name=""/>
            <p:cNvSpPr/>
            <p:nvPr/>
          </p:nvSpPr>
          <p:spPr>
            <a:xfrm>
              <a:off x="5678640" y="31240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7657920" y="3276360"/>
              <a:ext cx="537480" cy="1191240"/>
              <a:chOff x="7657920" y="3276360"/>
              <a:chExt cx="537480" cy="1191240"/>
            </a:xfrm>
          </p:grpSpPr>
          <p:sp>
            <p:nvSpPr>
              <p:cNvPr id="322" name=""/>
              <p:cNvSpPr/>
              <p:nvPr/>
            </p:nvSpPr>
            <p:spPr>
              <a:xfrm>
                <a:off x="7659720" y="32763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657920" y="3352320"/>
                <a:ext cx="74520" cy="990720"/>
                <a:chOff x="7657920" y="3352320"/>
                <a:chExt cx="74520" cy="9907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674840" y="33523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657920" y="43430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657920" y="33523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8115120" y="3352320"/>
                <a:ext cx="76320" cy="990720"/>
                <a:chOff x="8115120" y="3352320"/>
                <a:chExt cx="76320" cy="990720"/>
              </a:xfrm>
            </p:grpSpPr>
            <p:sp>
              <p:nvSpPr>
                <p:cNvPr id="328" name=""/>
                <p:cNvSpPr/>
                <p:nvPr/>
              </p:nvSpPr>
              <p:spPr>
                <a:xfrm flipV="1">
                  <a:off x="8173800" y="33523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>
                  <a:off x="8115120" y="33523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8115120" y="43430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1" name=""/>
          <p:cNvGrpSpPr/>
          <p:nvPr/>
        </p:nvGrpSpPr>
        <p:grpSpPr>
          <a:xfrm>
            <a:off x="5532840" y="4648320"/>
            <a:ext cx="3045600" cy="807840"/>
            <a:chOff x="5532840" y="4648320"/>
            <a:chExt cx="3045600" cy="807840"/>
          </a:xfrm>
        </p:grpSpPr>
        <p:sp>
          <p:nvSpPr>
            <p:cNvPr id="332" name=""/>
            <p:cNvSpPr/>
            <p:nvPr/>
          </p:nvSpPr>
          <p:spPr>
            <a:xfrm>
              <a:off x="5532840" y="475272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83400" y="4648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73240" y="55627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8365680" y="3276720"/>
            <a:ext cx="1274760" cy="947160"/>
            <a:chOff x="8365680" y="3276720"/>
            <a:chExt cx="1274760" cy="947160"/>
          </a:xfrm>
        </p:grpSpPr>
        <p:grpSp>
          <p:nvGrpSpPr>
            <p:cNvPr id="336" name=""/>
            <p:cNvGrpSpPr/>
            <p:nvPr/>
          </p:nvGrpSpPr>
          <p:grpSpPr>
            <a:xfrm>
              <a:off x="9182160" y="3276720"/>
              <a:ext cx="458280" cy="947160"/>
              <a:chOff x="9182160" y="3276720"/>
              <a:chExt cx="458280" cy="947160"/>
            </a:xfrm>
          </p:grpSpPr>
          <p:sp>
            <p:nvSpPr>
              <p:cNvPr id="337" name=""/>
              <p:cNvSpPr/>
              <p:nvPr/>
            </p:nvSpPr>
            <p:spPr>
              <a:xfrm>
                <a:off x="9183960" y="32767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9182160" y="3330720"/>
                <a:ext cx="74520" cy="838080"/>
                <a:chOff x="9182160" y="3330720"/>
                <a:chExt cx="74520" cy="8380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9199080" y="33307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9182160" y="41688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9182160" y="33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563040" y="3330720"/>
                <a:ext cx="74520" cy="838080"/>
                <a:chOff x="9563040" y="3330720"/>
                <a:chExt cx="74520" cy="838080"/>
              </a:xfrm>
            </p:grpSpPr>
            <p:sp>
              <p:nvSpPr>
                <p:cNvPr id="343" name=""/>
                <p:cNvSpPr/>
                <p:nvPr/>
              </p:nvSpPr>
              <p:spPr>
                <a:xfrm flipV="1">
                  <a:off x="9620640" y="33307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9563040" y="33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9563040" y="41688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8365680" y="33526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53160" y="4267080"/>
            <a:ext cx="259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350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354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358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362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366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370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374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988600" y="380988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95000" y="1143000"/>
            <a:ext cx="4199400" cy="2971800"/>
            <a:chOff x="495000" y="1143000"/>
            <a:chExt cx="4199400" cy="2971800"/>
          </a:xfrm>
        </p:grpSpPr>
        <p:sp>
          <p:nvSpPr>
            <p:cNvPr id="381" name=""/>
            <p:cNvSpPr/>
            <p:nvPr/>
          </p:nvSpPr>
          <p:spPr>
            <a:xfrm>
              <a:off x="723960" y="182880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257480" y="175248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 rot="21465000">
              <a:off x="2018880" y="274212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53480" y="129528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39640" y="213372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000" y="11430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01760" y="35053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81160" y="182880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6600" y="3733920"/>
              <a:ext cx="30477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62400" y="2438280"/>
              <a:ext cx="152280" cy="1526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29080" y="3233880"/>
              <a:ext cx="152280" cy="15228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552760" y="259092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86280" y="2971800"/>
              <a:ext cx="152280" cy="15228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43280" y="3124080"/>
              <a:ext cx="152280" cy="1526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95560" y="2514600"/>
              <a:ext cx="152640" cy="15228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33800" y="2666880"/>
              <a:ext cx="152280" cy="1526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607280" y="4648320"/>
            <a:ext cx="487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st Matrix Stays Same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= [0 1]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402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403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435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41160" y="4495680"/>
            <a:ext cx="340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453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17440" y="1311120"/>
              <a:ext cx="2046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x11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x12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0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0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457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461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465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469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473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479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>
            <a:off x="6064920" y="41148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485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506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510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514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518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524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526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530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536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538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542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5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9536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SGDF = FreeSurfer Group Descriptor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81160" y="2895480"/>
            <a:ext cx="670572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1520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30320" y="58672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640" y="16765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566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568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lh.thickness.sm10.mgh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1680" y="167364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 dos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at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14600" y="1676520"/>
            <a:ext cx="465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res.mgh – residual error 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360" y="4342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48240" y="3733920"/>
            <a:ext cx="3124440" cy="76176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12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27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04852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3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2000" y="1295280"/>
            <a:ext cx="888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ve – data caching (recon-all –qcach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48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qdec-display.jpg"/>
          <p:cNvPicPr/>
          <p:nvPr/>
        </p:nvPicPr>
        <p:blipFill>
          <a:blip r:embed="rId1"/>
          <a:stretch/>
        </p:blipFill>
        <p:spPr>
          <a:xfrm>
            <a:off x="1104840" y="163440"/>
            <a:ext cx="72392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qdec-results2.jpg"/>
          <p:cNvPicPr/>
          <p:nvPr/>
        </p:nvPicPr>
        <p:blipFill>
          <a:blip r:embed="rId1"/>
          <a:stretch/>
        </p:blipFill>
        <p:spPr>
          <a:xfrm>
            <a:off x="952560" y="228600"/>
            <a:ext cx="85564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onte Carlo simulation.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Gaussian Random Fields (GRF) – coming “soon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60640" y="4429080"/>
            <a:ext cx="6580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ri_glmfit …. –sim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nulltype nsim thresh csdbasenam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nulltype: perm, mc-full, mc-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nsim: 10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thresh: vertex-wise threshold (-log10(p)), eg, p=.01, thresh=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csdbasename: file to save cluster simulation data (CSD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mri_surfcluster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2360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actic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333080" y="18288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 study of ag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0 subjec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QDEC table and level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lay with dat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668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671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674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28280" y="0"/>
            <a:ext cx="6944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-Subject Averag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9480" y="1447920"/>
            <a:ext cx="1886040" cy="1673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57520" y="2133720"/>
            <a:ext cx="6858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57520" y="4191120"/>
            <a:ext cx="6858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257880" y="1828800"/>
            <a:ext cx="599760" cy="701640"/>
            <a:chOff x="6257880" y="1828800"/>
            <a:chExt cx="599760" cy="701640"/>
          </a:xfrm>
        </p:grpSpPr>
        <p:sp>
          <p:nvSpPr>
            <p:cNvPr id="61" name=""/>
            <p:cNvSpPr/>
            <p:nvPr/>
          </p:nvSpPr>
          <p:spPr>
            <a:xfrm>
              <a:off x="6257880" y="1951200"/>
              <a:ext cx="599760" cy="457200"/>
            </a:xfrm>
            <a:prstGeom prst="ellipse">
              <a:avLst/>
            </a:prstGeom>
            <a:noFill/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91360" y="1828800"/>
              <a:ext cx="184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943680" y="2133720"/>
            <a:ext cx="60012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400720" y="2514240"/>
            <a:ext cx="942840" cy="16765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00720" y="2133720"/>
            <a:ext cx="771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72680" y="3200400"/>
            <a:ext cx="0" cy="9144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542960" y="5334120"/>
            <a:ext cx="85320" cy="609120"/>
            <a:chOff x="1542960" y="5334120"/>
            <a:chExt cx="85320" cy="609120"/>
          </a:xfrm>
        </p:grpSpPr>
        <p:sp>
          <p:nvSpPr>
            <p:cNvPr id="68" name=""/>
            <p:cNvSpPr/>
            <p:nvPr/>
          </p:nvSpPr>
          <p:spPr>
            <a:xfrm>
              <a:off x="1542960" y="533412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556236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42960" y="579096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86160" y="5334120"/>
            <a:ext cx="85320" cy="609120"/>
            <a:chOff x="4286160" y="5334120"/>
            <a:chExt cx="85320" cy="609120"/>
          </a:xfrm>
        </p:grpSpPr>
        <p:sp>
          <p:nvSpPr>
            <p:cNvPr id="72" name=""/>
            <p:cNvSpPr/>
            <p:nvPr/>
          </p:nvSpPr>
          <p:spPr>
            <a:xfrm>
              <a:off x="4286160" y="533412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86160" y="556236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6160" y="579096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rot="16200000">
            <a:off x="-317880" y="19569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bject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432360" y="40143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bject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990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83160" y="8380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pheric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97960" y="9144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pheric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42720" y="533412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rface-to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4000" y="327672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rface-to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1680" y="1523880"/>
            <a:ext cx="2095200" cy="127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90840" y="1371600"/>
            <a:ext cx="1905120" cy="1768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680" y="3581280"/>
            <a:ext cx="2095200" cy="127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390840" y="3352680"/>
            <a:ext cx="1905120" cy="176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734240" y="4191120"/>
            <a:ext cx="1836720" cy="1904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54600" y="1143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99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111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123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 label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151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15880" y="3124080"/>
            <a:ext cx="257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 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2720" y="91440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381560" y="4648320"/>
            <a:ext cx="2257200" cy="1371600"/>
            <a:chOff x="4381560" y="4648320"/>
            <a:chExt cx="2257200" cy="137160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4381560" y="4648320"/>
              <a:ext cx="2257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262560" y="5545800"/>
              <a:ext cx="322200" cy="3164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048440" y="4495680"/>
            <a:ext cx="2067120" cy="1843200"/>
          </a:xfrm>
          <a:prstGeom prst="rect">
            <a:avLst/>
          </a:prstGeom>
          <a:ln w="28440">
            <a:solidFill>
              <a:srgbClr val="cba033"/>
            </a:solidFill>
            <a:miter/>
          </a:ln>
        </p:spPr>
      </p:pic>
      <p:sp>
        <p:nvSpPr>
          <p:cNvPr id="185" name=""/>
          <p:cNvSpPr/>
          <p:nvPr/>
        </p:nvSpPr>
        <p:spPr>
          <a:xfrm flipV="1">
            <a:off x="6591240" y="4495680"/>
            <a:ext cx="457200" cy="1067040"/>
          </a:xfrm>
          <a:prstGeom prst="line">
            <a:avLst/>
          </a:prstGeom>
          <a:ln w="28440">
            <a:solidFill>
              <a:srgbClr val="cba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91240" y="5867280"/>
            <a:ext cx="457200" cy="457200"/>
          </a:xfrm>
          <a:prstGeom prst="line">
            <a:avLst/>
          </a:prstGeom>
          <a:ln w="28440">
            <a:solidFill>
              <a:srgbClr val="cba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20440" y="533520"/>
            <a:ext cx="5969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Manual”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09760" y="1371600"/>
            <a:ext cx="754380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che In/Out with –cache-xxx op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02-01-08T12:57:04Z</dcterms:modified>
  <cp:revision>697</cp:revision>
  <dc:subject/>
  <dc:title>Understanding Differential Responses in fMRI Through Linear Simulation</dc:title>
</cp:coreProperties>
</file>