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Applying FreeSurfer Tools to FSL fMRI Analysis                                                 </a:t>
            </a:r>
            <a:fld id="{D26DB27B-F019-4938-B882-1B0B78B305E3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tion-Structure Integration in Free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2476440" y="2895480"/>
            <a:ext cx="4809960" cy="811440"/>
            <a:chOff x="2476440" y="2895480"/>
            <a:chExt cx="4809960" cy="81144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3286080" y="2895480"/>
              <a:ext cx="40003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476440" y="2905200"/>
              <a:ext cx="7491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157" t="10413" r="9517" b="14584"/>
          <a:stretch/>
        </p:blipFill>
        <p:spPr>
          <a:xfrm>
            <a:off x="3314880" y="121932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6600" y="520380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$FREESURFER_HOME/FreeSurferColorsLUT.tx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040" y="1219320"/>
            <a:ext cx="256860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19840" y="1219320"/>
            <a:ext cx="256860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97960" y="3962520"/>
            <a:ext cx="24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parc+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2800" y="4038480"/>
            <a:ext cx="219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.a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4000" y="39625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1295280"/>
            <a:ext cx="6095880" cy="459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aseg2feat --feat fbert.fea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–aseg aparc+ase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80" y="1905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 the functional FOV, cre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seg+apar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3352680"/>
            <a:ext cx="784872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 Text Summary Table (nvox, mean cope, std cope, et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segstats --seg fbert1.feat/reg/freesurfer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aparc+aseg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nonempty --ctab-default --in fbert.feat/stats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cope1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m 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fbert1.sum.txt</a:t>
            </a:r>
            <a:r>
              <a:rPr b="0" lang="e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9360" y="5257800"/>
            <a:ext cx="42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summarize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ke and View RO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3886200"/>
            <a:ext cx="6476760" cy="1618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kmedit bert orig.mgz -aux brain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 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-reg ./fbert1.feat/reg/freesurfer/anat2exf.register.da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fthresh 0.5  -seg aparc+aseg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48440" y="1066680"/>
            <a:ext cx="264168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240" y="1295280"/>
            <a:ext cx="582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ke a binary mask of the left putame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ote: 12 = Left Putamen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$FREESURFER_HOME/FreeSurferColorsLUT.tx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slmath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aparc+aseg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thr 12 -uthr 12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ithin-Subject, Cross-Run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144792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each run with FEAT (dataX.feat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 runs with GFEAT (standard spa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ean_func.nii.gz – avg of example_func in std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ach run (not .gfeat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with reg-feat2anat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ataX.feat/reg/freesurfer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nat2std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ll runs (X) should be very clo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3440" y="4114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y the regist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register2 –mov data.gfeat/mean_func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reg anat2std.register.dat --sur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320" y="5562720"/>
            <a:ext cx="94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se anat2std.register.dat the way you would anat2exf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989280"/>
            <a:ext cx="95248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mris_preproc --out lh.cope1.nii.gz --target fsaverage --hemi lh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 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</a:t>
            </a: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0360" y="4419720"/>
            <a:ext cx="99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h.cope1.nii.gz – “volume-encoded surface file”:  dim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1974 x 1 x 83 = 16384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dim nframes = number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map any functional data, eg, zstat, fzstat, cope, pe, et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fsaverage – defines common space (spherical surfac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(FreeSurfer),  randomise (FSL),  flame (FSL),  melodic (FS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4000" y="3657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4880" y="36576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egist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52760" y="297144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58080" y="304776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 Da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nsory-motor study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cked Design (15sec OFF, 15 sec O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subject – “bert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runs (TR=3, 85 time poin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EAT has been run on both runs (FWHM=5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d with GFEA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F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ctually, all analysis steps already performed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8191440" y="3733920"/>
            <a:ext cx="14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8455" t="17777" r="19269" b="31110"/>
          <a:stretch/>
        </p:blipFill>
        <p:spPr>
          <a:xfrm>
            <a:off x="7734240" y="304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2872" t="22262" r="2275" b="22087"/>
          <a:stretch/>
        </p:blipFill>
        <p:spPr>
          <a:xfrm>
            <a:off x="7505640" y="2209680"/>
            <a:ext cx="2514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94489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utomatic registration (&lt;5 mi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on subject’s anatomy (aparc+aseg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with 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p aparc+aseg to Functional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erify GFEA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GFEAT results in volume and on surf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igher-Level” analysis with mri_glmfi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oss-Ru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xed-Effects (FFX), 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71000" y="53352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52560" y="1600200"/>
            <a:ext cx="83818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gistering FEAT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FreeSurfer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(FLIR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(tkregister2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ewing FEAT output on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FEAT output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on Surface Space (Atlas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saverag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pping FreeSurfer Segmentations to FE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oup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4760" y="12114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52560" y="3505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24760" y="350676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680" y="838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3656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07664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076640" y="3514680"/>
            <a:ext cx="2203560" cy="228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7760" y="5881680"/>
            <a:ext cx="91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is suffici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to register the template to the surfac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00480" y="609480"/>
            <a:ext cx="49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1905120"/>
            <a:ext cx="320040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62640" y="1828800"/>
            <a:ext cx="3581640" cy="2282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r Data/Softwa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MRI (FSL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EG/M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8680" y="2514600"/>
            <a:ext cx="2666880" cy="1066680"/>
          </a:xfrm>
          <a:prstGeom prst="leftRightArrow">
            <a:avLst>
              <a:gd name="adj1" fmla="val 50000"/>
              <a:gd name="adj2" fmla="val 49772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5280" y="4343400"/>
            <a:ext cx="491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 4x4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xt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828440"/>
            <a:ext cx="7162920" cy="609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-feat2anat –featdir fbert1.feat –subject 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49320" y="2505240"/>
            <a:ext cx="56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FLIRT to perform 6DOF registra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example_fun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$SUBJECTS_DIR/bert/mri/brainmask.m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1400" y="3789360"/>
            <a:ext cx="62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eates FreeSurfer registration matrix: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080" y="6189840"/>
            <a:ext cx="29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reg-feat2anat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8280" y="10936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First: analyze your data with FEAT (No Smoothing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3080" y="473724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so creates:  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std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s matrix maps standard space to anatomical space and can be used when combining data within subject across data 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38360" y="2676600"/>
            <a:ext cx="5019480" cy="346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81960" y="11430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81960" y="35053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256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18800" y="1143000"/>
            <a:ext cx="422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-feat2anat –feat fbert.feat --manu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53360" y="4038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53360" y="1752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24160" y="41911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33840" y="41911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43880" y="2057400"/>
            <a:ext cx="91440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2057400"/>
            <a:ext cx="114300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34290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38960" y="2895480"/>
            <a:ext cx="330336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iewing Functional Activation on the Volum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04840" y="1143000"/>
            <a:ext cx="858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medit bert orig.mgz -aux brain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 ./fbert1.feat/stats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zstat1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-reg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fthresh 2.3 –fmax 4.3  -seg aparc+aseg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560" y="3657600"/>
            <a:ext cx="47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s depend on the nature of the data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for zstat image, 2.3 means z &gt; 2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be changed with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Functional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4440" y="243828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20" y="53244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6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ewing FEAT Stats on the Surfa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760" y="1219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tksurfer bert rh infl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lay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 ./f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feat/stats/</a:t>
            </a:r>
            <a:r>
              <a:rPr b="0" lang="pl-PL" sz="2400" spc="-1" strike="noStrike">
                <a:solidFill>
                  <a:srgbClr val="fd1414"/>
                </a:solidFill>
                <a:latin typeface="Times New Roman"/>
              </a:rPr>
              <a:t>zstat1.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verlay-re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fthresh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mi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slop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01080" y="3200400"/>
            <a:ext cx="2651040" cy="273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95680" y="274320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8680" y="41148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Douglas Greve</dc:creator>
  <dc:description/>
  <cp:keywords/>
  <dc:language>en-US</dc:language>
  <cp:lastModifiedBy>greve</cp:lastModifiedBy>
  <dcterms:modified xsi:type="dcterms:W3CDTF">2007-08-16T18:32:01Z</dcterms:modified>
  <cp:revision>576</cp:revision>
  <dc:subject/>
  <dc:title>Function-Structure Integration in FreeSurfer</dc:title>
</cp:coreProperties>
</file>