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901440" y="700200"/>
            <a:ext cx="5195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01800" y="70020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how many data points you have, there is still only one slope and one inter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3880" y="695160"/>
            <a:ext cx="5214960" cy="347688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893880" y="695160"/>
            <a:ext cx="5214960" cy="347688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01800" y="70020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901800" y="70020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B043-C3A4-4D6A-89B9-AFB6BF1E9A8C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728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680" y="1752480"/>
            <a:ext cx="944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ay Matter-to-Gray Matter (it’s all gray matter!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yrus-to-Gyrus and Sulcus-to-Sulcus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ome minor folding patterns won’t line u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y automated, no landmarking need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tlas registration is probabilistic, most variable regions get less weight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one in recon-all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atial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9920" y="1752480"/>
            <a:ext cx="9249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hould you smooth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ight Improve CN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mprove intersubject registration (functional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ow much smoothing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ob-s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ypically 10-20 mm FWHM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 smoothing more forgiving than 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0880" y="11430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voxe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1090440" y="1198440"/>
            <a:ext cx="2896920" cy="3299040"/>
            <a:chOff x="1090440" y="1198440"/>
            <a:chExt cx="2896920" cy="3299040"/>
          </a:xfrm>
        </p:grpSpPr>
        <p:grpSp>
          <p:nvGrpSpPr>
            <p:cNvPr id="175" name=""/>
            <p:cNvGrpSpPr/>
            <p:nvPr/>
          </p:nvGrpSpPr>
          <p:grpSpPr>
            <a:xfrm>
              <a:off x="1090440" y="1600200"/>
              <a:ext cx="2896920" cy="2897280"/>
              <a:chOff x="1090440" y="1600200"/>
              <a:chExt cx="2896920" cy="2897280"/>
            </a:xfrm>
          </p:grpSpPr>
          <p:sp>
            <p:nvSpPr>
              <p:cNvPr id="176" name=""/>
              <p:cNvSpPr/>
              <p:nvPr/>
            </p:nvSpPr>
            <p:spPr>
              <a:xfrm>
                <a:off x="1814040" y="2324160"/>
                <a:ext cx="1447200" cy="144792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2347200" y="2857680"/>
                <a:ext cx="380880" cy="380880"/>
                <a:chOff x="2347200" y="2857680"/>
                <a:chExt cx="380880" cy="3808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347200" y="3048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2537640" y="285768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1090440" y="1600200"/>
                <a:ext cx="2896920" cy="2897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927440" y="19810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7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21880" y="11984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14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24560" y="15238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5 mm apart in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5 mm apart on surface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Kernel much larg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tissue types (WM, CS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functional area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2308320" y="2857680"/>
            <a:ext cx="380880" cy="380880"/>
            <a:chOff x="2308320" y="2857680"/>
            <a:chExt cx="380880" cy="380880"/>
          </a:xfrm>
        </p:grpSpPr>
        <p:sp>
          <p:nvSpPr>
            <p:cNvPr id="188" name=""/>
            <p:cNvSpPr/>
            <p:nvPr/>
          </p:nvSpPr>
          <p:spPr>
            <a:xfrm>
              <a:off x="2308320" y="304812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498760" y="285768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50840" y="1600200"/>
            <a:ext cx="2897280" cy="2897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562040" y="2514600"/>
            <a:ext cx="380880" cy="380880"/>
            <a:chOff x="1562040" y="2514600"/>
            <a:chExt cx="380880" cy="380880"/>
          </a:xfrm>
        </p:grpSpPr>
        <p:sp>
          <p:nvSpPr>
            <p:cNvPr id="192" name=""/>
            <p:cNvSpPr/>
            <p:nvPr/>
          </p:nvSpPr>
          <p:spPr>
            <a:xfrm>
              <a:off x="1562040" y="270504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752480" y="251460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939960" y="2743200"/>
            <a:ext cx="1536480" cy="2019240"/>
          </a:xfrm>
          <a:custGeom>
            <a:avLst/>
            <a:gdLst/>
            <a:ahLst/>
            <a:rect l="l" t="t" r="r" b="b"/>
            <a:pathLst>
              <a:path w="968" h="1272">
                <a:moveTo>
                  <a:pt x="488" y="0"/>
                </a:moveTo>
                <a:cubicBezTo>
                  <a:pt x="488" y="164"/>
                  <a:pt x="488" y="328"/>
                  <a:pt x="440" y="432"/>
                </a:cubicBezTo>
                <a:cubicBezTo>
                  <a:pt x="392" y="536"/>
                  <a:pt x="272" y="536"/>
                  <a:pt x="200" y="624"/>
                </a:cubicBezTo>
                <a:cubicBezTo>
                  <a:pt x="128" y="712"/>
                  <a:pt x="16" y="856"/>
                  <a:pt x="8" y="960"/>
                </a:cubicBezTo>
                <a:cubicBezTo>
                  <a:pt x="0" y="1064"/>
                  <a:pt x="64" y="1224"/>
                  <a:pt x="152" y="1248"/>
                </a:cubicBezTo>
                <a:cubicBezTo>
                  <a:pt x="240" y="1272"/>
                  <a:pt x="448" y="1184"/>
                  <a:pt x="536" y="1104"/>
                </a:cubicBezTo>
                <a:cubicBezTo>
                  <a:pt x="624" y="1024"/>
                  <a:pt x="632" y="872"/>
                  <a:pt x="680" y="768"/>
                </a:cubicBezTo>
                <a:cubicBezTo>
                  <a:pt x="728" y="664"/>
                  <a:pt x="776" y="576"/>
                  <a:pt x="824" y="480"/>
                </a:cubicBezTo>
                <a:cubicBezTo>
                  <a:pt x="872" y="384"/>
                  <a:pt x="920" y="288"/>
                  <a:pt x="968" y="192"/>
                </a:cubicBezTo>
              </a:path>
            </a:pathLst>
          </a:custGeom>
          <a:noFill/>
          <a:ln w="57240">
            <a:solidFill>
              <a:srgbClr val="04e3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8560" y="120636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4mm FWH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4480" y="3770280"/>
            <a:ext cx="4597200" cy="3017520"/>
            <a:chOff x="114480" y="3770280"/>
            <a:chExt cx="4597200" cy="301752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1079640" y="377028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48760" y="5820120"/>
              <a:ext cx="170928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9880" y="62679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64440" y="583380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81720" y="393228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5720" y="529992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357640" y="416196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354840" y="560412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830240" y="5332320"/>
              <a:ext cx="60372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948600" y="507060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4480" y="4680360"/>
              <a:ext cx="115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44480" y="513000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286680" y="3886200"/>
            <a:ext cx="2438280" cy="2265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41640" y="320040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46080" y="32004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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486080" y="4343400"/>
            <a:ext cx="533160" cy="533520"/>
            <a:chOff x="1486080" y="4343400"/>
            <a:chExt cx="533160" cy="533520"/>
          </a:xfrm>
        </p:grpSpPr>
        <p:sp>
          <p:nvSpPr>
            <p:cNvPr id="214" name=""/>
            <p:cNvSpPr/>
            <p:nvPr/>
          </p:nvSpPr>
          <p:spPr>
            <a:xfrm>
              <a:off x="1619280" y="44766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717200" y="4574880"/>
              <a:ext cx="69840" cy="69840"/>
              <a:chOff x="1717200" y="4574880"/>
              <a:chExt cx="69840" cy="69840"/>
            </a:xfrm>
          </p:grpSpPr>
          <p:sp>
            <p:nvSpPr>
              <p:cNvPr id="216" name=""/>
              <p:cNvSpPr/>
              <p:nvPr/>
            </p:nvSpPr>
            <p:spPr>
              <a:xfrm>
                <a:off x="1717200" y="4609800"/>
                <a:ext cx="6984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1752120" y="45748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1486080" y="4343400"/>
              <a:ext cx="53316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124760" y="4800600"/>
            <a:ext cx="533520" cy="533520"/>
            <a:chOff x="7124760" y="4800600"/>
            <a:chExt cx="533520" cy="533520"/>
          </a:xfrm>
        </p:grpSpPr>
        <p:sp>
          <p:nvSpPr>
            <p:cNvPr id="220" name=""/>
            <p:cNvSpPr/>
            <p:nvPr/>
          </p:nvSpPr>
          <p:spPr>
            <a:xfrm>
              <a:off x="7257960" y="49338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356240" y="5032080"/>
              <a:ext cx="70200" cy="69840"/>
              <a:chOff x="7356240" y="5032080"/>
              <a:chExt cx="70200" cy="69840"/>
            </a:xfrm>
          </p:grpSpPr>
          <p:sp>
            <p:nvSpPr>
              <p:cNvPr id="222" name=""/>
              <p:cNvSpPr/>
              <p:nvPr/>
            </p:nvSpPr>
            <p:spPr>
              <a:xfrm>
                <a:off x="7356240" y="5067000"/>
                <a:ext cx="7020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7391160" y="50320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7124760" y="4800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-266760" y="9907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vert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535640" y="837720"/>
            <a:ext cx="5486040" cy="2210040"/>
            <a:chOff x="4535640" y="837720"/>
            <a:chExt cx="5486040" cy="2210040"/>
          </a:xfrm>
        </p:grpSpPr>
        <p:grpSp>
          <p:nvGrpSpPr>
            <p:cNvPr id="227" name=""/>
            <p:cNvGrpSpPr/>
            <p:nvPr/>
          </p:nvGrpSpPr>
          <p:grpSpPr>
            <a:xfrm>
              <a:off x="4535640" y="1020960"/>
              <a:ext cx="2615760" cy="1644480"/>
              <a:chOff x="4535640" y="1020960"/>
              <a:chExt cx="2615760" cy="1644480"/>
            </a:xfrm>
          </p:grpSpPr>
          <p:pic>
            <p:nvPicPr>
              <p:cNvPr id="2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35640" y="1020960"/>
                <a:ext cx="261576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6715080" y="2096640"/>
                <a:ext cx="373680" cy="37980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7626240" y="838080"/>
              <a:ext cx="2395440" cy="220968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231" name=""/>
            <p:cNvSpPr/>
            <p:nvPr/>
          </p:nvSpPr>
          <p:spPr>
            <a:xfrm flipV="1">
              <a:off x="7096320" y="837720"/>
              <a:ext cx="529560" cy="127908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6320" y="2482560"/>
              <a:ext cx="529560" cy="54792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52200" y="990360"/>
            <a:ext cx="8163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he General Linear Model (GLM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80080" y="3581280"/>
            <a:ext cx="15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RF Amplitud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Q, Height, Weight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72680" y="556272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42320" y="114300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80080" y="243828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able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10680" y="2362320"/>
            <a:ext cx="4265640" cy="2967840"/>
            <a:chOff x="3010680" y="2362320"/>
            <a:chExt cx="4265640" cy="2967840"/>
          </a:xfrm>
        </p:grpSpPr>
        <p:sp>
          <p:nvSpPr>
            <p:cNvPr id="240" name=""/>
            <p:cNvSpPr/>
            <p:nvPr/>
          </p:nvSpPr>
          <p:spPr>
            <a:xfrm>
              <a:off x="3863160" y="2362320"/>
              <a:ext cx="0" cy="256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84080" y="4656240"/>
              <a:ext cx="3792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31960" y="2912760"/>
              <a:ext cx="0" cy="198036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73800" y="4145760"/>
              <a:ext cx="265500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73800" y="3187800"/>
              <a:ext cx="104256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60000" y="3830400"/>
              <a:ext cx="0" cy="110088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4828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7632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10680" y="3922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10680" y="291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37640" y="30963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64960" y="40539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279760" y="24526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10000" y="31240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686120" y="2743200"/>
            <a:ext cx="60948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905440" y="3505320"/>
            <a:ext cx="533520" cy="4572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14520" y="19051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54440" y="4419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119800" y="5486400"/>
            <a:ext cx="13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course, you’d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more then tw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s …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nea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95000" y="762120"/>
            <a:ext cx="4199400" cy="3218400"/>
            <a:chOff x="495000" y="762120"/>
            <a:chExt cx="4199400" cy="3218400"/>
          </a:xfrm>
        </p:grpSpPr>
        <p:sp>
          <p:nvSpPr>
            <p:cNvPr id="261" name=""/>
            <p:cNvSpPr/>
            <p:nvPr/>
          </p:nvSpPr>
          <p:spPr>
            <a:xfrm>
              <a:off x="723960" y="14479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257480" y="13716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 rot="21465000">
              <a:off x="2018880" y="23612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53480" y="9144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39640" y="17528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5000" y="7621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01760" y="31244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496080" y="1447920"/>
              <a:ext cx="3428280" cy="2532600"/>
              <a:chOff x="496080" y="1447920"/>
              <a:chExt cx="3428280" cy="2532600"/>
            </a:xfrm>
          </p:grpSpPr>
          <p:sp>
            <p:nvSpPr>
              <p:cNvPr id="269" name=""/>
              <p:cNvSpPr/>
              <p:nvPr/>
            </p:nvSpPr>
            <p:spPr>
              <a:xfrm>
                <a:off x="1181160" y="14479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76600" y="33530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638360" y="19051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028880" y="29293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028880" y="21337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05400" y="26672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1048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47752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96080" y="27435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96080" y="19051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562400" y="20577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29080" y="28530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 flipV="1">
              <a:off x="2552760" y="22100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986000" y="990720"/>
            <a:ext cx="472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of Linear Equ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60000" y="482616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522040" y="2649600"/>
            <a:ext cx="3405600" cy="1572480"/>
            <a:chOff x="5522040" y="2649600"/>
            <a:chExt cx="3405600" cy="1572480"/>
          </a:xfrm>
        </p:grpSpPr>
        <p:grpSp>
          <p:nvGrpSpPr>
            <p:cNvPr id="285" name=""/>
            <p:cNvGrpSpPr/>
            <p:nvPr/>
          </p:nvGrpSpPr>
          <p:grpSpPr>
            <a:xfrm>
              <a:off x="5753160" y="3259080"/>
              <a:ext cx="3048840" cy="963000"/>
              <a:chOff x="5753160" y="3259080"/>
              <a:chExt cx="3048840" cy="963000"/>
            </a:xfrm>
          </p:grpSpPr>
          <p:sp>
            <p:nvSpPr>
              <p:cNvPr id="286" name=""/>
              <p:cNvSpPr/>
              <p:nvPr/>
            </p:nvSpPr>
            <p:spPr>
              <a:xfrm>
                <a:off x="5830200" y="32749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973560" y="3274920"/>
                <a:ext cx="892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5753160" y="3328920"/>
                <a:ext cx="74520" cy="838080"/>
                <a:chOff x="5753160" y="3328920"/>
                <a:chExt cx="74520" cy="8380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77008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75316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75316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6972120" y="3328920"/>
                <a:ext cx="74520" cy="838080"/>
                <a:chOff x="6972120" y="3328920"/>
                <a:chExt cx="74520" cy="8380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98904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97212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97212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8343720" y="3259080"/>
                <a:ext cx="458280" cy="947160"/>
                <a:chOff x="8343720" y="3259080"/>
                <a:chExt cx="458280" cy="9471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8345520" y="3259080"/>
                  <a:ext cx="456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m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8343720" y="3313080"/>
                  <a:ext cx="74520" cy="838080"/>
                  <a:chOff x="8343720" y="3313080"/>
                  <a:chExt cx="74520" cy="83808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836064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834372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834372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8724600" y="3313080"/>
                  <a:ext cx="74520" cy="838080"/>
                  <a:chOff x="8724600" y="3313080"/>
                  <a:chExt cx="74520" cy="838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V="1">
                    <a:off x="878220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>
                    <a:off x="872460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>
                    <a:off x="872460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" name=""/>
              <p:cNvGrpSpPr/>
              <p:nvPr/>
            </p:nvGrpSpPr>
            <p:grpSpPr>
              <a:xfrm>
                <a:off x="7810200" y="3328920"/>
                <a:ext cx="74520" cy="838080"/>
                <a:chOff x="7810200" y="3328920"/>
                <a:chExt cx="74520" cy="838080"/>
              </a:xfrm>
            </p:grpSpPr>
            <p:sp>
              <p:nvSpPr>
                <p:cNvPr id="307" name=""/>
                <p:cNvSpPr/>
                <p:nvPr/>
              </p:nvSpPr>
              <p:spPr>
                <a:xfrm flipV="1">
                  <a:off x="78678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781020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781020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6286320" y="3328920"/>
                <a:ext cx="76320" cy="838080"/>
                <a:chOff x="6286320" y="3328920"/>
                <a:chExt cx="76320" cy="838080"/>
              </a:xfrm>
            </p:grpSpPr>
            <p:sp>
              <p:nvSpPr>
                <p:cNvPr id="311" name=""/>
                <p:cNvSpPr/>
                <p:nvPr/>
              </p:nvSpPr>
              <p:spPr>
                <a:xfrm flipV="1">
                  <a:off x="63450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6286320" y="33289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6286320" y="416700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6439680" y="3465360"/>
                <a:ext cx="41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887600" y="3465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5522040" y="2649600"/>
              <a:ext cx="34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atrix Formulation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63520" y="4343400"/>
            <a:ext cx="359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Regression Coeffici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“betas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Intercepts and Slop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beta.mgh (mri_glmfi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908480" y="4749840"/>
            <a:ext cx="1274760" cy="947160"/>
            <a:chOff x="7908480" y="4749840"/>
            <a:chExt cx="1274760" cy="947160"/>
          </a:xfrm>
        </p:grpSpPr>
        <p:grpSp>
          <p:nvGrpSpPr>
            <p:cNvPr id="319" name=""/>
            <p:cNvGrpSpPr/>
            <p:nvPr/>
          </p:nvGrpSpPr>
          <p:grpSpPr>
            <a:xfrm>
              <a:off x="8724960" y="4749840"/>
              <a:ext cx="458280" cy="947160"/>
              <a:chOff x="8724960" y="4749840"/>
              <a:chExt cx="458280" cy="947160"/>
            </a:xfrm>
          </p:grpSpPr>
          <p:sp>
            <p:nvSpPr>
              <p:cNvPr id="320" name=""/>
              <p:cNvSpPr/>
              <p:nvPr/>
            </p:nvSpPr>
            <p:spPr>
              <a:xfrm>
                <a:off x="8726760" y="474984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8724960" y="4803840"/>
                <a:ext cx="74520" cy="838080"/>
                <a:chOff x="8724960" y="4803840"/>
                <a:chExt cx="74520" cy="838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874188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72496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72496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9105840" y="4803840"/>
                <a:ext cx="74520" cy="838080"/>
                <a:chOff x="9105840" y="4803840"/>
                <a:chExt cx="74520" cy="838080"/>
              </a:xfrm>
            </p:grpSpPr>
            <p:sp>
              <p:nvSpPr>
                <p:cNvPr id="326" name=""/>
                <p:cNvSpPr/>
                <p:nvPr/>
              </p:nvSpPr>
              <p:spPr>
                <a:xfrm flipV="1">
                  <a:off x="916344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>
                  <a:off x="910584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>
                  <a:off x="910584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9" name=""/>
            <p:cNvSpPr/>
            <p:nvPr/>
          </p:nvSpPr>
          <p:spPr>
            <a:xfrm>
              <a:off x="7908480" y="482580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87200" y="38862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tercept = Offs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02800" y="59436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bet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potheses and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0720" y="1066680"/>
            <a:ext cx="64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m = 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ll Hypothesis: H0: m=0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71320" y="3276720"/>
            <a:ext cx="4199400" cy="3218400"/>
            <a:chOff x="571320" y="3276720"/>
            <a:chExt cx="4199400" cy="3218400"/>
          </a:xfrm>
        </p:grpSpPr>
        <p:sp>
          <p:nvSpPr>
            <p:cNvPr id="335" name=""/>
            <p:cNvSpPr/>
            <p:nvPr/>
          </p:nvSpPr>
          <p:spPr>
            <a:xfrm>
              <a:off x="800280" y="39625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333800" y="38862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 rot="21465000">
              <a:off x="2095200" y="48758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29800" y="34290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15960" y="42674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1320" y="32767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78080" y="5639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72400" y="3962520"/>
              <a:ext cx="3428280" cy="2532600"/>
              <a:chOff x="572400" y="3962520"/>
              <a:chExt cx="3428280" cy="2532600"/>
            </a:xfrm>
          </p:grpSpPr>
          <p:sp>
            <p:nvSpPr>
              <p:cNvPr id="343" name=""/>
              <p:cNvSpPr/>
              <p:nvPr/>
            </p:nvSpPr>
            <p:spPr>
              <a:xfrm>
                <a:off x="1257480" y="39625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952920" y="58676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14680" y="44197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105200" y="54439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105200" y="46483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781720" y="51818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8680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5384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2400" y="52581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2400" y="4419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38720" y="45723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05400" y="53676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flipV="1">
              <a:off x="2629080" y="47246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358400" y="2666880"/>
            <a:ext cx="2516760" cy="1343520"/>
            <a:chOff x="7358400" y="2666880"/>
            <a:chExt cx="2516760" cy="1343520"/>
          </a:xfrm>
        </p:grpSpPr>
        <p:sp>
          <p:nvSpPr>
            <p:cNvPr id="357" name=""/>
            <p:cNvSpPr/>
            <p:nvPr/>
          </p:nvSpPr>
          <p:spPr>
            <a:xfrm>
              <a:off x="7358400" y="266688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m= [0 1]*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9337680" y="2819160"/>
              <a:ext cx="537480" cy="1191240"/>
              <a:chOff x="9337680" y="2819160"/>
              <a:chExt cx="537480" cy="1191240"/>
            </a:xfrm>
          </p:grpSpPr>
          <p:sp>
            <p:nvSpPr>
              <p:cNvPr id="359" name=""/>
              <p:cNvSpPr/>
              <p:nvPr/>
            </p:nvSpPr>
            <p:spPr>
              <a:xfrm>
                <a:off x="9339480" y="2819160"/>
                <a:ext cx="53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9337680" y="2895120"/>
                <a:ext cx="74520" cy="990720"/>
                <a:chOff x="9337680" y="2895120"/>
                <a:chExt cx="74520" cy="9907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935460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337680" y="3885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337680" y="28951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794880" y="2895120"/>
                <a:ext cx="76320" cy="990720"/>
                <a:chOff x="9794880" y="2895120"/>
                <a:chExt cx="76320" cy="990720"/>
              </a:xfrm>
            </p:grpSpPr>
            <p:sp>
              <p:nvSpPr>
                <p:cNvPr id="365" name=""/>
                <p:cNvSpPr/>
                <p:nvPr/>
              </p:nvSpPr>
              <p:spPr>
                <a:xfrm flipV="1">
                  <a:off x="985356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9794880" y="28951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9794880" y="388584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8" name=""/>
          <p:cNvGrpSpPr/>
          <p:nvPr/>
        </p:nvGrpSpPr>
        <p:grpSpPr>
          <a:xfrm>
            <a:off x="7056720" y="4038480"/>
            <a:ext cx="3045600" cy="808200"/>
            <a:chOff x="7056720" y="4038480"/>
            <a:chExt cx="3045600" cy="808200"/>
          </a:xfrm>
        </p:grpSpPr>
        <p:sp>
          <p:nvSpPr>
            <p:cNvPr id="369" name=""/>
            <p:cNvSpPr/>
            <p:nvPr/>
          </p:nvSpPr>
          <p:spPr>
            <a:xfrm>
              <a:off x="7056720" y="4143240"/>
              <a:ext cx="3045600" cy="703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 C*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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07280" y="40384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5673240" y="502920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[0 1]: Contrast Matri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698440" y="3962520"/>
            <a:ext cx="1274760" cy="947160"/>
            <a:chOff x="5698440" y="3962520"/>
            <a:chExt cx="1274760" cy="947160"/>
          </a:xfrm>
        </p:grpSpPr>
        <p:grpSp>
          <p:nvGrpSpPr>
            <p:cNvPr id="373" name=""/>
            <p:cNvGrpSpPr/>
            <p:nvPr/>
          </p:nvGrpSpPr>
          <p:grpSpPr>
            <a:xfrm>
              <a:off x="6514920" y="3962520"/>
              <a:ext cx="458280" cy="947160"/>
              <a:chOff x="6514920" y="3962520"/>
              <a:chExt cx="458280" cy="947160"/>
            </a:xfrm>
          </p:grpSpPr>
          <p:sp>
            <p:nvSpPr>
              <p:cNvPr id="374" name=""/>
              <p:cNvSpPr/>
              <p:nvPr/>
            </p:nvSpPr>
            <p:spPr>
              <a:xfrm>
                <a:off x="6516720" y="39625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6514920" y="4016520"/>
                <a:ext cx="74160" cy="838080"/>
                <a:chOff x="6514920" y="4016520"/>
                <a:chExt cx="74160" cy="8380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5318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51492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51492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895800" y="4016520"/>
                <a:ext cx="74160" cy="838080"/>
                <a:chOff x="6895800" y="4016520"/>
                <a:chExt cx="74160" cy="838080"/>
              </a:xfrm>
            </p:grpSpPr>
            <p:sp>
              <p:nvSpPr>
                <p:cNvPr id="380" name=""/>
                <p:cNvSpPr/>
                <p:nvPr/>
              </p:nvSpPr>
              <p:spPr>
                <a:xfrm flipV="1">
                  <a:off x="69530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689580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689580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3" name=""/>
            <p:cNvSpPr/>
            <p:nvPr/>
          </p:nvSpPr>
          <p:spPr>
            <a:xfrm>
              <a:off x="5698440" y="40384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972480" y="1143000"/>
            <a:ext cx="3048840" cy="963000"/>
            <a:chOff x="6972480" y="1143000"/>
            <a:chExt cx="3048840" cy="963000"/>
          </a:xfrm>
        </p:grpSpPr>
        <p:sp>
          <p:nvSpPr>
            <p:cNvPr id="385" name=""/>
            <p:cNvSpPr/>
            <p:nvPr/>
          </p:nvSpPr>
          <p:spPr>
            <a:xfrm>
              <a:off x="7049520" y="115884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192880" y="1158840"/>
              <a:ext cx="892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972480" y="1212840"/>
              <a:ext cx="74520" cy="838080"/>
              <a:chOff x="6972480" y="1212840"/>
              <a:chExt cx="74520" cy="838080"/>
            </a:xfrm>
          </p:grpSpPr>
          <p:sp>
            <p:nvSpPr>
              <p:cNvPr id="388" name=""/>
              <p:cNvSpPr/>
              <p:nvPr/>
            </p:nvSpPr>
            <p:spPr>
              <a:xfrm>
                <a:off x="698940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7248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7248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8191440" y="1212840"/>
              <a:ext cx="74520" cy="838080"/>
              <a:chOff x="8191440" y="1212840"/>
              <a:chExt cx="74520" cy="838080"/>
            </a:xfrm>
          </p:grpSpPr>
          <p:sp>
            <p:nvSpPr>
              <p:cNvPr id="392" name=""/>
              <p:cNvSpPr/>
              <p:nvPr/>
            </p:nvSpPr>
            <p:spPr>
              <a:xfrm>
                <a:off x="820836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19144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19144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9563040" y="1143000"/>
              <a:ext cx="458280" cy="947160"/>
              <a:chOff x="9563040" y="1143000"/>
              <a:chExt cx="458280" cy="947160"/>
            </a:xfrm>
          </p:grpSpPr>
          <p:sp>
            <p:nvSpPr>
              <p:cNvPr id="396" name=""/>
              <p:cNvSpPr/>
              <p:nvPr/>
            </p:nvSpPr>
            <p:spPr>
              <a:xfrm>
                <a:off x="9564840" y="114300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97" name=""/>
              <p:cNvGrpSpPr/>
              <p:nvPr/>
            </p:nvGrpSpPr>
            <p:grpSpPr>
              <a:xfrm>
                <a:off x="9563040" y="1197000"/>
                <a:ext cx="74520" cy="838080"/>
                <a:chOff x="9563040" y="1197000"/>
                <a:chExt cx="74520" cy="8380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957996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956304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956304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9943920" y="1197000"/>
                <a:ext cx="74520" cy="838080"/>
                <a:chOff x="9943920" y="1197000"/>
                <a:chExt cx="74520" cy="838080"/>
              </a:xfrm>
            </p:grpSpPr>
            <p:sp>
              <p:nvSpPr>
                <p:cNvPr id="402" name=""/>
                <p:cNvSpPr/>
                <p:nvPr/>
              </p:nvSpPr>
              <p:spPr>
                <a:xfrm flipV="1">
                  <a:off x="1000152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994392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994392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5" name=""/>
            <p:cNvGrpSpPr/>
            <p:nvPr/>
          </p:nvGrpSpPr>
          <p:grpSpPr>
            <a:xfrm>
              <a:off x="9029520" y="1212840"/>
              <a:ext cx="74520" cy="838080"/>
              <a:chOff x="9029520" y="1212840"/>
              <a:chExt cx="74520" cy="838080"/>
            </a:xfrm>
          </p:grpSpPr>
          <p:sp>
            <p:nvSpPr>
              <p:cNvPr id="406" name=""/>
              <p:cNvSpPr/>
              <p:nvPr/>
            </p:nvSpPr>
            <p:spPr>
              <a:xfrm flipV="1">
                <a:off x="90871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902952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902952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7505640" y="1212840"/>
              <a:ext cx="76320" cy="838080"/>
              <a:chOff x="7505640" y="1212840"/>
              <a:chExt cx="76320" cy="838080"/>
            </a:xfrm>
          </p:grpSpPr>
          <p:sp>
            <p:nvSpPr>
              <p:cNvPr id="410" name=""/>
              <p:cNvSpPr/>
              <p:nvPr/>
            </p:nvSpPr>
            <p:spPr>
              <a:xfrm flipV="1">
                <a:off x="75643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7505640" y="12128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7505640" y="20509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7659000" y="1349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106920" y="134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841536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8012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01360" y="59436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gamm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than Two Data Poi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48680" y="4267080"/>
            <a:ext cx="300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3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3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4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4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676840" y="1600200"/>
            <a:ext cx="3049200" cy="1834920"/>
            <a:chOff x="5676840" y="1600200"/>
            <a:chExt cx="3049200" cy="1834920"/>
          </a:xfrm>
        </p:grpSpPr>
        <p:sp>
          <p:nvSpPr>
            <p:cNvPr id="421" name=""/>
            <p:cNvSpPr/>
            <p:nvPr/>
          </p:nvSpPr>
          <p:spPr>
            <a:xfrm>
              <a:off x="5754240" y="1616040"/>
              <a:ext cx="537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97600" y="1616040"/>
              <a:ext cx="8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69560" y="160020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676840" y="1676520"/>
              <a:ext cx="74520" cy="1752120"/>
              <a:chOff x="5676840" y="1676520"/>
              <a:chExt cx="74520" cy="1752120"/>
            </a:xfrm>
          </p:grpSpPr>
          <p:sp>
            <p:nvSpPr>
              <p:cNvPr id="425" name=""/>
              <p:cNvSpPr/>
              <p:nvPr/>
            </p:nvSpPr>
            <p:spPr>
              <a:xfrm>
                <a:off x="5693760" y="1676520"/>
                <a:ext cx="0" cy="1752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76840" y="342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7684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6896160" y="1676520"/>
              <a:ext cx="74520" cy="1758600"/>
              <a:chOff x="6896160" y="1676520"/>
              <a:chExt cx="74520" cy="1758600"/>
            </a:xfrm>
          </p:grpSpPr>
          <p:sp>
            <p:nvSpPr>
              <p:cNvPr id="429" name=""/>
              <p:cNvSpPr/>
              <p:nvPr/>
            </p:nvSpPr>
            <p:spPr>
              <a:xfrm>
                <a:off x="6913080" y="167652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896160" y="34351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89616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8267760" y="1654200"/>
              <a:ext cx="74520" cy="838440"/>
              <a:chOff x="8267760" y="1654200"/>
              <a:chExt cx="74520" cy="838440"/>
            </a:xfrm>
          </p:grpSpPr>
          <p:sp>
            <p:nvSpPr>
              <p:cNvPr id="433" name=""/>
              <p:cNvSpPr/>
              <p:nvPr/>
            </p:nvSpPr>
            <p:spPr>
              <a:xfrm>
                <a:off x="8284680" y="165420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67760" y="2492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267760" y="16542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8648280" y="1653840"/>
              <a:ext cx="74520" cy="838440"/>
              <a:chOff x="8648280" y="1653840"/>
              <a:chExt cx="74520" cy="838440"/>
            </a:xfrm>
          </p:grpSpPr>
          <p:sp>
            <p:nvSpPr>
              <p:cNvPr id="437" name=""/>
              <p:cNvSpPr/>
              <p:nvPr/>
            </p:nvSpPr>
            <p:spPr>
              <a:xfrm flipV="1">
                <a:off x="8705880" y="165384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8648280" y="1653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8648280" y="24922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7734240" y="1670400"/>
              <a:ext cx="76320" cy="1758600"/>
              <a:chOff x="7734240" y="1670400"/>
              <a:chExt cx="76320" cy="1758600"/>
            </a:xfrm>
          </p:grpSpPr>
          <p:sp>
            <p:nvSpPr>
              <p:cNvPr id="441" name=""/>
              <p:cNvSpPr/>
              <p:nvPr/>
            </p:nvSpPr>
            <p:spPr>
              <a:xfrm flipV="1">
                <a:off x="779292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7734240" y="16704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734240" y="34290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6210000" y="1670400"/>
              <a:ext cx="75960" cy="1758600"/>
              <a:chOff x="6210000" y="1670400"/>
              <a:chExt cx="75960" cy="1758600"/>
            </a:xfrm>
          </p:grpSpPr>
          <p:sp>
            <p:nvSpPr>
              <p:cNvPr id="445" name=""/>
              <p:cNvSpPr/>
              <p:nvPr/>
            </p:nvSpPr>
            <p:spPr>
              <a:xfrm flipV="1">
                <a:off x="626868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210000" y="16704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210000" y="34290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363360" y="18068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11640" y="1806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88600" y="36576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3960" y="1828800"/>
            <a:ext cx="2971800" cy="2286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257480" y="1752480"/>
            <a:ext cx="1676160" cy="4572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 rot="21465000">
            <a:off x="2247120" y="2895120"/>
            <a:ext cx="457200" cy="381240"/>
          </a:xfrm>
          <a:prstGeom prst="rtTriangle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53480" y="12952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tercept: 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39640" y="213372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lope: 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95000" y="1143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01400" y="3505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81160" y="1828800"/>
            <a:ext cx="0" cy="2133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76240" y="3733920"/>
            <a:ext cx="3048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62040" y="22096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29080" y="34290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705040" y="2590920"/>
            <a:ext cx="914400" cy="3045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86280" y="29718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43280" y="3124080"/>
            <a:ext cx="15228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95560" y="25146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33440" y="26668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28400" y="4343400"/>
            <a:ext cx="244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odel Err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rvar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409760" y="236232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19240" y="283860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171880" y="256716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162240" y="3047760"/>
            <a:ext cx="0" cy="6858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638360" y="2257560"/>
            <a:ext cx="0" cy="30456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705040" y="3352320"/>
            <a:ext cx="0" cy="1494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86080" y="129528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/Contrast (GLM Theory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-Test and p-val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9320" y="1676520"/>
            <a:ext cx="1851120" cy="7034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 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7120" y="9144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543480" y="99072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715320" y="243828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91040" y="1219320"/>
            <a:ext cx="4953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91040" y="213372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94640" y="1752480"/>
            <a:ext cx="5657760" cy="4367160"/>
            <a:chOff x="494640" y="1752480"/>
            <a:chExt cx="5657760" cy="4367160"/>
          </a:xfrm>
        </p:grpSpPr>
        <p:grpSp>
          <p:nvGrpSpPr>
            <p:cNvPr id="483" name=""/>
            <p:cNvGrpSpPr/>
            <p:nvPr/>
          </p:nvGrpSpPr>
          <p:grpSpPr>
            <a:xfrm>
              <a:off x="494640" y="1752480"/>
              <a:ext cx="5657760" cy="4367160"/>
              <a:chOff x="494640" y="1752480"/>
              <a:chExt cx="5657760" cy="4367160"/>
            </a:xfrm>
          </p:grpSpPr>
          <p:sp>
            <p:nvSpPr>
              <p:cNvPr id="484" name=""/>
              <p:cNvSpPr/>
              <p:nvPr/>
            </p:nvSpPr>
            <p:spPr>
              <a:xfrm>
                <a:off x="804600" y="2772360"/>
                <a:ext cx="4024080" cy="3158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1527120" y="2246040"/>
                <a:ext cx="2063520" cy="1052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 rot="21465000">
                <a:off x="2248560" y="3719880"/>
                <a:ext cx="618840" cy="52560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659320" y="175248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Intercept: b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692520" y="259488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Slope: m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94640" y="1824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hickness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43040" y="5088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23800" y="2772360"/>
                <a:ext cx="0" cy="2948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011600" y="5404680"/>
                <a:ext cx="4127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2868840" y="3088080"/>
                <a:ext cx="1341000" cy="7369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98680" y="3825360"/>
                <a:ext cx="5056200" cy="1368360"/>
              </a:xfrm>
              <a:prstGeom prst="line">
                <a:avLst/>
              </a:prstGeom>
              <a:ln w="572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33840" y="572076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Intercept: b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930920" y="382536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Slope: m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 rot="20162400">
                <a:off x="4208760" y="4534560"/>
                <a:ext cx="618840" cy="52668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4829040" y="4351320"/>
                <a:ext cx="825480" cy="31572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527120" y="4246200"/>
                <a:ext cx="1134720" cy="147420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1594440" y="39232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40080" y="4444560"/>
              <a:ext cx="8424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5548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69960" y="444456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16520" y="479160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7720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46400" y="49654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71800" y="279432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94440" y="357588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86640" y="3402360"/>
              <a:ext cx="84240" cy="86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17080" y="401004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1120" y="42706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69960" y="513900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62160" y="56602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94640" y="1066680"/>
            <a:ext cx="4497480" cy="3270960"/>
            <a:chOff x="494640" y="1066680"/>
            <a:chExt cx="4497480" cy="3270960"/>
          </a:xfrm>
        </p:grpSpPr>
        <p:sp>
          <p:nvSpPr>
            <p:cNvPr id="516" name=""/>
            <p:cNvSpPr/>
            <p:nvPr/>
          </p:nvSpPr>
          <p:spPr>
            <a:xfrm>
              <a:off x="723600" y="1805040"/>
              <a:ext cx="297144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1257120" y="1424160"/>
              <a:ext cx="1523520" cy="761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 rot="21465000">
              <a:off x="1790640" y="248976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93040" y="10666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56240" y="167652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4640" y="11192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01040" y="3481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80800" y="180504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76240" y="3710160"/>
              <a:ext cx="3047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2247840" y="2033640"/>
              <a:ext cx="990000" cy="5335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1320" y="2567160"/>
              <a:ext cx="3733560" cy="99036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83560" y="39387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70640" y="2567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 rot="20162400">
              <a:off x="3238200" y="308124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695400" y="2947680"/>
              <a:ext cx="609480" cy="22860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57120" y="2871720"/>
              <a:ext cx="837720" cy="10670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647640" y="4495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2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143680" y="1219320"/>
            <a:ext cx="4401000" cy="1910520"/>
            <a:chOff x="5143680" y="1219320"/>
            <a:chExt cx="4401000" cy="1910520"/>
          </a:xfrm>
        </p:grpSpPr>
        <p:sp>
          <p:nvSpPr>
            <p:cNvPr id="534" name=""/>
            <p:cNvSpPr/>
            <p:nvPr/>
          </p:nvSpPr>
          <p:spPr>
            <a:xfrm>
              <a:off x="5172840" y="1295280"/>
              <a:ext cx="715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17800" y="1311120"/>
              <a:ext cx="2045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2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973720" y="126972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5143680" y="1371600"/>
              <a:ext cx="74520" cy="1751760"/>
              <a:chOff x="5143680" y="1371600"/>
              <a:chExt cx="74520" cy="1751760"/>
            </a:xfrm>
          </p:grpSpPr>
          <p:sp>
            <p:nvSpPr>
              <p:cNvPr id="538" name=""/>
              <p:cNvSpPr/>
              <p:nvPr/>
            </p:nvSpPr>
            <p:spPr>
              <a:xfrm>
                <a:off x="5160600" y="1371600"/>
                <a:ext cx="0" cy="175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143680" y="312336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436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6515280" y="1371600"/>
              <a:ext cx="74520" cy="1758240"/>
              <a:chOff x="6515280" y="1371600"/>
              <a:chExt cx="74520" cy="1758240"/>
            </a:xfrm>
          </p:grpSpPr>
          <p:sp>
            <p:nvSpPr>
              <p:cNvPr id="542" name=""/>
              <p:cNvSpPr/>
              <p:nvPr/>
            </p:nvSpPr>
            <p:spPr>
              <a:xfrm>
                <a:off x="6532200" y="137160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515280" y="3129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152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8982360" y="1219320"/>
              <a:ext cx="74520" cy="1599480"/>
              <a:chOff x="8982360" y="1219320"/>
              <a:chExt cx="74520" cy="1599480"/>
            </a:xfrm>
          </p:grpSpPr>
          <p:sp>
            <p:nvSpPr>
              <p:cNvPr id="546" name=""/>
              <p:cNvSpPr/>
              <p:nvPr/>
            </p:nvSpPr>
            <p:spPr>
              <a:xfrm>
                <a:off x="8999280" y="121932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982360" y="28188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982360" y="12193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8572680" y="1295280"/>
              <a:ext cx="76320" cy="1758240"/>
              <a:chOff x="8572680" y="1295280"/>
              <a:chExt cx="76320" cy="175824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8631360" y="129528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8572680" y="12952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8572680" y="30535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5829480" y="1365120"/>
              <a:ext cx="76320" cy="1758240"/>
              <a:chOff x="5829480" y="1365120"/>
              <a:chExt cx="76320" cy="1758240"/>
            </a:xfrm>
          </p:grpSpPr>
          <p:sp>
            <p:nvSpPr>
              <p:cNvPr id="554" name=""/>
              <p:cNvSpPr/>
              <p:nvPr/>
            </p:nvSpPr>
            <p:spPr>
              <a:xfrm flipV="1">
                <a:off x="5888160" y="136512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5829480" y="13651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5829480" y="31233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6011280" y="1904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602200" y="129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9439200" y="1219680"/>
              <a:ext cx="75960" cy="1599480"/>
              <a:chOff x="9439200" y="1219680"/>
              <a:chExt cx="75960" cy="1599480"/>
            </a:xfrm>
          </p:grpSpPr>
          <p:sp>
            <p:nvSpPr>
              <p:cNvPr id="560" name=""/>
              <p:cNvSpPr/>
              <p:nvPr/>
            </p:nvSpPr>
            <p:spPr>
              <a:xfrm flipV="1">
                <a:off x="9497880" y="121968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9439200" y="12196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9439200" y="281916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7665120" y="35053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904720" y="4267080"/>
            <a:ext cx="3664800" cy="2407680"/>
            <a:chOff x="5904720" y="4267080"/>
            <a:chExt cx="3664800" cy="2407680"/>
          </a:xfrm>
        </p:grpSpPr>
        <p:sp>
          <p:nvSpPr>
            <p:cNvPr id="566" name=""/>
            <p:cNvSpPr/>
            <p:nvPr/>
          </p:nvSpPr>
          <p:spPr>
            <a:xfrm>
              <a:off x="6075720" y="4783320"/>
              <a:ext cx="2216520" cy="15987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473880" y="4516920"/>
              <a:ext cx="1136520" cy="532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 rot="21465000">
              <a:off x="6870960" y="5263200"/>
              <a:ext cx="340920" cy="26640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96680" y="42670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66200" y="469440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904720" y="43038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520840" y="5956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16640" y="4783320"/>
              <a:ext cx="0" cy="1492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89480" y="6116040"/>
              <a:ext cx="2273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212600" y="4943160"/>
              <a:ext cx="738360" cy="372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62320" y="5316480"/>
              <a:ext cx="2784960" cy="69264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40560" y="62758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348040" y="531648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 rot="20162400">
              <a:off x="7951320" y="5675760"/>
              <a:ext cx="340920" cy="26676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92600" y="5582880"/>
              <a:ext cx="454680" cy="1598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73880" y="5529600"/>
              <a:ext cx="624960" cy="74628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952560" y="12193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=b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-b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54000" y="4952880"/>
            <a:ext cx="424368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(m1+m2)/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553720" y="1066680"/>
            <a:ext cx="71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98320" y="1082520"/>
            <a:ext cx="204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1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2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24560" y="1143000"/>
            <a:ext cx="74520" cy="1752120"/>
            <a:chOff x="5524560" y="1143000"/>
            <a:chExt cx="74520" cy="1752120"/>
          </a:xfrm>
        </p:grpSpPr>
        <p:sp>
          <p:nvSpPr>
            <p:cNvPr id="587" name=""/>
            <p:cNvSpPr/>
            <p:nvPr/>
          </p:nvSpPr>
          <p:spPr>
            <a:xfrm>
              <a:off x="5541480" y="1143000"/>
              <a:ext cx="0" cy="175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24560" y="289512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245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896160" y="1143000"/>
            <a:ext cx="74520" cy="1758600"/>
            <a:chOff x="6896160" y="1143000"/>
            <a:chExt cx="74520" cy="1758600"/>
          </a:xfrm>
        </p:grpSpPr>
        <p:sp>
          <p:nvSpPr>
            <p:cNvPr id="591" name=""/>
            <p:cNvSpPr/>
            <p:nvPr/>
          </p:nvSpPr>
          <p:spPr>
            <a:xfrm>
              <a:off x="6913080" y="114300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96160" y="29016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961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8953560" y="1067040"/>
            <a:ext cx="76320" cy="1758600"/>
            <a:chOff x="8953560" y="1067040"/>
            <a:chExt cx="76320" cy="1758600"/>
          </a:xfrm>
        </p:grpSpPr>
        <p:sp>
          <p:nvSpPr>
            <p:cNvPr id="595" name=""/>
            <p:cNvSpPr/>
            <p:nvPr/>
          </p:nvSpPr>
          <p:spPr>
            <a:xfrm flipV="1">
              <a:off x="9012240" y="106704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953560" y="10670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8953560" y="2825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210360" y="1136880"/>
            <a:ext cx="76320" cy="1758600"/>
            <a:chOff x="6210360" y="1136880"/>
            <a:chExt cx="76320" cy="1758600"/>
          </a:xfrm>
        </p:grpSpPr>
        <p:sp>
          <p:nvSpPr>
            <p:cNvPr id="599" name=""/>
            <p:cNvSpPr/>
            <p:nvPr/>
          </p:nvSpPr>
          <p:spPr>
            <a:xfrm flipV="1">
              <a:off x="6269040" y="113688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210360" y="1136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210360" y="2895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6392160" y="1676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983080" y="1066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9334440" y="990720"/>
            <a:ext cx="591120" cy="1607760"/>
            <a:chOff x="9334440" y="990720"/>
            <a:chExt cx="591120" cy="1607760"/>
          </a:xfrm>
        </p:grpSpPr>
        <p:sp>
          <p:nvSpPr>
            <p:cNvPr id="605" name=""/>
            <p:cNvSpPr/>
            <p:nvPr/>
          </p:nvSpPr>
          <p:spPr>
            <a:xfrm>
              <a:off x="9354600" y="104148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9334440" y="990720"/>
              <a:ext cx="102960" cy="1599840"/>
              <a:chOff x="9334440" y="990720"/>
              <a:chExt cx="102960" cy="1599840"/>
            </a:xfrm>
          </p:grpSpPr>
          <p:sp>
            <p:nvSpPr>
              <p:cNvPr id="607" name=""/>
              <p:cNvSpPr/>
              <p:nvPr/>
            </p:nvSpPr>
            <p:spPr>
              <a:xfrm>
                <a:off x="935820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9334440" y="259056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334440" y="99072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9791640" y="990720"/>
              <a:ext cx="76320" cy="1599840"/>
              <a:chOff x="9791640" y="990720"/>
              <a:chExt cx="76320" cy="1599840"/>
            </a:xfrm>
          </p:grpSpPr>
          <p:sp>
            <p:nvSpPr>
              <p:cNvPr id="611" name=""/>
              <p:cNvSpPr/>
              <p:nvPr/>
            </p:nvSpPr>
            <p:spPr>
              <a:xfrm flipV="1">
                <a:off x="985032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9791640" y="990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9791640" y="25905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"/>
          <p:cNvSpPr/>
          <p:nvPr/>
        </p:nvSpPr>
        <p:spPr>
          <a:xfrm>
            <a:off x="5836320" y="32767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52560" y="30481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=m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-m2=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9258480" y="3124080"/>
            <a:ext cx="590400" cy="1607760"/>
            <a:chOff x="9258480" y="3124080"/>
            <a:chExt cx="590400" cy="1607760"/>
          </a:xfrm>
        </p:grpSpPr>
        <p:sp>
          <p:nvSpPr>
            <p:cNvPr id="617" name=""/>
            <p:cNvSpPr/>
            <p:nvPr/>
          </p:nvSpPr>
          <p:spPr>
            <a:xfrm>
              <a:off x="9277920" y="317484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9258480" y="3124080"/>
              <a:ext cx="102600" cy="1599840"/>
              <a:chOff x="9258480" y="3124080"/>
              <a:chExt cx="102600" cy="1599840"/>
            </a:xfrm>
          </p:grpSpPr>
          <p:sp>
            <p:nvSpPr>
              <p:cNvPr id="619" name=""/>
              <p:cNvSpPr/>
              <p:nvPr/>
            </p:nvSpPr>
            <p:spPr>
              <a:xfrm>
                <a:off x="92822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9258480" y="472392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9258480" y="312408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9714960" y="3124080"/>
              <a:ext cx="75960" cy="1599840"/>
              <a:chOff x="9714960" y="3124080"/>
              <a:chExt cx="75960" cy="1599840"/>
            </a:xfrm>
          </p:grpSpPr>
          <p:sp>
            <p:nvSpPr>
              <p:cNvPr id="623" name=""/>
              <p:cNvSpPr/>
              <p:nvPr/>
            </p:nvSpPr>
            <p:spPr>
              <a:xfrm flipV="1">
                <a:off x="97736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9714960" y="31240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9714960" y="472392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" name=""/>
          <p:cNvSpPr/>
          <p:nvPr/>
        </p:nvSpPr>
        <p:spPr>
          <a:xfrm>
            <a:off x="8308440" y="350532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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 in FreeSurfe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28160" y="2033640"/>
            <a:ext cx="8148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your own design matrix and contrast matri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an FSGD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 creates desig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 still have to specify contra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QDE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discrete variables, 2 levels ma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continuous variab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202760" y="53352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137160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 (FSG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7202880" y="1521000"/>
            <a:ext cx="2821680" cy="1434600"/>
            <a:chOff x="7202880" y="1521000"/>
            <a:chExt cx="2821680" cy="1434600"/>
          </a:xfrm>
        </p:grpSpPr>
        <p:sp>
          <p:nvSpPr>
            <p:cNvPr id="632" name=""/>
            <p:cNvSpPr/>
            <p:nvPr/>
          </p:nvSpPr>
          <p:spPr>
            <a:xfrm>
              <a:off x="7202880" y="1521000"/>
              <a:ext cx="717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afd00"/>
                  </a:solidFill>
                  <a:latin typeface="Times New Roman"/>
                </a:rPr>
                <a:t>}</a:t>
              </a:r>
              <a:endParaRPr b="0" lang="en-US" sz="8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731720" y="211284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recon-all -qcach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ying Subje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99920" y="358128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0996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$SUBJECTS_DI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906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e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6194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nn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24560" y="3505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rgaret   …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1638000" y="23623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3162240" y="2362320"/>
            <a:ext cx="1828800" cy="10666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762080" y="2362320"/>
            <a:ext cx="22860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91040" y="2362320"/>
            <a:ext cx="213372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19040" y="4114800"/>
            <a:ext cx="2219400" cy="990000"/>
            <a:chOff x="419040" y="4114800"/>
            <a:chExt cx="2219400" cy="990000"/>
          </a:xfrm>
        </p:grpSpPr>
        <p:sp>
          <p:nvSpPr>
            <p:cNvPr id="645" name=""/>
            <p:cNvSpPr/>
            <p:nvPr/>
          </p:nvSpPr>
          <p:spPr>
            <a:xfrm>
              <a:off x="1540800" y="4114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9040" y="4609800"/>
              <a:ext cx="2219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2388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089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986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88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737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039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52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90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384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543480" y="4038480"/>
            <a:ext cx="2219040" cy="990000"/>
            <a:chOff x="3543480" y="4038480"/>
            <a:chExt cx="2219040" cy="990000"/>
          </a:xfrm>
        </p:grpSpPr>
        <p:sp>
          <p:nvSpPr>
            <p:cNvPr id="657" name=""/>
            <p:cNvSpPr/>
            <p:nvPr/>
          </p:nvSpPr>
          <p:spPr>
            <a:xfrm>
              <a:off x="46648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434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47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33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0230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2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978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63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29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434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7625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286680" y="4038480"/>
            <a:ext cx="2219040" cy="990000"/>
            <a:chOff x="6286680" y="4038480"/>
            <a:chExt cx="2219040" cy="990000"/>
          </a:xfrm>
        </p:grpSpPr>
        <p:sp>
          <p:nvSpPr>
            <p:cNvPr id="669" name=""/>
            <p:cNvSpPr/>
            <p:nvPr/>
          </p:nvSpPr>
          <p:spPr>
            <a:xfrm>
              <a:off x="74080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866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11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0762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7662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55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41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06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728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86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5057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 flipH="1">
            <a:off x="2836800" y="4038480"/>
            <a:ext cx="20880" cy="13338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714680" y="5372280"/>
            <a:ext cx="2219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719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03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939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84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68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35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0016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714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337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360" y="3429000"/>
            <a:ext cx="2057400" cy="838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00280" y="1752480"/>
            <a:ext cx="457200" cy="1600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040" y="1147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Surfer Directory Tre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921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m   stats     morp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r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rgb  scripts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tiff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lab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    T1    brain     wm     aseg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942840" y="1371600"/>
            <a:ext cx="7972200" cy="914400"/>
            <a:chOff x="942840" y="1371600"/>
            <a:chExt cx="7972200" cy="914400"/>
          </a:xfrm>
        </p:grpSpPr>
        <p:sp>
          <p:nvSpPr>
            <p:cNvPr id="697" name=""/>
            <p:cNvSpPr/>
            <p:nvPr/>
          </p:nvSpPr>
          <p:spPr>
            <a:xfrm>
              <a:off x="4971960" y="13716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42840" y="1828800"/>
              <a:ext cx="79722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1435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720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578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4332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71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719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713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942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9150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 flipV="1">
            <a:off x="857160" y="2666880"/>
            <a:ext cx="342900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400480" y="2666880"/>
            <a:ext cx="19713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514680" y="2666880"/>
            <a:ext cx="8571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184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71840" y="2666880"/>
            <a:ext cx="11145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114200" y="5602320"/>
            <a:ext cx="5374440" cy="4597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JECTS_DIR environment 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124760" y="2666880"/>
            <a:ext cx="0" cy="12193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49480" y="4419720"/>
            <a:ext cx="135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600880" y="447192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812000" y="4495680"/>
            <a:ext cx="203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286680" y="3885840"/>
            <a:ext cx="8571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43680" y="3885840"/>
            <a:ext cx="19713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24760" y="3886200"/>
            <a:ext cx="111420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80128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715520" y="3124080"/>
            <a:ext cx="24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352720" y="91440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5448240" y="1219320"/>
            <a:ext cx="28958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520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design matrix cre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ou must still specify th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grated with tksurf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520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77680" y="60199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81160" y="4191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741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743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067000" y="1371600"/>
                <a:ext cx="14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10520" y="914400"/>
                <a:ext cx="119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4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394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, Cla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76600" y="1905120"/>
            <a:ext cx="86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00280" y="434340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1680" y="1307880"/>
            <a:ext cx="449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at –C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214600" y="1676520"/>
            <a:ext cx="465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s: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5360" y="4342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72280" y="3352680"/>
            <a:ext cx="464796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00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15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94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98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819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820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821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28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smooth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4852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861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863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883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81360" y="533520"/>
            <a:ext cx="3839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9760" y="137160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Subjects and Surface meas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4991760" y="2286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86" name="" descr="qdec-design1.jpg"/>
          <p:cNvPicPr/>
          <p:nvPr/>
        </p:nvPicPr>
        <p:blipFill>
          <a:blip r:embed="rId1"/>
          <a:srcRect l="0" t="0" r="69341" b="22563"/>
          <a:stretch/>
        </p:blipFill>
        <p:spPr>
          <a:xfrm>
            <a:off x="723960" y="304920"/>
            <a:ext cx="3370320" cy="640080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4381560" y="99072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oad QDEC Table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Factors (Discrete and Co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Input (cached)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asure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Contrast Mat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structs Human-Readable Ques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ys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" descr="qdec-display.jpg"/>
          <p:cNvPicPr/>
          <p:nvPr/>
        </p:nvPicPr>
        <p:blipFill>
          <a:blip r:embed="rId1"/>
          <a:stretch/>
        </p:blipFill>
        <p:spPr>
          <a:xfrm>
            <a:off x="1104840" y="163440"/>
            <a:ext cx="72392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" descr="qdec-results2.jpg"/>
          <p:cNvPicPr/>
          <p:nvPr/>
        </p:nvPicPr>
        <p:blipFill>
          <a:blip r:embed="rId1"/>
          <a:stretch/>
        </p:blipFill>
        <p:spPr>
          <a:xfrm>
            <a:off x="952560" y="228600"/>
            <a:ext cx="85564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4728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857680" y="251460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0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 1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71680" y="1295280"/>
            <a:ext cx="51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86080" y="3200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X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494360" y="4549680"/>
            <a:ext cx="45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  0       0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621800" y="5715000"/>
            <a:ext cx="67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#Regressors = Nv+Nc = 3+2=5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Fewer regressors than D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OF = #Rows - #Regresso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029600" y="22096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104840" y="17524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e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400480" y="2362320"/>
            <a:ext cx="609480" cy="152280"/>
            <a:chOff x="2400480" y="2362320"/>
            <a:chExt cx="609480" cy="152280"/>
          </a:xfrm>
        </p:grpSpPr>
        <p:sp>
          <p:nvSpPr>
            <p:cNvPr id="899" name=""/>
            <p:cNvSpPr/>
            <p:nvPr/>
          </p:nvSpPr>
          <p:spPr>
            <a:xfrm>
              <a:off x="3009960" y="2362320"/>
              <a:ext cx="0" cy="15228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00480" y="236232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81360" y="1981080"/>
            <a:ext cx="609480" cy="533520"/>
            <a:chOff x="2781360" y="1981080"/>
            <a:chExt cx="609480" cy="533520"/>
          </a:xfrm>
        </p:grpSpPr>
        <p:sp>
          <p:nvSpPr>
            <p:cNvPr id="902" name=""/>
            <p:cNvSpPr/>
            <p:nvPr/>
          </p:nvSpPr>
          <p:spPr>
            <a:xfrm>
              <a:off x="339084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8136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077000" y="1981080"/>
            <a:ext cx="609480" cy="533520"/>
            <a:chOff x="4077000" y="1981080"/>
            <a:chExt cx="609480" cy="533520"/>
          </a:xfrm>
        </p:grpSpPr>
        <p:sp>
          <p:nvSpPr>
            <p:cNvPr id="905" name=""/>
            <p:cNvSpPr/>
            <p:nvPr/>
          </p:nvSpPr>
          <p:spPr>
            <a:xfrm>
              <a:off x="407700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07700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818240" y="17668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 for Males and Fema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185880" y="4738680"/>
            <a:ext cx="31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 test, different ve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287200" y="380880"/>
            <a:ext cx="1032480" cy="1800360"/>
          </a:xfrm>
          <a:prstGeom prst="rect">
            <a:avLst/>
          </a:prstGeom>
          <a:noFill/>
          <a:ln w="38160">
            <a:solidFill>
              <a:srgbClr val="fd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33840" y="304920"/>
            <a:ext cx="77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lumetric Interesubject Registration (Affin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00680" y="1143000"/>
            <a:ext cx="6174360" cy="3657600"/>
            <a:chOff x="4000680" y="1143000"/>
            <a:chExt cx="6174360" cy="36576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4000680" y="1218960"/>
              <a:ext cx="294120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"/>
            <p:cNvGrpSpPr/>
            <p:nvPr/>
          </p:nvGrpSpPr>
          <p:grpSpPr>
            <a:xfrm>
              <a:off x="7073640" y="1143000"/>
              <a:ext cx="3101400" cy="3627000"/>
              <a:chOff x="7073640" y="1143000"/>
              <a:chExt cx="3101400" cy="36270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2"/>
              <a:srcRect l="22026" t="14601" r="24109" b="17284"/>
              <a:stretch/>
            </p:blipFill>
            <p:spPr>
              <a:xfrm>
                <a:off x="7105320" y="1143000"/>
                <a:ext cx="3069720" cy="35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7073640" y="165204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289280" y="387936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266760" y="1066680"/>
            <a:ext cx="670572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D Coordinate Syste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YZ,  RA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 Intensit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/Linear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ransl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t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tretc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ea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2 DO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tch Intensity, Voxel-by-Vox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 use nonlinear volumetric (cf CV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24360" y="1219320"/>
            <a:ext cx="3048120" cy="3047760"/>
            <a:chOff x="3924360" y="1219320"/>
            <a:chExt cx="3048120" cy="3047760"/>
          </a:xfrm>
        </p:grpSpPr>
        <p:sp>
          <p:nvSpPr>
            <p:cNvPr id="112" name=""/>
            <p:cNvSpPr/>
            <p:nvPr/>
          </p:nvSpPr>
          <p:spPr>
            <a:xfrm>
              <a:off x="5486400" y="121932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24360" y="275436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412520" y="170136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048440" y="1066680"/>
            <a:ext cx="3048120" cy="3047760"/>
            <a:chOff x="7048440" y="1066680"/>
            <a:chExt cx="3048120" cy="3047760"/>
          </a:xfrm>
        </p:grpSpPr>
        <p:sp>
          <p:nvSpPr>
            <p:cNvPr id="116" name=""/>
            <p:cNvSpPr/>
            <p:nvPr/>
          </p:nvSpPr>
          <p:spPr>
            <a:xfrm>
              <a:off x="8610480" y="106668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48440" y="260172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536600" y="154872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0520" y="941400"/>
            <a:ext cx="2743200" cy="1582560"/>
            <a:chOff x="290520" y="941400"/>
            <a:chExt cx="2743200" cy="158256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290520" y="941400"/>
              <a:ext cx="2743200" cy="15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06440" y="204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p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609000" y="844560"/>
            <a:ext cx="3201480" cy="1905120"/>
            <a:chOff x="3609000" y="844560"/>
            <a:chExt cx="3201480" cy="190512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3686400" y="844560"/>
              <a:ext cx="31240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609000" y="210204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inflat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14480" y="3770280"/>
            <a:ext cx="4597200" cy="3017520"/>
            <a:chOff x="114480" y="3770280"/>
            <a:chExt cx="4597200" cy="301752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1079640" y="377028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48760" y="5820120"/>
              <a:ext cx="170928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9880" y="62679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64440" y="583380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81720" y="393228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5720" y="529992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357640" y="416196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354840" y="560412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830240" y="5332320"/>
              <a:ext cx="60372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948600" y="507060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480" y="4680360"/>
              <a:ext cx="115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4480" y="513000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578720" y="1219320"/>
            <a:ext cx="1687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urvatur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ULCUS (+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YRUS (-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286680" y="4029120"/>
            <a:ext cx="2438280" cy="2265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1640" y="320040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6080" y="3200400"/>
            <a:ext cx="46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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tinuous, no cu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19280" y="3581280"/>
            <a:ext cx="3047760" cy="3048120"/>
            <a:chOff x="719280" y="3581280"/>
            <a:chExt cx="3047760" cy="3048120"/>
          </a:xfrm>
        </p:grpSpPr>
        <p:sp>
          <p:nvSpPr>
            <p:cNvPr id="144" name=""/>
            <p:cNvSpPr/>
            <p:nvPr/>
          </p:nvSpPr>
          <p:spPr>
            <a:xfrm>
              <a:off x="2281320" y="3581280"/>
              <a:ext cx="0" cy="304812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9280" y="5116680"/>
              <a:ext cx="304776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52960" y="838080"/>
            <a:ext cx="3047760" cy="3504960"/>
            <a:chOff x="4152960" y="838080"/>
            <a:chExt cx="3047760" cy="3504960"/>
          </a:xfrm>
        </p:grpSpPr>
        <p:grpSp>
          <p:nvGrpSpPr>
            <p:cNvPr id="149" name=""/>
            <p:cNvGrpSpPr/>
            <p:nvPr/>
          </p:nvGrpSpPr>
          <p:grpSpPr>
            <a:xfrm>
              <a:off x="4152960" y="1295280"/>
              <a:ext cx="3047760" cy="3047760"/>
              <a:chOff x="4152960" y="1295280"/>
              <a:chExt cx="3047760" cy="3047760"/>
            </a:xfrm>
          </p:grpSpPr>
          <p:pic>
            <p:nvPicPr>
              <p:cNvPr id="1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13320" y="1483920"/>
                <a:ext cx="2506680" cy="2449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1" name=""/>
              <p:cNvGrpSpPr/>
              <p:nvPr/>
            </p:nvGrpSpPr>
            <p:grpSpPr>
              <a:xfrm>
                <a:off x="4152960" y="1295280"/>
                <a:ext cx="3047760" cy="3047760"/>
                <a:chOff x="4152960" y="1295280"/>
                <a:chExt cx="3047760" cy="30477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715000" y="1295280"/>
                  <a:ext cx="0" cy="3047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152960" y="2830320"/>
                  <a:ext cx="3047760" cy="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5219280" y="83808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60560" y="685800"/>
            <a:ext cx="3933360" cy="3414240"/>
            <a:chOff x="160560" y="685800"/>
            <a:chExt cx="3933360" cy="3414240"/>
          </a:xfrm>
        </p:grpSpPr>
        <p:grpSp>
          <p:nvGrpSpPr>
            <p:cNvPr id="156" name=""/>
            <p:cNvGrpSpPr/>
            <p:nvPr/>
          </p:nvGrpSpPr>
          <p:grpSpPr>
            <a:xfrm>
              <a:off x="160560" y="1310040"/>
              <a:ext cx="3933360" cy="2790000"/>
              <a:chOff x="160560" y="1310040"/>
              <a:chExt cx="3933360" cy="2790000"/>
            </a:xfrm>
          </p:grpSpPr>
          <p:pic>
            <p:nvPicPr>
              <p:cNvPr id="1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200" y="1405440"/>
                <a:ext cx="3491280" cy="241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8" name=""/>
              <p:cNvGrpSpPr/>
              <p:nvPr/>
            </p:nvGrpSpPr>
            <p:grpSpPr>
              <a:xfrm>
                <a:off x="160560" y="1310040"/>
                <a:ext cx="3933360" cy="2790000"/>
                <a:chOff x="160560" y="1310040"/>
                <a:chExt cx="3933360" cy="2790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604880" y="1310040"/>
                  <a:ext cx="1134000" cy="279000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160560" y="1935720"/>
                  <a:ext cx="3933360" cy="1598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1828440" y="68580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7120" y="45720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ranslate,  Rotate,  Stretch,  Shear (12 DO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tch Curvature, Vertex-by-Ve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nlinear Stretching (“Morphing”) allowed (area regularizat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ctually done on 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ical Morph”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353360" y="5796000"/>
            <a:ext cx="1143000" cy="106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50480" y="1905120"/>
            <a:ext cx="2818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urvature “Intensity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ULCUS (+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YRUS (-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des folding patter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Lilla Zollei</cp:lastModifiedBy>
  <dcterms:modified xsi:type="dcterms:W3CDTF">2009-02-18T15:25:12Z</dcterms:modified>
  <cp:revision>918</cp:revision>
  <dc:subject/>
  <dc:title>Understanding Differential Responses in fMRI Through Linear Simulation</dc:title>
</cp:coreProperties>
</file>