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0.png" ContentType="image/png"/>
  <Override PartName="/ppt/media/image7.jpeg" ContentType="image/jpeg"/>
  <Override PartName="/ppt/media/image28.png" ContentType="image/png"/>
  <Override PartName="/ppt/media/image10.jpeg" ContentType="image/jpeg"/>
  <Override PartName="/ppt/media/image30.png" ContentType="image/png"/>
  <Override PartName="/ppt/media/image5.png" ContentType="image/png"/>
  <Override PartName="/ppt/media/image35.png" ContentType="image/png"/>
  <Override PartName="/ppt/media/image8.jpeg" ContentType="image/jpeg"/>
  <Override PartName="/ppt/media/image38.png" ContentType="image/png"/>
  <Override PartName="/ppt/media/image9.jpeg" ContentType="image/jpe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7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8224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C6F545C-516E-41C2-8F10-4CE2BFCD9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DDCE8D4-F4BE-4E6D-9769-176792C90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89080" y="700200"/>
            <a:ext cx="4619520" cy="34653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A0893E9-30C3-4B43-9E97-40F09F3AD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89080" y="700200"/>
            <a:ext cx="4619520" cy="34653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02FD1C2-010D-4594-B0A7-AC20EE1F1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9052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h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9052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ampling puts ces into voxel-for-voxel registration with aseg.mg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B668877-D114-49F5-A768-A5C35D778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3DDCEF3-BF96-4CE4-A121-BB5688A1A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BD93E69-D0F4-425E-BD37-BF8653520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5E4B-F6E7-4EB2-AA3B-1B38C20B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195A-25D0-47CF-BFD5-4D141D1E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CDC4-5698-4072-B54D-38B1CEAC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54BA-F0C4-49A8-829C-57775E70F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D356B-A499-4E39-8AF6-B8A445306B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602A1-BC31-4579-AEE2-A41CEFD04C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8CDF9-F72B-4E98-93B0-A027FB0C2A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380F0-5D30-4177-810D-3F3AFD2FB4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51606-FF2F-4181-8D6A-319C6171F6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95B55-2888-4AEC-8F7A-BE0E8C9765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F7BF1-31D9-49D9-B9A8-89E7A298CF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5C0C-5388-4E1D-9CD7-99D4F9CC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DCB52-C4DD-4902-A572-59363DE4B4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A1BAD-1694-46D3-AB21-D5E0BCBF65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CE930B-53E3-4A21-8732-6ADCF44AF5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82B89-F846-4934-B9F5-C85310FF02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73C8E-DC89-44EB-8518-3436C66F4F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3B70-A672-465B-A47C-00ADDD55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157E-4608-4581-B53F-92F6BB66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9EAB-0031-44AF-9DAB-7D6BEAF6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40FA-48F0-4D91-BE6D-70843571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D8F9-2E08-4266-8474-6C51E98D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7FA4-1492-4700-8682-2610E140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2355-B30D-4DC3-8A33-36BC81C9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629040"/>
            <a:ext cx="1752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2B18-9B3D-4B74-87C8-DA0D90C276EB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700992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afd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1589-636A-4EBF-ACC5-9581EBE8CC33}" type="slidenum">
              <a:rPr b="0" lang="en-US" sz="14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8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4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Multimodal Integration</a:t>
            </a:r>
            <a:br>
              <a:rPr sz="44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urfer.nmr.mgh.harvard.edu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743200" y="2286000"/>
            <a:ext cx="27986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utomatic Regist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358128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Lucida Sans Typewriter"/>
              </a:rPr>
              <a:t>bbregister \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1800" spc="-1" strike="noStrike">
                <a:solidFill>
                  <a:srgbClr val="fafd00"/>
                </a:solidFill>
                <a:latin typeface="Lucida Sans Typewriter"/>
              </a:rPr>
              <a:t>-–subject bert \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Lucida Sans Typewriter"/>
              </a:rPr>
              <a:t>  –</a:t>
            </a:r>
            <a:r>
              <a:rPr b="0" lang="en-US" sz="1800" spc="-1" strike="noStrike">
                <a:solidFill>
                  <a:srgbClr val="fafd00"/>
                </a:solidFill>
                <a:latin typeface="Lucida Sans Typewriter"/>
              </a:rPr>
              <a:t>-mov mmtemplate.nii \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1800" spc="-1" strike="noStrike">
                <a:solidFill>
                  <a:srgbClr val="fafd00"/>
                </a:solidFill>
                <a:latin typeface="Lucida Sans Typewriter"/>
              </a:rPr>
              <a:t>--bold \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1800" spc="-1" strike="noStrike">
                <a:solidFill>
                  <a:srgbClr val="fafd00"/>
                </a:solidFill>
                <a:latin typeface="Lucida Sans Typewriter"/>
              </a:rPr>
              <a:t>--init-fsl \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Lucida Sans Typewriter"/>
              </a:rPr>
              <a:t>  –</a:t>
            </a:r>
            <a:r>
              <a:rPr b="0" lang="en-US" sz="1800" spc="-1" strike="noStrike">
                <a:solidFill>
                  <a:srgbClr val="fafd00"/>
                </a:solidFill>
                <a:latin typeface="Lucida Sans Typewriter"/>
              </a:rPr>
              <a:t>-reg register.da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3400" y="1228680"/>
            <a:ext cx="4305240" cy="20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Lucida Sans Typewriter"/>
              </a:rPr>
              <a:t>Command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Lucida Sans Typewriter"/>
              </a:rPr>
              <a:t>FreeSurfer subject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Lucida Sans Typewriter"/>
              </a:rPr>
              <a:t>Multimodal template volu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Lucida Sans Typewriter"/>
              </a:rPr>
              <a:t>Multimodal contr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Lucida Sans Typewriter"/>
              </a:rPr>
              <a:t>Initialize with FSL-FLI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Lucida Sans Typewriter"/>
              </a:rPr>
              <a:t>Output registration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505320"/>
            <a:ext cx="7696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BB = Boundary-based, about 5 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gisters template to conformed anatomical of given subject (be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gistration is initialized with FSL-FLI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6 D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itialization also with --init-spm and --init-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bout 5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B4066-E580-4E89-A037-5F49C32122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nual Regist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358128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Lucida Sans Typewriter"/>
              </a:rPr>
              <a:t>tkregister2 \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Lucida Sans Typewriter"/>
              </a:rPr>
              <a:t>  –</a:t>
            </a:r>
            <a:r>
              <a:rPr b="0" lang="en-US" sz="1800" spc="-1" strike="noStrike">
                <a:solidFill>
                  <a:srgbClr val="fafd00"/>
                </a:solidFill>
                <a:latin typeface="Lucida Sans Typewriter"/>
              </a:rPr>
              <a:t>-mov mmtemplate.nii \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Lucida Sans Typewriter"/>
              </a:rPr>
              <a:t>  –</a:t>
            </a:r>
            <a:r>
              <a:rPr b="0" lang="en-US" sz="1800" spc="-1" strike="noStrike">
                <a:solidFill>
                  <a:srgbClr val="fafd00"/>
                </a:solidFill>
                <a:latin typeface="Lucida Sans Typewriter"/>
              </a:rPr>
              <a:t>-reg register.dat \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1800" spc="-1" strike="noStrike">
                <a:solidFill>
                  <a:srgbClr val="fafd00"/>
                </a:solidFill>
                <a:latin typeface="Lucida Sans Typewriter"/>
              </a:rPr>
              <a:t>--surf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81560" y="1228680"/>
            <a:ext cx="426708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Lucida Sans Typewriter"/>
              </a:rPr>
              <a:t>Command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Lucida Sans Typewriter"/>
              </a:rPr>
              <a:t>Multimodal template volu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Lucida Sans Typewriter"/>
              </a:rPr>
              <a:t>registration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Lucida Sans Typewriter"/>
              </a:rPr>
              <a:t>Display white su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35053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Note similarity to bbregister com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ubject not needed (alread in register.dat fi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9120" y="6172200"/>
            <a:ext cx="264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tkregister2 --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440DA-1D22-46F8-90B0-FE8E3E534C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nual Regist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55840" y="2676600"/>
            <a:ext cx="4462200" cy="34671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738840" y="1143000"/>
            <a:ext cx="1959120" cy="2287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738840" y="3505320"/>
            <a:ext cx="1959120" cy="22874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910440" y="990720"/>
            <a:ext cx="465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isually inspect reg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anually edit registration (6 DO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f Manual Talairach reg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reen line is white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9120" y="6172200"/>
            <a:ext cx="264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tkregister2 --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7C0C8-4226-466C-8635-195EEB3F68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i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647712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Rigid = 6 DOF = No stretch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Use CSF to get a sense of where the folds a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void using B0 distortion reg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void using ventric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Warning about “edge” of the bra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ame Subject, Left-Right Flip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535800" y="4038480"/>
            <a:ext cx="1958760" cy="2287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535800" y="1752480"/>
            <a:ext cx="1958760" cy="2287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2065320" y="4191120"/>
            <a:ext cx="1959120" cy="2287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4030560" y="4191120"/>
            <a:ext cx="1957320" cy="22874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994360" y="2057400"/>
            <a:ext cx="812880" cy="38088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94360" y="2057400"/>
            <a:ext cx="1015920" cy="27432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FCC80-88D7-46B4-ACE3-EDBDF0DAE0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133720" y="1066680"/>
            <a:ext cx="510516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Automatic Registr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bbregister --help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fslregister –help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spmregister –hel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eg-feat2anat –help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Manual Registr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tkregister2 --hel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Transformations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mri_vol2surf --hel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mri_vol2vol --hel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mri_label2vol --hel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mri_surf2vol --hel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11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mmand-line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1295280"/>
            <a:ext cx="641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afd00"/>
                </a:solidFill>
                <a:latin typeface="Times New Roman"/>
              </a:rPr>
              <a:t>}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20280" y="2209680"/>
            <a:ext cx="259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FreeSurfer Scrip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MRI Integ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1371600"/>
            <a:ext cx="86868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Visualize individual fMRI results o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surfac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volu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ROI Volume Study: Count number of voxels above threshold in an anatomical RO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ROI Intensity Study: Average HRF inside of an RO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Surface-based fMRI group analy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ECB26-FA2A-4D1D-9192-917AC364EF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72960" y="1143000"/>
            <a:ext cx="8255160" cy="53053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emodynamic Response (BOLD)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84960" y="463392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384960" y="417672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711840" y="4163760"/>
            <a:ext cx="0" cy="990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91320" y="3733920"/>
            <a:ext cx="132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 (~2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30560" y="2055960"/>
            <a:ext cx="812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25440" y="1585800"/>
            <a:ext cx="24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-to-Peak (~6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551400" y="2576520"/>
            <a:ext cx="1614960" cy="2057400"/>
            <a:chOff x="3551400" y="2576520"/>
            <a:chExt cx="1614960" cy="2057400"/>
          </a:xfrm>
        </p:grpSpPr>
        <p:sp>
          <p:nvSpPr>
            <p:cNvPr id="217" name=""/>
            <p:cNvSpPr/>
            <p:nvPr/>
          </p:nvSpPr>
          <p:spPr>
            <a:xfrm>
              <a:off x="3551400" y="2576520"/>
              <a:ext cx="745200" cy="2057400"/>
            </a:xfrm>
            <a:custGeom>
              <a:avLst/>
              <a:gdLst/>
              <a:ahLst/>
              <a:rect l="l" t="t" r="r" b="b"/>
              <a:pathLst>
                <a:path w="528" h="1296">
                  <a:moveTo>
                    <a:pt x="0" y="0"/>
                  </a:moveTo>
                  <a:cubicBezTo>
                    <a:pt x="24" y="204"/>
                    <a:pt x="48" y="408"/>
                    <a:pt x="96" y="576"/>
                  </a:cubicBezTo>
                  <a:cubicBezTo>
                    <a:pt x="144" y="744"/>
                    <a:pt x="216" y="888"/>
                    <a:pt x="288" y="1008"/>
                  </a:cubicBezTo>
                  <a:cubicBezTo>
                    <a:pt x="360" y="1128"/>
                    <a:pt x="444" y="1212"/>
                    <a:pt x="528" y="12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80800" y="2971800"/>
              <a:ext cx="128556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sper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690800" y="4659480"/>
            <a:ext cx="1372320" cy="761400"/>
            <a:chOff x="4690800" y="4659480"/>
            <a:chExt cx="1372320" cy="761400"/>
          </a:xfrm>
        </p:grpSpPr>
        <p:sp>
          <p:nvSpPr>
            <p:cNvPr id="220" name=""/>
            <p:cNvSpPr/>
            <p:nvPr/>
          </p:nvSpPr>
          <p:spPr>
            <a:xfrm>
              <a:off x="4690800" y="4659480"/>
              <a:ext cx="137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ndersh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703760" y="5040000"/>
              <a:ext cx="40608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184520" y="3809880"/>
            <a:ext cx="14122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~16-32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57560" y="5397480"/>
            <a:ext cx="271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90120" y="5410080"/>
            <a:ext cx="182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ay (~1-2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416360" y="4495680"/>
            <a:ext cx="33804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EA56-CC2C-4883-892A-57FA326524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748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ultiple Presentations/Averaging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0" y="3886200"/>
            <a:ext cx="3387600" cy="21765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84920" y="6039000"/>
            <a:ext cx="79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vidual Output: HRF Amp, HRF Var, p/z/t/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531280" cy="27417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1185840" y="3886200"/>
            <a:ext cx="3387600" cy="217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4D13-EC04-4F67-8FFC-07DD2EDB71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MRI Preprocessing Overvie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990720"/>
            <a:ext cx="79246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Motion Correction (MC Template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Use for registration templ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afd00"/>
                </a:solidFill>
                <a:latin typeface="Lucida Sans Typewriter"/>
              </a:rPr>
              <a:t>bbregister --mov mctemplate.nii --s subject --init-fsl --reg register.d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afd00"/>
                </a:solidFill>
                <a:latin typeface="Lucida Sans Typewriter"/>
              </a:rPr>
              <a:t>tkregister2 --mov mctemplate.nii --reg register.dat --su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Do not use </a:t>
            </a:r>
            <a:r>
              <a:rPr b="0" lang="en-US" sz="2600" spc="-1" strike="noStrike" u="sng">
                <a:solidFill>
                  <a:srgbClr val="fafd00"/>
                </a:solidFill>
                <a:uFillTx/>
                <a:latin typeface="Times New Roman"/>
              </a:rPr>
              <a:t>nonlinear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resampling to talairach/MNI sp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Do not spatially smooth (3d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A2207-3630-458A-BA77-B890F8086E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MRI Analysis Overvie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1219320"/>
            <a:ext cx="792468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First-Level (Individual)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HRF Amplitude (or Contrast of Amplitud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cope (FSL)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CON (SPM)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ces (FSFAS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Variance of Amplitu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varcope (FSL), ??? (SPM), cesvar (FSFAS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Activation/Significance Map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F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sig (-log10(p)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All in alignment with MC Template!!!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5134D-2BB4-40A3-BF9A-EC92501B6D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990720"/>
            <a:ext cx="792504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Affine transform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egistration, Automatic and Manu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fMRI Integ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fMRI Analysis Int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egist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Viewing on Volume and Surf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OI analy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Surface-based group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DTI Integ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DTI Analysis Int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egist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Visualiz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OI analysis with WM Parcel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D604-9C41-4223-9DE0-14AD86CFA1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emplate and Ma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808280" y="838080"/>
            <a:ext cx="7251480" cy="5129280"/>
            <a:chOff x="1808280" y="838080"/>
            <a:chExt cx="7251480" cy="5129280"/>
          </a:xfrm>
        </p:grpSpPr>
        <p:grpSp>
          <p:nvGrpSpPr>
            <p:cNvPr id="237" name=""/>
            <p:cNvGrpSpPr/>
            <p:nvPr/>
          </p:nvGrpSpPr>
          <p:grpSpPr>
            <a:xfrm>
              <a:off x="1808280" y="838080"/>
              <a:ext cx="7250040" cy="2665440"/>
              <a:chOff x="1808280" y="838080"/>
              <a:chExt cx="7250040" cy="2665440"/>
            </a:xfrm>
          </p:grpSpPr>
          <p:pic>
            <p:nvPicPr>
              <p:cNvPr id="238" name="" descr=""/>
              <p:cNvPicPr/>
              <p:nvPr/>
            </p:nvPicPr>
            <p:blipFill>
              <a:blip r:embed="rId1"/>
              <a:srcRect l="14770" t="21294" r="14770" b="21294"/>
              <a:stretch/>
            </p:blipFill>
            <p:spPr>
              <a:xfrm>
                <a:off x="1808280" y="1176480"/>
                <a:ext cx="234612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" descr=""/>
              <p:cNvPicPr/>
              <p:nvPr/>
            </p:nvPicPr>
            <p:blipFill>
              <a:blip r:embed="rId2"/>
              <a:srcRect l="14770" t="8872" r="14770" b="14196"/>
              <a:stretch/>
            </p:blipFill>
            <p:spPr>
              <a:xfrm>
                <a:off x="6711840" y="838080"/>
                <a:ext cx="2346480" cy="266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" descr=""/>
              <p:cNvPicPr/>
              <p:nvPr/>
            </p:nvPicPr>
            <p:blipFill>
              <a:blip r:embed="rId3"/>
              <a:srcRect l="14770" t="21294" r="14770" b="21294"/>
              <a:stretch/>
            </p:blipFill>
            <p:spPr>
              <a:xfrm>
                <a:off x="4213440" y="1176480"/>
                <a:ext cx="234612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1" name=""/>
            <p:cNvGrpSpPr/>
            <p:nvPr/>
          </p:nvGrpSpPr>
          <p:grpSpPr>
            <a:xfrm>
              <a:off x="1808280" y="3301920"/>
              <a:ext cx="7251480" cy="2665440"/>
              <a:chOff x="1808280" y="3301920"/>
              <a:chExt cx="7251480" cy="2665440"/>
            </a:xfrm>
          </p:grpSpPr>
          <p:pic>
            <p:nvPicPr>
              <p:cNvPr id="242" name="" descr=""/>
              <p:cNvPicPr/>
              <p:nvPr/>
            </p:nvPicPr>
            <p:blipFill>
              <a:blip r:embed="rId4"/>
              <a:srcRect l="14770" t="21294" r="14770" b="21294"/>
              <a:stretch/>
            </p:blipFill>
            <p:spPr>
              <a:xfrm>
                <a:off x="4213440" y="3640320"/>
                <a:ext cx="234612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" descr=""/>
              <p:cNvPicPr/>
              <p:nvPr/>
            </p:nvPicPr>
            <p:blipFill>
              <a:blip r:embed="rId5"/>
              <a:srcRect l="14770" t="8872" r="14770" b="14196"/>
              <a:stretch/>
            </p:blipFill>
            <p:spPr>
              <a:xfrm>
                <a:off x="6713640" y="3301920"/>
                <a:ext cx="2346120" cy="266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" descr=""/>
              <p:cNvPicPr/>
              <p:nvPr/>
            </p:nvPicPr>
            <p:blipFill>
              <a:blip r:embed="rId6"/>
              <a:srcRect l="14770" t="21294" r="14770" b="21294"/>
              <a:stretch/>
            </p:blipFill>
            <p:spPr>
              <a:xfrm>
                <a:off x="1808280" y="3640320"/>
                <a:ext cx="2346120" cy="1989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5" name=""/>
          <p:cNvSpPr/>
          <p:nvPr/>
        </p:nvSpPr>
        <p:spPr>
          <a:xfrm>
            <a:off x="456840" y="1981080"/>
            <a:ext cx="14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un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em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5760" y="4343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emplate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1FA28-DAF3-42C1-B9C9-A1A75B94BD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olume View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1371600"/>
            <a:ext cx="83059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tkmedit subject orig.mgz –aux brain.mgz –aparc+aseg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overlay sig.nii –reg register.dat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fthresh 2 –fmax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Lucida Sans Typewriter"/>
              </a:rPr>
              <a:t>sig.nii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–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ignificance map in native functional space. could have been z, t, or F map as we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Lucida Sans Typewriter"/>
              </a:rPr>
              <a:t>register.dat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–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reesurfer registration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Lucida Sans Typewriter"/>
              </a:rPr>
              <a:t>fthresh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–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lower threshold (value depends on map). You can change this in the interf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Lucida Sans Typewriter"/>
              </a:rPr>
              <a:t>fmax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–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aturation threshold. (value depends on map). You can change this in the interf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aparc+aseg –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display aparc+aseg.mgz. Can load this from the interface to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C63E0-2FE5-461C-A165-69914FC758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819520" y="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olume Vie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66600" y="609480"/>
            <a:ext cx="5846760" cy="5915160"/>
            <a:chOff x="66600" y="609480"/>
            <a:chExt cx="5846760" cy="5915160"/>
          </a:xfrm>
        </p:grpSpPr>
        <p:pic>
          <p:nvPicPr>
            <p:cNvPr id="251" name="" descr=""/>
            <p:cNvPicPr/>
            <p:nvPr/>
          </p:nvPicPr>
          <p:blipFill>
            <a:blip r:embed="rId1"/>
            <a:srcRect l="13846" t="8872" r="13846" b="17745"/>
            <a:stretch/>
          </p:blipFill>
          <p:spPr>
            <a:xfrm>
              <a:off x="66600" y="609480"/>
              <a:ext cx="3003840" cy="317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2"/>
            <a:srcRect l="13846" t="8872" r="13846" b="17745"/>
            <a:stretch/>
          </p:blipFill>
          <p:spPr>
            <a:xfrm>
              <a:off x="2909880" y="609480"/>
              <a:ext cx="3003480" cy="317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3"/>
            <a:srcRect l="13846" t="8872" r="13846" b="17745"/>
            <a:stretch/>
          </p:blipFill>
          <p:spPr>
            <a:xfrm>
              <a:off x="2909880" y="3352680"/>
              <a:ext cx="3003480" cy="317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4"/>
            <a:srcRect l="13846" t="8872" r="13846" b="17745"/>
            <a:stretch/>
          </p:blipFill>
          <p:spPr>
            <a:xfrm>
              <a:off x="66600" y="3352680"/>
              <a:ext cx="3003840" cy="31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/>
          <p:cNvSpPr/>
          <p:nvPr/>
        </p:nvSpPr>
        <p:spPr>
          <a:xfrm>
            <a:off x="6095880" y="1447920"/>
            <a:ext cx="3048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8000"/>
          </a:bodyPr>
          <a:p>
            <a:pPr marL="61560" indent="-6156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d/Yellow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Blue/Cyan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g Opa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OI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OI C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828800" y="0"/>
            <a:ext cx="617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mpling onto the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038480" y="685800"/>
            <a:ext cx="4332240" cy="4495680"/>
            <a:chOff x="4038480" y="685800"/>
            <a:chExt cx="4332240" cy="4495680"/>
          </a:xfrm>
        </p:grpSpPr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4038480" y="685800"/>
              <a:ext cx="433224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 flipV="1">
              <a:off x="6705720" y="1904760"/>
              <a:ext cx="228600" cy="4572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59800" y="1600200"/>
              <a:ext cx="13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</a:rPr>
                <a:t>White/Gr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55400" y="1600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P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10080" y="1904760"/>
              <a:ext cx="914400" cy="533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09480" y="685800"/>
            <a:ext cx="2590920" cy="2590920"/>
            <a:chOff x="609480" y="685800"/>
            <a:chExt cx="2590920" cy="2590920"/>
          </a:xfrm>
        </p:grpSpPr>
        <p:pic>
          <p:nvPicPr>
            <p:cNvPr id="264" name="" descr=""/>
            <p:cNvPicPr/>
            <p:nvPr/>
          </p:nvPicPr>
          <p:blipFill>
            <a:blip r:embed="rId2"/>
            <a:srcRect l="16671" t="18981" r="4545" b="5111"/>
            <a:stretch/>
          </p:blipFill>
          <p:spPr>
            <a:xfrm>
              <a:off x="609480" y="685800"/>
              <a:ext cx="259092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1295280" y="1447920"/>
              <a:ext cx="685800" cy="609480"/>
            </a:xfrm>
            <a:prstGeom prst="rect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85800" y="3581280"/>
            <a:ext cx="2789280" cy="2895840"/>
            <a:chOff x="685800" y="3581280"/>
            <a:chExt cx="2789280" cy="2895840"/>
          </a:xfrm>
        </p:grpSpPr>
        <p:pic>
          <p:nvPicPr>
            <p:cNvPr id="267" name="" descr=""/>
            <p:cNvPicPr/>
            <p:nvPr/>
          </p:nvPicPr>
          <p:blipFill>
            <a:blip r:embed="rId3"/>
            <a:stretch/>
          </p:blipFill>
          <p:spPr>
            <a:xfrm>
              <a:off x="685800" y="3581280"/>
              <a:ext cx="278928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1600200" y="4648320"/>
              <a:ext cx="838080" cy="761760"/>
            </a:xfrm>
            <a:prstGeom prst="rect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3657600" y="5334120"/>
            <a:ext cx="4724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White/G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Half 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5880" y="5334120"/>
            <a:ext cx="2819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rojection F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-projfrac 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828800" y="0"/>
            <a:ext cx="617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mpling on the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16671" t="18981" r="4545" b="5111"/>
          <a:stretch/>
        </p:blipFill>
        <p:spPr>
          <a:xfrm>
            <a:off x="1066680" y="990720"/>
            <a:ext cx="2590920" cy="25905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752480" y="1752480"/>
            <a:ext cx="685800" cy="60984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rcRect l="20045" t="13876" r="2626" b="33415"/>
          <a:stretch/>
        </p:blipFill>
        <p:spPr>
          <a:xfrm>
            <a:off x="4114800" y="914400"/>
            <a:ext cx="4038480" cy="28432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rcRect l="2865" t="16651" r="2626" b="19539"/>
          <a:stretch/>
        </p:blipFill>
        <p:spPr>
          <a:xfrm>
            <a:off x="4419720" y="3657600"/>
            <a:ext cx="4114800" cy="2868480"/>
          </a:xfrm>
          <a:prstGeom prst="rect">
            <a:avLst/>
          </a:prstGeom>
          <a:ln w="0">
            <a:noFill/>
          </a:ln>
        </p:spPr>
      </p:pic>
      <p:grpSp>
        <p:nvGrpSpPr>
          <p:cNvPr id="276" name=""/>
          <p:cNvGrpSpPr/>
          <p:nvPr/>
        </p:nvGrpSpPr>
        <p:grpSpPr>
          <a:xfrm>
            <a:off x="1295280" y="3809880"/>
            <a:ext cx="2362320" cy="2590920"/>
            <a:chOff x="1295280" y="3809880"/>
            <a:chExt cx="2362320" cy="2590920"/>
          </a:xfrm>
        </p:grpSpPr>
        <p:pic>
          <p:nvPicPr>
            <p:cNvPr id="277" name="" descr=""/>
            <p:cNvPicPr/>
            <p:nvPr/>
          </p:nvPicPr>
          <p:blipFill>
            <a:blip r:embed="rId4"/>
            <a:stretch/>
          </p:blipFill>
          <p:spPr>
            <a:xfrm>
              <a:off x="1295280" y="3809880"/>
              <a:ext cx="236232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2069640" y="4764240"/>
              <a:ext cx="709560" cy="681480"/>
            </a:xfrm>
            <a:prstGeom prst="rect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5410080" y="1981080"/>
            <a:ext cx="685800" cy="60984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638680" y="4876920"/>
            <a:ext cx="914400" cy="8380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42960" y="-135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 View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52280" y="1646280"/>
            <a:ext cx="9460080" cy="1923480"/>
            <a:chOff x="152280" y="1646280"/>
            <a:chExt cx="9460080" cy="1923480"/>
          </a:xfrm>
        </p:grpSpPr>
        <p:sp>
          <p:nvSpPr>
            <p:cNvPr id="283" name=""/>
            <p:cNvSpPr/>
            <p:nvPr/>
          </p:nvSpPr>
          <p:spPr>
            <a:xfrm>
              <a:off x="152280" y="1646280"/>
              <a:ext cx="60199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Lucida Sans Typewriter"/>
                </a:rPr>
                <a:t>mri_vol2surf \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Lucida Sans Typewriter"/>
                </a:rPr>
                <a:t>  </a:t>
              </a:r>
              <a:r>
                <a:rPr b="0" lang="en-US" sz="2000" spc="-1" strike="noStrike">
                  <a:solidFill>
                    <a:srgbClr val="fafd00"/>
                  </a:solidFill>
                  <a:latin typeface="Lucida Sans Typewriter"/>
                </a:rPr>
                <a:t>--mov sig.nii \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Lucida Sans Typewriter"/>
                </a:rPr>
                <a:t>  </a:t>
              </a:r>
              <a:r>
                <a:rPr b="0" lang="en-US" sz="2000" spc="-1" strike="noStrike">
                  <a:solidFill>
                    <a:srgbClr val="fafd00"/>
                  </a:solidFill>
                  <a:latin typeface="Lucida Sans Typewriter"/>
                </a:rPr>
                <a:t>--reg register.dat \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Lucida Sans Typewriter"/>
                </a:rPr>
                <a:t>  </a:t>
              </a:r>
              <a:r>
                <a:rPr b="0" lang="en-US" sz="2000" spc="-1" strike="noStrike">
                  <a:solidFill>
                    <a:srgbClr val="fafd00"/>
                  </a:solidFill>
                  <a:latin typeface="Lucida Sans Typewriter"/>
                </a:rPr>
                <a:t>--hemi lh \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Lucida Sans Typewriter"/>
                </a:rPr>
                <a:t>  </a:t>
              </a:r>
              <a:r>
                <a:rPr b="0" lang="en-US" sz="2000" spc="-1" strike="noStrike">
                  <a:solidFill>
                    <a:srgbClr val="fafd00"/>
                  </a:solidFill>
                  <a:latin typeface="Lucida Sans Typewriter"/>
                </a:rPr>
                <a:t>--projfrac 0.5 \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Lucida Sans Typewriter"/>
                </a:rPr>
                <a:t>  </a:t>
              </a:r>
              <a:r>
                <a:rPr b="0" lang="en-US" sz="2000" spc="-1" strike="noStrike">
                  <a:solidFill>
                    <a:srgbClr val="fafd00"/>
                  </a:solidFill>
                  <a:latin typeface="Lucida Sans Typewriter"/>
                </a:rPr>
                <a:t>--o lh.sig.mg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592440" y="1646280"/>
              <a:ext cx="60199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ffcc00"/>
                  </a:solidFill>
                  <a:latin typeface="Lucida Sans Typewriter"/>
                </a:rPr>
                <a:t> </a:t>
              </a:r>
              <a:r>
                <a:rPr b="0" lang="en-US" sz="2000" spc="-1" strike="noStrike">
                  <a:solidFill>
                    <a:srgbClr val="ffcc00"/>
                  </a:solidFill>
                  <a:latin typeface="Lucida Sans Typewriter"/>
                </a:rPr>
                <a:t>map in native functional 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ffcc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cc00"/>
                  </a:solidFill>
                  <a:latin typeface="Lucida Sans Typewriter"/>
                </a:rPr>
                <a:t>freesurfer registration f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ffcc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cc00"/>
                  </a:solidFill>
                  <a:latin typeface="Lucida Sans Typewriter"/>
                </a:rPr>
                <a:t>hemisp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ffcc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cc00"/>
                  </a:solidFill>
                  <a:latin typeface="Lucida Sans Typewriter"/>
                </a:rPr>
                <a:t>projection fraction (half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ffcc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cc00"/>
                  </a:solidFill>
                  <a:latin typeface="Lucida Sans Typewriter"/>
                </a:rPr>
                <a:t>output (Nvertices-x-1 mgh forma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228600" y="5334120"/>
            <a:ext cx="601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tksurfer subject lh inflated -aparc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–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overlay lh.sig.m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4720" y="1219320"/>
            <a:ext cx="69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Resample HRF Contrast Signficance to left hemi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5000" y="4876920"/>
            <a:ext cx="55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Load HRF Contrast Significance as over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1480" y="3809880"/>
            <a:ext cx="70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Note similarity to bbregister and tkregister2 command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D9049-D542-451B-9EBB-F25C41F3647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rcRect l="1579" t="23657" r="1579" b="19679"/>
          <a:stretch/>
        </p:blipFill>
        <p:spPr>
          <a:xfrm>
            <a:off x="1143000" y="1274760"/>
            <a:ext cx="3397320" cy="2057400"/>
          </a:xfrm>
          <a:prstGeom prst="rect">
            <a:avLst/>
          </a:prstGeom>
          <a:ln w="0">
            <a:noFill/>
          </a:ln>
        </p:spPr>
      </p:pic>
      <p:grpSp>
        <p:nvGrpSpPr>
          <p:cNvPr id="290" name=""/>
          <p:cNvGrpSpPr/>
          <p:nvPr/>
        </p:nvGrpSpPr>
        <p:grpSpPr>
          <a:xfrm>
            <a:off x="4952880" y="1219320"/>
            <a:ext cx="3397320" cy="5410080"/>
            <a:chOff x="4952880" y="1219320"/>
            <a:chExt cx="3397320" cy="5410080"/>
          </a:xfrm>
        </p:grpSpPr>
        <p:pic>
          <p:nvPicPr>
            <p:cNvPr id="291" name="" descr=""/>
            <p:cNvPicPr/>
            <p:nvPr/>
          </p:nvPicPr>
          <p:blipFill>
            <a:blip r:embed="rId2"/>
            <a:srcRect l="1579" t="23657" r="1579" b="19679"/>
            <a:stretch/>
          </p:blipFill>
          <p:spPr>
            <a:xfrm>
              <a:off x="4952880" y="3200400"/>
              <a:ext cx="339732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3"/>
            <a:srcRect l="1579" t="32051" r="1579" b="30171"/>
            <a:stretch/>
          </p:blipFill>
          <p:spPr>
            <a:xfrm>
              <a:off x="4952880" y="5257800"/>
              <a:ext cx="339732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4"/>
            <a:srcRect l="1579" t="23657" r="1579" b="21776"/>
            <a:stretch/>
          </p:blipFill>
          <p:spPr>
            <a:xfrm>
              <a:off x="4952880" y="1219320"/>
              <a:ext cx="3397320" cy="198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4" name="" descr=""/>
          <p:cNvPicPr/>
          <p:nvPr/>
        </p:nvPicPr>
        <p:blipFill>
          <a:blip r:embed="rId5"/>
          <a:srcRect l="10269" t="19463" r="22397" b="36468"/>
          <a:stretch/>
        </p:blipFill>
        <p:spPr>
          <a:xfrm>
            <a:off x="1447920" y="3276720"/>
            <a:ext cx="2361960" cy="16002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6094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 Vie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0880" y="4952880"/>
            <a:ext cx="4267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Red/Yellow +,Blue/Cyan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Parcellation 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ROI 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ROI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057400" y="914400"/>
            <a:ext cx="6172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7000"/>
          </a:bodyPr>
          <a:p>
            <a:pPr marL="263880" indent="-263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ROI fMRI Analys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9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Inten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ull Anatomical R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unctionally Constrained R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9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Volu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Average HRF within Full Anatomical RO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28600" y="1371600"/>
            <a:ext cx="56386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Resample HRF Contrast to anatomical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mri_vol2vol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mov ces.nii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reg register.dat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interp nearest \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fstarg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o ces.anat.m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6440" y="4343400"/>
            <a:ext cx="83059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Average HRF Contrast within R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mri_segstats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seg $SUBJECTS_DIR/subject/mri/aseg.mgz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ctab $FREESURFER_HOME/FreeSurferColorLUT.txt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i ces.anat.mgh --sum ces.aseg.st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616200" y="1395360"/>
            <a:ext cx="53755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Command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HRF map in functional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FreeSurfer Registration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Nearest neighbor interpo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Specify anatomical output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Output file in anatomical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9320" y="3809880"/>
            <a:ext cx="88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Note similarity to bbregister, tkregister2, and mri_vol2surf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6DC14-C636-4E74-A4FE-01234629A89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Average HRF within Full Anatomical RO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1295280"/>
            <a:ext cx="83059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Average HRF Contrast within R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mri_segstats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seg $SUBJECTS_DIR/subject/mri/aseg.mgz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ctab $FREESURFER_HOME/FreeSurferColorLUT.txt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i ces.anat.mgh --sum ces.aseg.st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33526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-seg is the segmentation (eg, aseg.mgz, aparc+aseg.mgz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-ctab is matching color lookup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4724280"/>
            <a:ext cx="8305560" cy="1191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utput File: ces.aseg.sta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imple text file with same format aseg.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ultiple subjects can be combined with asegstats2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BE6F6-57D7-410E-ADFC-A211FE26DAF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00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eory of Affine Spatial Trans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83320" y="2273400"/>
            <a:ext cx="3680280" cy="2909520"/>
            <a:chOff x="283320" y="2273400"/>
            <a:chExt cx="3680280" cy="2909520"/>
          </a:xfrm>
        </p:grpSpPr>
        <p:sp>
          <p:nvSpPr>
            <p:cNvPr id="93" name=""/>
            <p:cNvSpPr/>
            <p:nvPr/>
          </p:nvSpPr>
          <p:spPr>
            <a:xfrm rot="21573600">
              <a:off x="677160" y="2666520"/>
              <a:ext cx="3276720" cy="2503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20056800">
              <a:off x="380520" y="2944440"/>
              <a:ext cx="3371760" cy="1218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68440" y="2413800"/>
              <a:ext cx="3028680" cy="2765160"/>
              <a:chOff x="568440" y="2413800"/>
              <a:chExt cx="3028680" cy="2765160"/>
            </a:xfrm>
          </p:grpSpPr>
          <p:sp>
            <p:nvSpPr>
              <p:cNvPr id="96" name=""/>
              <p:cNvSpPr/>
              <p:nvPr/>
            </p:nvSpPr>
            <p:spPr>
              <a:xfrm rot="19354800">
                <a:off x="2930760" y="2796840"/>
                <a:ext cx="572760" cy="501480"/>
              </a:xfrm>
              <a:prstGeom prst="rtTriangl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9354800">
                <a:off x="760320" y="3042720"/>
                <a:ext cx="2581560" cy="1506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9354800">
                <a:off x="1847880" y="3143160"/>
                <a:ext cx="574560" cy="250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2495880" y="3686040"/>
                <a:ext cx="607680" cy="14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" name=""/>
          <p:cNvGrpSpPr/>
          <p:nvPr/>
        </p:nvGrpSpPr>
        <p:grpSpPr>
          <a:xfrm>
            <a:off x="5029200" y="4986360"/>
            <a:ext cx="3379320" cy="2023200"/>
            <a:chOff x="5029200" y="4986360"/>
            <a:chExt cx="3379320" cy="2023200"/>
          </a:xfrm>
        </p:grpSpPr>
        <p:sp>
          <p:nvSpPr>
            <p:cNvPr id="101" name=""/>
            <p:cNvSpPr/>
            <p:nvPr/>
          </p:nvSpPr>
          <p:spPr>
            <a:xfrm>
              <a:off x="5036760" y="5153040"/>
              <a:ext cx="3371760" cy="1219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5193000" y="4986360"/>
              <a:ext cx="3128400" cy="2023200"/>
              <a:chOff x="5193000" y="4986360"/>
              <a:chExt cx="3128400" cy="2023200"/>
            </a:xfrm>
          </p:grpSpPr>
          <p:sp>
            <p:nvSpPr>
              <p:cNvPr id="103" name=""/>
              <p:cNvSpPr/>
              <p:nvPr/>
            </p:nvSpPr>
            <p:spPr>
              <a:xfrm rot="20859000">
                <a:off x="7701480" y="5563080"/>
                <a:ext cx="572760" cy="501480"/>
              </a:xfrm>
              <a:prstGeom prst="rtTriangl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20859000">
                <a:off x="5324040" y="5244480"/>
                <a:ext cx="2580840" cy="1506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20859000">
                <a:off x="6626880" y="5430240"/>
                <a:ext cx="574200" cy="250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001280" y="6221880"/>
                <a:ext cx="61272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5029200" y="6369120"/>
              <a:ext cx="3371760" cy="48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919760" y="1316880"/>
            <a:ext cx="3395160" cy="2769120"/>
            <a:chOff x="4919760" y="1316880"/>
            <a:chExt cx="3395160" cy="2769120"/>
          </a:xfrm>
        </p:grpSpPr>
        <p:sp>
          <p:nvSpPr>
            <p:cNvPr id="109" name=""/>
            <p:cNvSpPr/>
            <p:nvPr/>
          </p:nvSpPr>
          <p:spPr>
            <a:xfrm rot="21573600">
              <a:off x="5028840" y="1569600"/>
              <a:ext cx="3276360" cy="25034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4919760" y="1316880"/>
              <a:ext cx="3028680" cy="2765160"/>
              <a:chOff x="4919760" y="1316880"/>
              <a:chExt cx="3028680" cy="2765160"/>
            </a:xfrm>
          </p:grpSpPr>
          <p:sp>
            <p:nvSpPr>
              <p:cNvPr id="111" name=""/>
              <p:cNvSpPr/>
              <p:nvPr/>
            </p:nvSpPr>
            <p:spPr>
              <a:xfrm rot="19354800">
                <a:off x="7282080" y="1699920"/>
                <a:ext cx="572760" cy="501480"/>
              </a:xfrm>
              <a:prstGeom prst="rtTriangl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9354800">
                <a:off x="5111640" y="1945800"/>
                <a:ext cx="2581560" cy="1506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9354800">
                <a:off x="6199200" y="2046240"/>
                <a:ext cx="574560" cy="250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6847200" y="2589120"/>
                <a:ext cx="607680" cy="14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"/>
          <p:cNvSpPr/>
          <p:nvPr/>
        </p:nvSpPr>
        <p:spPr>
          <a:xfrm>
            <a:off x="5257800" y="731880"/>
            <a:ext cx="28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natomical (1x1x1.1mm, 256x256x128, Sa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600200"/>
            <a:ext cx="28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canner Acqui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4419720"/>
            <a:ext cx="28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unctional (3x3x5mm, 64x64x30, Ax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C7AF-C02C-4AB4-82F0-04726E3BDA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5960" y="87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verage HRF only within the Functionally Active Area of an Anatomical ROI, Count Voxels above threshold in each ROI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6440" y="4341960"/>
            <a:ext cx="87631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Average HRF Contrast within functionally constrained ROI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mri_segstats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seg $SUBJECTS_DIR/subject/mri/aseg.mgz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ctab $FREESURFER_HOME/FreeSurferColorLUT.txt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i ces.anat.mgh --sum </a:t>
            </a:r>
            <a:r>
              <a:rPr b="0" lang="en-US" sz="2000" spc="-1" strike="noStrike">
                <a:solidFill>
                  <a:srgbClr val="f10de1"/>
                </a:solidFill>
                <a:latin typeface="Lucida Sans Typewriter"/>
              </a:rPr>
              <a:t>ces.aseg.mask.stats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10de1"/>
                </a:solidFill>
                <a:latin typeface="Lucida Sans Typewriter"/>
              </a:rPr>
              <a:t>--mask sig.anat.mgh --mask-thresh 2 --mask-sign a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1371600"/>
            <a:ext cx="77724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Resample HRF Contrast Significance to anatomical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mri_vol2vol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mov </a:t>
            </a:r>
            <a:r>
              <a:rPr b="0" lang="en-US" sz="2000" spc="-1" strike="noStrike">
                <a:solidFill>
                  <a:srgbClr val="f10de1"/>
                </a:solidFill>
                <a:latin typeface="Lucida Sans Typewriter"/>
              </a:rPr>
              <a:t>sig.nii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reg register.dat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interp nearest \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fstarg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o </a:t>
            </a:r>
            <a:r>
              <a:rPr b="0" lang="en-US" sz="2000" spc="-1" strike="noStrike">
                <a:solidFill>
                  <a:srgbClr val="f10de1"/>
                </a:solidFill>
                <a:latin typeface="Lucida Sans Typewriter"/>
              </a:rPr>
              <a:t>sig.anat.m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58094-7DE1-43E2-AE47-8D7E8F02829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5960" y="87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verage HRF only within the Functionally Active Area of an Anatomical ROI, Count Voxels above threshold in each ROI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" y="1295280"/>
            <a:ext cx="87631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Average HRF Contrast within functionally constrained ROI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mri_segstats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seg $SUBJECTS_DIR/subject/mri/aseg.mgz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ctab $FREESURFER_HOME/FreeSurferColorLUT.txt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i ces.anat.mgh --sum </a:t>
            </a:r>
            <a:r>
              <a:rPr b="0" lang="en-US" sz="2000" spc="-1" strike="noStrike">
                <a:solidFill>
                  <a:srgbClr val="f10de1"/>
                </a:solidFill>
                <a:latin typeface="Lucida Sans Typewriter"/>
              </a:rPr>
              <a:t>ces.aseg.mask.stats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10de1"/>
                </a:solidFill>
                <a:latin typeface="Lucida Sans Typewriter"/>
              </a:rPr>
              <a:t>--mask sig.anat.mgh --mask-thresh 2 --mask-sign a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4920" y="3276720"/>
            <a:ext cx="853416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Volume in stats file is volume above threshold (may be 0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Sign is important for Average!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abs, pos, or ne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pos will </a:t>
            </a:r>
            <a:r>
              <a:rPr b="0" lang="en-US" sz="2600" spc="-1" strike="noStrike" u="sng">
                <a:solidFill>
                  <a:srgbClr val="fafd00"/>
                </a:solidFill>
                <a:uFillTx/>
                <a:latin typeface="Times New Roman"/>
              </a:rPr>
              <a:t>always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result in positive HRF aver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neg will </a:t>
            </a: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alway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result in negative HRF 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bs 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Careful to avoid circular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Can use a different contrast to mas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AC3FC-11F8-4C91-B68D-ECA78CF0BD6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Group Analysi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" y="1371600"/>
            <a:ext cx="83059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mris_preproc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hemi lh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o lh.fsaverage.ces.mgh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iv subject1/ces.nii subject1func/register.dat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iv subject2/ces.nii subject2func/register.dat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iv subject3/ces.nii subject3func/register.dat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fter that, everything else is the same as a thickness study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mris_fwhm --i lh.fsaverage.ces.mgh --fwhm 10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o lh.fsaverage.ces.sm10.mgh --corte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mri_glmfit --surf fsaverage lh –cortex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y lh.fsaverage.ces.sm10.mgh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E7551-3111-4BE2-9A7B-85E3A1FD017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TI Integ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1371600"/>
            <a:ext cx="7925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View FA, etc, on subject’s anatomical volum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Intensity ROI Study: Average FA, etc,  inside of White Matter Parcellation ROIs (wmparc.mgz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A9341-F2ED-4B5F-916F-164468CA56B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TI Analysis Overvie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1143000"/>
            <a:ext cx="906768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Motion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Eddy Current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Correction (MC Template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Usually a low-b volum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Use for registration templ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afd00"/>
                </a:solidFill>
                <a:latin typeface="Lucida Sans Typewriter"/>
              </a:rPr>
              <a:t>bbregister --mov mctemplate.nii --s subject --init-fsl --reg register.d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afd00"/>
                </a:solidFill>
                <a:latin typeface="Lucida Sans Typewriter"/>
              </a:rPr>
              <a:t>tkregister2 --mov mctemplate.nii --reg register.dat --su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First-Level (Individual) Analy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Fit Tensor Mod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Maps: FA (0-1), ADC, Eigenvectors, et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All in alignment with MC Template!!!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A93E5-2C79-4861-8613-0263C2CCD54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olume View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600" y="1371600"/>
            <a:ext cx="83059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iew FA as an overlay on volu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tkmedit subject orig.mgz –aux brain.mgz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 –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wmaparc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overlay fa.nii –reg register.dat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fthresh .1 –fmax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880" y="3352680"/>
            <a:ext cx="83059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iew ADC as an overlay on volu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tkmedit subject orig.mgz –aux brain.mgz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 –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wmaparc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overlay adc.nii –reg register.d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482EA6-9E84-4B09-9C94-D9E3003B838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Average FA within Full Anatomical RO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" y="1371600"/>
            <a:ext cx="56386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Resample HRF Contrast to anatomical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mri_vol2vol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mov fa.nii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reg register.dat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interp nearest \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fstarg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o fa.anat.m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6440" y="4343400"/>
            <a:ext cx="83059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Average HRF Contrast within R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mri_segstats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seg $SUBJECTS_DIR/subject/mri/wmparc.mgz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ctab $FREESURFER_HOME/FreeSurferColorLUT.txt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i fa.anat.mgh --sum fa.aseg.st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616200" y="1395360"/>
            <a:ext cx="53755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Command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FA map in DTI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FreeSurfer Registration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Nearest neighbor interpo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Specify anatomical output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Output file in anatomical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9320" y="3809880"/>
            <a:ext cx="88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Note similarity to bbregister, tkregister2, and mri_vol2surf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4E812-36BF-4F9C-AF4B-28FB91BD583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4920" y="990720"/>
            <a:ext cx="853416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Multi/Crossmodal map (HRF Amplitude, F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Multimodal Integration requires a Templ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A Template i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Same size as multimodal ma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In Voxel-to-voxel alignment with ma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Has better anatomical contras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Baseline functio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Low-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Usually a MC templ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Volume and Intensity ROI Analy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Functionally-constrained RO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DBEB7-BF52-4295-84EA-0DD2E5D2723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" y="1143000"/>
            <a:ext cx="853452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egistration – manual and automatic regist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fMRI Integration (Sensorimotor Paradig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Individu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Volume view si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Surface view si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OI analysis with and without functional constra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Grou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mris_prepro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OI analysis (asegstats2tabl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DTI Individual Analysi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190E0-06F7-4EFD-B003-EA0F041B636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00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eory of Affine Spatial Trans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71440" y="1880640"/>
            <a:ext cx="3395160" cy="2769120"/>
            <a:chOff x="271440" y="1880640"/>
            <a:chExt cx="3395160" cy="2769120"/>
          </a:xfrm>
        </p:grpSpPr>
        <p:sp>
          <p:nvSpPr>
            <p:cNvPr id="120" name=""/>
            <p:cNvSpPr/>
            <p:nvPr/>
          </p:nvSpPr>
          <p:spPr>
            <a:xfrm rot="21573600">
              <a:off x="380520" y="2133360"/>
              <a:ext cx="3276360" cy="2503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71440" y="1880640"/>
              <a:ext cx="3028680" cy="2765160"/>
              <a:chOff x="271440" y="1880640"/>
              <a:chExt cx="3028680" cy="2765160"/>
            </a:xfrm>
          </p:grpSpPr>
          <p:sp>
            <p:nvSpPr>
              <p:cNvPr id="122" name=""/>
              <p:cNvSpPr/>
              <p:nvPr/>
            </p:nvSpPr>
            <p:spPr>
              <a:xfrm rot="19354800">
                <a:off x="2633760" y="2263680"/>
                <a:ext cx="572760" cy="501480"/>
              </a:xfrm>
              <a:prstGeom prst="rtTriangl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9354800">
                <a:off x="463320" y="2509560"/>
                <a:ext cx="2581560" cy="1506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9354800">
                <a:off x="1550880" y="2610000"/>
                <a:ext cx="574560" cy="250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2198880" y="3152880"/>
                <a:ext cx="607680" cy="14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304920" y="129528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ative Anatomical Space 1x1x1.1mm, 256x256x128, S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843800" y="1804320"/>
            <a:ext cx="3086640" cy="2765160"/>
            <a:chOff x="4843800" y="1804320"/>
            <a:chExt cx="3086640" cy="2765160"/>
          </a:xfrm>
        </p:grpSpPr>
        <p:sp>
          <p:nvSpPr>
            <p:cNvPr id="128" name=""/>
            <p:cNvSpPr/>
            <p:nvPr/>
          </p:nvSpPr>
          <p:spPr>
            <a:xfrm rot="21573600">
              <a:off x="5103720" y="2055600"/>
              <a:ext cx="2818080" cy="2209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4843800" y="1804320"/>
              <a:ext cx="3028680" cy="2765160"/>
              <a:chOff x="4843800" y="1804320"/>
              <a:chExt cx="3028680" cy="2765160"/>
            </a:xfrm>
          </p:grpSpPr>
          <p:sp>
            <p:nvSpPr>
              <p:cNvPr id="130" name=""/>
              <p:cNvSpPr/>
              <p:nvPr/>
            </p:nvSpPr>
            <p:spPr>
              <a:xfrm rot="19354800">
                <a:off x="7206120" y="2187360"/>
                <a:ext cx="572760" cy="501480"/>
              </a:xfrm>
              <a:prstGeom prst="rtTriangl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9354800">
                <a:off x="5035680" y="2433240"/>
                <a:ext cx="2581560" cy="1506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9354800">
                <a:off x="6123240" y="2533680"/>
                <a:ext cx="574560" cy="250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6771240" y="3076560"/>
                <a:ext cx="607680" cy="14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4" name=""/>
          <p:cNvSpPr/>
          <p:nvPr/>
        </p:nvSpPr>
        <p:spPr>
          <a:xfrm>
            <a:off x="4876920" y="121932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onformed Anatomical Space 1x1x1mm, 256x256x256, C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2895480"/>
            <a:ext cx="914400" cy="762120"/>
          </a:xfrm>
          <a:prstGeom prst="rightArrow">
            <a:avLst>
              <a:gd name="adj1" fmla="val 50000"/>
              <a:gd name="adj2" fmla="val 2999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4419720"/>
            <a:ext cx="228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natomical Spac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orig.mg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arcel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egm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FD92-AD24-4569-A169-C06C1ED490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00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eory of Affine Spatial Trans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181480" y="2532240"/>
            <a:ext cx="3380040" cy="2023560"/>
            <a:chOff x="5181480" y="2532240"/>
            <a:chExt cx="3380040" cy="2023560"/>
          </a:xfrm>
        </p:grpSpPr>
        <p:sp>
          <p:nvSpPr>
            <p:cNvPr id="139" name=""/>
            <p:cNvSpPr/>
            <p:nvPr/>
          </p:nvSpPr>
          <p:spPr>
            <a:xfrm>
              <a:off x="5189400" y="2698920"/>
              <a:ext cx="3372120" cy="1219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5346000" y="2532240"/>
              <a:ext cx="3128400" cy="2023560"/>
              <a:chOff x="5346000" y="2532240"/>
              <a:chExt cx="3128400" cy="2023560"/>
            </a:xfrm>
          </p:grpSpPr>
          <p:sp>
            <p:nvSpPr>
              <p:cNvPr id="141" name=""/>
              <p:cNvSpPr/>
              <p:nvPr/>
            </p:nvSpPr>
            <p:spPr>
              <a:xfrm rot="20859000">
                <a:off x="7854120" y="3109320"/>
                <a:ext cx="573120" cy="501480"/>
              </a:xfrm>
              <a:prstGeom prst="rtTriangl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0859000">
                <a:off x="5477040" y="2790720"/>
                <a:ext cx="2581200" cy="1506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0859000">
                <a:off x="6779880" y="2976120"/>
                <a:ext cx="574560" cy="250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4280" y="3767760"/>
                <a:ext cx="61308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5181480" y="3915000"/>
              <a:ext cx="3372120" cy="48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181480" y="190512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ative Functional Space 3x3x5mm, 64x64x30, Ax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16765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natomical Spac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17600" y="2110680"/>
            <a:ext cx="3086640" cy="2765160"/>
            <a:chOff x="417600" y="2110680"/>
            <a:chExt cx="3086640" cy="2765160"/>
          </a:xfrm>
        </p:grpSpPr>
        <p:sp>
          <p:nvSpPr>
            <p:cNvPr id="149" name=""/>
            <p:cNvSpPr/>
            <p:nvPr/>
          </p:nvSpPr>
          <p:spPr>
            <a:xfrm rot="21573600">
              <a:off x="677520" y="2361960"/>
              <a:ext cx="2818080" cy="2209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417600" y="2110680"/>
              <a:ext cx="3028680" cy="2765160"/>
              <a:chOff x="417600" y="2110680"/>
              <a:chExt cx="3028680" cy="2765160"/>
            </a:xfrm>
          </p:grpSpPr>
          <p:sp>
            <p:nvSpPr>
              <p:cNvPr id="151" name=""/>
              <p:cNvSpPr/>
              <p:nvPr/>
            </p:nvSpPr>
            <p:spPr>
              <a:xfrm rot="19354800">
                <a:off x="2779920" y="2493720"/>
                <a:ext cx="572760" cy="501480"/>
              </a:xfrm>
              <a:prstGeom prst="rtTriangl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9354800">
                <a:off x="609480" y="2739600"/>
                <a:ext cx="2581560" cy="1506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19354800">
                <a:off x="1697040" y="2840040"/>
                <a:ext cx="574560" cy="250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345040" y="3382920"/>
                <a:ext cx="607680" cy="14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"/>
          <p:cNvSpPr/>
          <p:nvPr/>
        </p:nvSpPr>
        <p:spPr>
          <a:xfrm>
            <a:off x="3733920" y="2895480"/>
            <a:ext cx="1066680" cy="838440"/>
          </a:xfrm>
          <a:prstGeom prst="leftRightArrow">
            <a:avLst>
              <a:gd name="adj1" fmla="val 50000"/>
              <a:gd name="adj2" fmla="val 2532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472428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onformed Anatomical Space 1x1x1mm, 256x256x256, C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22BF-535C-4D88-BEC1-2C3291F670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gist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46000" y="1219320"/>
            <a:ext cx="1959120" cy="2287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332400" y="1211400"/>
            <a:ext cx="1959120" cy="22874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846000" y="3505320"/>
            <a:ext cx="1959120" cy="2287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6332400" y="3506760"/>
            <a:ext cx="1959120" cy="22874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52280" y="7621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reeSurfer Anatomical (ori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26840" y="762120"/>
            <a:ext cx="22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emplate Func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3624120" y="1219320"/>
            <a:ext cx="1957680" cy="2287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3624120" y="3514680"/>
            <a:ext cx="1957680" cy="2287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50760" y="5881680"/>
            <a:ext cx="793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Times New Roman"/>
              </a:rPr>
              <a:t>Note: Registering the template functional volume to the anatomical volu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Times New Roman"/>
              </a:rPr>
              <a:t>is sufficient to register the template to the surf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77A32D-8694-49EB-9304-4616394927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21000" y="6480"/>
            <a:ext cx="595440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FreeSurfer Registration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Template Volu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447920"/>
            <a:ext cx="2844720" cy="2648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reeSur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ubject-Speci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u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hick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O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38680" y="1447920"/>
            <a:ext cx="3183120" cy="24660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emplate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MR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P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1981080"/>
            <a:ext cx="2371680" cy="1067040"/>
          </a:xfrm>
          <a:prstGeom prst="leftRightArrow">
            <a:avLst>
              <a:gd name="adj1" fmla="val 50000"/>
              <a:gd name="adj2" fmla="val 44247"/>
            </a:avLst>
          </a:prstGeom>
          <a:solidFill>
            <a:srgbClr val="618ff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3320" y="4572000"/>
            <a:ext cx="765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Template Volume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 voxel-for-voxel registration with parameter 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Best gray-white contras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C3E2A-2F8B-440E-ABFF-6B9A4840432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05560" y="609480"/>
            <a:ext cx="6477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FreeSurfer Registration Matr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3640" y="1676520"/>
            <a:ext cx="581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4x4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s many as 12 DOF (usually 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mple Text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ordinate system not easy to expl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657600"/>
            <a:ext cx="7543800" cy="2284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mgh-02407836-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3.437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5.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0.15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9.999985e-01 -1.428481e-03 -8.293565e-04 5.281680e-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4.641568e-04 -2.388080e-01 9.710670e-01 -4.041043e+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1.585159e-03 9.710652e-01 2.388064e-01 -1.376212e+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0 0 0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CD7C4-B478-481F-B211-4D281949511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05560" y="609480"/>
            <a:ext cx="6477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FreeSurfer Registration Matr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3657600"/>
            <a:ext cx="7543800" cy="2284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mgh-02407836-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3.437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5.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0.15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9.999985e-01 -1.428481e-03 -8.293565e-04 5.281680e-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4.641568e-04 -2.388080e-01 9.710670e-01 -4.041043e+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1.585159e-03 9.710652e-01 2.388064e-01 -1.376212e+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0 0 0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24120" y="3657600"/>
            <a:ext cx="5257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FreeSurfer subject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Functional In-plane resolution 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Functional Between-plane resolution 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Intensity (for visualiz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Lega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3640" y="1676520"/>
            <a:ext cx="581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4x4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s many as 12 DOF (usually 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mple Text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ordinate system not easy to expl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6F5B3-9ECE-4DB8-96A9-17BB8DB21E3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20:15:13Z</dcterms:created>
  <dc:creator>Douglas Greve</dc:creator>
  <dc:description/>
  <dc:language>en-US</dc:language>
  <cp:lastModifiedBy>Lilla Zollei</cp:lastModifiedBy>
  <dcterms:modified xsi:type="dcterms:W3CDTF">2009-02-18T15:24:57Z</dcterms:modified>
  <cp:revision>836</cp:revision>
  <dc:subject/>
  <dc:title>Multimodal Integration in FreeSurfer</dc:title>
</cp:coreProperties>
</file>