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337-E92B-43F7-9F36-1651B43B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770-C590-4F89-9F54-DC2E8A48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CE2-A66B-4F50-9552-7DD13335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93C-1D41-4180-A482-DD6B9603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96F-65C2-43EE-8DED-1B43B63A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C69-4EEA-4AA2-B777-A0E91891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D6D-E45A-440C-B6A6-0FAD3FF9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457-6F96-4DA6-B4BA-77D6A734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23600" y="90360"/>
            <a:ext cx="60786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E49-D3D3-451F-83D6-EBC6EA17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D70-FB2E-445C-9316-69731CDD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3F8-AC39-428F-A591-16C0CB2A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AD1-A2C6-4BC6-8D86-953F242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3600" y="90360"/>
            <a:ext cx="6078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896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date/time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04/04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29920" y="6400800"/>
            <a:ext cx="449604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footer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Introduction to diffusion 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1020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E09F-833A-4EB0-AF57-1A1CC97369A5}" type="slidenum">
              <a:rPr b="0" lang="en-US" sz="1200" spc="-1" strike="noStrike">
                <a:solidFill>
                  <a:srgbClr val="99ff99"/>
                </a:solidFill>
                <a:latin typeface="Georgia"/>
              </a:rPr>
              <a:t>&lt;number&gt;</a:t>
            </a:fld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762120"/>
            <a:ext cx="380880" cy="574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458200" y="762120"/>
            <a:ext cx="371520" cy="5740200"/>
          </a:xfrm>
          <a:custGeom>
            <a:avLst/>
            <a:gdLst>
              <a:gd name="textAreaLeft" fmla="*/ 109080 w 371520"/>
              <a:gd name="textAreaRight" fmla="*/ 371880 w 37152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000" y="2086920"/>
            <a:ext cx="62276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Introduction to 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960" y="-760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428004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stasia Yendiki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MS/MGH/MIT Athinoula A. Martinos Center for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iomedical Imag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403" t="0" r="0" b="0"/>
          <a:stretch/>
        </p:blipFill>
        <p:spPr>
          <a:xfrm>
            <a:off x="876240" y="4984920"/>
            <a:ext cx="784440" cy="76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EEF-D280-44F9-B617-0ED3CF05BA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11283" t="0" r="13136" b="0"/>
          <a:stretch/>
        </p:blipFill>
        <p:spPr>
          <a:xfrm>
            <a:off x="4869000" y="2209680"/>
            <a:ext cx="311436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3520" y="90360"/>
            <a:ext cx="6462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tensor imaging (DTI)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0" r="0" b="3161"/>
          <a:stretch/>
        </p:blipFill>
        <p:spPr>
          <a:xfrm>
            <a:off x="1066680" y="2212920"/>
            <a:ext cx="31132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990720" y="1066680"/>
            <a:ext cx="3657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lang="en-US" sz="2000" spc="-1" strike="noStrike">
                <a:solidFill>
                  <a:srgbClr val="cc99ff"/>
                </a:solidFill>
                <a:latin typeface="Georgia"/>
              </a:rPr>
              <a:t>intensity 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066680"/>
            <a:ext cx="3276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ensor ma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75040" y="5396040"/>
            <a:ext cx="3276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Direction of eigenvector corresponding to greatest eigen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Red: L-R, Green: A-P, Blue: I-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209320" y="1828800"/>
            <a:ext cx="368280" cy="1752480"/>
          </a:xfrm>
          <a:prstGeom prst="line">
            <a:avLst/>
          </a:prstGeom>
          <a:ln w="38160">
            <a:solidFill>
              <a:srgbClr val="cc9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27200" y="3581280"/>
            <a:ext cx="76320" cy="76320"/>
          </a:xfrm>
          <a:prstGeom prst="rect">
            <a:avLst/>
          </a:prstGeom>
          <a:noFill/>
          <a:ln w="38160">
            <a:solidFill>
              <a:srgbClr val="cc97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715000" y="1828440"/>
            <a:ext cx="660240" cy="185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3657600"/>
            <a:ext cx="76320" cy="76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C15-6F68-4DD7-B79D-574D4A2CA8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74720" y="90360"/>
            <a:ext cx="41828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Summary measur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1600200" cy="1873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1600200" cy="187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19720" y="150804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ean diffusivity (MD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ean of the 3 eigen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37180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ractional anisotropy (FA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Variance of the 3 eigenvalues, normalized so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A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447920" y="3733920"/>
            <a:ext cx="1309680" cy="838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676160" y="4371840"/>
            <a:ext cx="1081080" cy="7336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739880" y="1447920"/>
            <a:ext cx="838080" cy="304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739880" y="2409840"/>
            <a:ext cx="838080" cy="333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6960" y="13701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6960" y="20559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8880" y="3681360"/>
            <a:ext cx="185724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isotr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0040" y="43419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otr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2346480"/>
            <a:ext cx="350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5073480"/>
            <a:ext cx="54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8040" y="52862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530680"/>
            <a:ext cx="259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508720"/>
            <a:ext cx="5105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6980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69800" y="554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25960" y="5511960"/>
            <a:ext cx="203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A47-F274-4C3A-9617-354AA2EBEA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08080" y="90360"/>
            <a:ext cx="5313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ore summary measur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xial diffusivity: Greatest of the 3 eigenvalu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adial diffusivity: Average of 2 lesser eigenvalues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ter-voxel coherence: Average angle b/w the major eigenvector at some voxel and the major eigenvector at the voxels around i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167652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81952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16B-C7A4-4273-A647-A6AAE574E8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38160" y="90360"/>
            <a:ext cx="38545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Beyond the tensor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35049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igh angular resolution diffusion imaging (HARDI): More complex models to capture more complex microarchitectur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ixture of tensors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Tuch’02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igher-rank tensor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Frank’02, Özarslan’03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all-and-stick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Behrens’03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rientation distribution function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Tuch’04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 spectrum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Wedeen’05]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tensor is an imperfect model: What if more than one major diffusion direction in the same vox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1828800"/>
            <a:ext cx="12063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11960" y="2044800"/>
            <a:ext cx="685800" cy="10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99000" y="2070000"/>
            <a:ext cx="762120" cy="100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67280" y="1955880"/>
            <a:ext cx="0" cy="119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4345" t="13525" r="26091" b="6762"/>
          <a:stretch/>
        </p:blipFill>
        <p:spPr>
          <a:xfrm>
            <a:off x="2666880" y="1828800"/>
            <a:ext cx="243864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698-77BC-4135-89B7-6C3758FB66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90760" y="4111560"/>
            <a:ext cx="609480" cy="609840"/>
          </a:xfrm>
          <a:prstGeom prst="ellipse">
            <a:avLst/>
          </a:prstGeom>
          <a:solidFill>
            <a:srgbClr val="4506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22240" y="90360"/>
            <a:ext cx="4087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odels of diffus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124080" y="1066680"/>
          <a:ext cx="5562360" cy="525780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Diffusion spectrum (DSI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ull distribution of orientation and magnitu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rientation distribution function (Q-ball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o magnitude info, only ori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all-and-stic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rientation and magnitude for up to N anisotropic compart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ensor (DTI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le orientation and magnitu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 rot="16200000">
            <a:off x="13078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5094800">
            <a:off x="12952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3874400">
            <a:off x="1295280" y="30571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75800">
            <a:off x="1295280" y="30567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1767200">
            <a:off x="1294920" y="30567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9832800">
            <a:off x="701280" y="3023280"/>
            <a:ext cx="2179800" cy="169920"/>
          </a:xfrm>
          <a:prstGeom prst="leftRightArrow">
            <a:avLst>
              <a:gd name="adj1" fmla="val 50000"/>
              <a:gd name="adj2" fmla="val 255380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 rot="8824200">
            <a:off x="1308240" y="30441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7725600">
            <a:off x="1295640" y="30571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6505200">
            <a:off x="1041120" y="305748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338120" y="17143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5094800">
            <a:off x="1245240" y="1700640"/>
            <a:ext cx="1066680" cy="172800"/>
          </a:xfrm>
          <a:prstGeom prst="leftRightArrow">
            <a:avLst>
              <a:gd name="adj1" fmla="val 50000"/>
              <a:gd name="adj2" fmla="val 122886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3874400">
            <a:off x="1325520" y="171396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2775800">
            <a:off x="1325520" y="17139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03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1767200">
            <a:off x="1325160" y="17139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520" y="17146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 rot="9832800">
            <a:off x="685080" y="1716840"/>
            <a:ext cx="2089080" cy="165240"/>
          </a:xfrm>
          <a:prstGeom prst="leftRightArrow">
            <a:avLst>
              <a:gd name="adj1" fmla="val 50000"/>
              <a:gd name="adj2" fmla="val 251683"/>
            </a:avLst>
          </a:prstGeom>
          <a:solidFill>
            <a:srgbClr val="fff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8824200">
            <a:off x="1338120" y="170064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7725600">
            <a:off x="1325520" y="17143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4506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6505200">
            <a:off x="1071360" y="171432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ff19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 rot="9832800">
            <a:off x="729720" y="4317480"/>
            <a:ext cx="2089440" cy="165240"/>
          </a:xfrm>
          <a:prstGeom prst="leftRightArrow">
            <a:avLst>
              <a:gd name="adj1" fmla="val 50000"/>
              <a:gd name="adj2" fmla="val 251727"/>
            </a:avLst>
          </a:prstGeom>
          <a:solidFill>
            <a:srgbClr val="fff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rot="6505200">
            <a:off x="1071360" y="431460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ff19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 rot="8259600">
            <a:off x="1066680" y="5307840"/>
            <a:ext cx="1384560" cy="143280"/>
          </a:xfrm>
          <a:prstGeom prst="leftRightArrow">
            <a:avLst>
              <a:gd name="adj1" fmla="val 50000"/>
              <a:gd name="adj2" fmla="val 192371"/>
            </a:avLst>
          </a:prstGeom>
          <a:solidFill>
            <a:srgbClr val="ffa52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F77-CCEF-42AD-8194-6BE8B94600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82840" y="90360"/>
            <a:ext cx="45626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Example: DTI vs. DS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68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19320" y="579132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Wedee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 complex tissue architecture with diffusion spectrum magnetic resonance imaging, MRM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385-FE82-4DEF-8004-FF433E5FEE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32200" y="90360"/>
            <a:ext cx="34862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ata acquisit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member: A tensor has six unique paramete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38880" y="1523880"/>
            <a:ext cx="117180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383" t="1248" r="2812" b="921"/>
          <a:stretch/>
        </p:blipFill>
        <p:spPr>
          <a:xfrm>
            <a:off x="6149880" y="1752480"/>
            <a:ext cx="1160640" cy="1371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758" t="646" r="536" b="921"/>
          <a:stretch/>
        </p:blipFill>
        <p:spPr>
          <a:xfrm>
            <a:off x="5045040" y="1981080"/>
            <a:ext cx="117144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7242120" y="3352680"/>
            <a:ext cx="116856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5"/>
          <a:srcRect l="1451" t="646" r="383" b="0"/>
          <a:stretch/>
        </p:blipFill>
        <p:spPr>
          <a:xfrm>
            <a:off x="6149880" y="3581280"/>
            <a:ext cx="115740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029200" y="3809880"/>
            <a:ext cx="117144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7599960" y="1066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77320" y="15238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3280" y="12952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80880" y="28954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37880" y="31240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77320" y="3352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098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o estimate six parameters at each voxel, must acquire at least six diffusion-weighted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 models have more parameters per voxel, so more images must be ac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25960" y="2209680"/>
            <a:ext cx="2536200" cy="1364400"/>
            <a:chOff x="1425960" y="2209680"/>
            <a:chExt cx="2536200" cy="1364400"/>
          </a:xfrm>
        </p:grpSpPr>
        <p:sp>
          <p:nvSpPr>
            <p:cNvPr id="263" name=""/>
            <p:cNvSpPr/>
            <p:nvPr/>
          </p:nvSpPr>
          <p:spPr>
            <a:xfrm>
              <a:off x="2351160" y="2231640"/>
              <a:ext cx="13968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3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25960" y="258912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Georgia"/>
                </a:rPr>
                <a:t>D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44880" y="2209680"/>
              <a:ext cx="164880" cy="1295280"/>
            </a:xfrm>
            <a:custGeom>
              <a:avLst/>
              <a:gdLst>
                <a:gd name="textAreaLeft" fmla="*/ 48240 w 164880"/>
                <a:gd name="textAreaRight" fmla="*/ 165240 w 16488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0800000">
              <a:off x="3796920" y="2209680"/>
              <a:ext cx="165240" cy="1295280"/>
            </a:xfrm>
            <a:custGeom>
              <a:avLst/>
              <a:gdLst>
                <a:gd name="textAreaLeft" fmla="*/ 48600 w 165240"/>
                <a:gd name="textAreaRight" fmla="*/ 165600 w 16524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273-7518-41B6-B5DC-C292FBCEE6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46280" y="90360"/>
            <a:ext cx="60357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hoice 1: Gradient direction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rue diffusion direction || Applied gradient direc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ximum attenua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rue diffusion direc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pplied gradient direc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No attenua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o capture all diffusion directions well, gradient directions should cover 3D space uniforml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038480" y="1828800"/>
            <a:ext cx="129564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38480" y="2133360"/>
            <a:ext cx="609840" cy="2286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46920" y="195732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93680" y="22543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3368520"/>
            <a:ext cx="129564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835440" y="3406680"/>
            <a:ext cx="203040" cy="495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46920" y="349740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6920" y="37940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not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083120" y="5273640"/>
            <a:ext cx="129528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083120" y="5645160"/>
            <a:ext cx="336600" cy="162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91200" y="540216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66600" y="569916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partly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114800" y="5264280"/>
            <a:ext cx="177840" cy="558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526428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EAA-E007-40FD-8D16-310B9633D1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301840" y="90360"/>
            <a:ext cx="47260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many directions?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cquiring data with more gradient directions leads to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ore reliable estimation of diffusion measur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ed imaging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Subject discomfort, more susceptible to artifacts due to motion, respiration, etc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TI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 directions is the minimum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ually a few 10’s of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3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minishing returns after a certain number 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[Jones, 2004]</a:t>
            </a: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/DSI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ually a few 100’s of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179-A909-4D03-9DFF-FB861BC923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89320" y="90360"/>
            <a:ext cx="45511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hoice 2: The b-valu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b-value depends on acquisition parameters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/3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gyromagnetic ratio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the strength of the diffusion-encoding gradient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9e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duration of each diffusion-encoding puls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33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interval b/w diffusion-encoding puls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5664240"/>
            <a:ext cx="6629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4902120"/>
            <a:ext cx="228600" cy="762120"/>
          </a:xfrm>
          <a:prstGeom prst="rect">
            <a:avLst/>
          </a:prstGeom>
          <a:solidFill>
            <a:srgbClr val="90908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902120"/>
            <a:ext cx="228600" cy="762120"/>
          </a:xfrm>
          <a:prstGeom prst="rect">
            <a:avLst/>
          </a:prstGeom>
          <a:solidFill>
            <a:srgbClr val="90908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019920" y="4902120"/>
            <a:ext cx="1371600" cy="762120"/>
            <a:chOff x="6019920" y="4902120"/>
            <a:chExt cx="1371600" cy="762120"/>
          </a:xfrm>
        </p:grpSpPr>
        <p:sp>
          <p:nvSpPr>
            <p:cNvPr id="291" name=""/>
            <p:cNvSpPr/>
            <p:nvPr/>
          </p:nvSpPr>
          <p:spPr>
            <a:xfrm>
              <a:off x="60199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44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771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294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16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343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866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88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915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17800" y="44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90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85800" y="446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80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0" y="4902120"/>
            <a:ext cx="1523880" cy="762120"/>
          </a:xfrm>
          <a:prstGeom prst="rect">
            <a:avLst/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4902120"/>
            <a:ext cx="1523880" cy="762120"/>
          </a:xfrm>
          <a:prstGeom prst="rect">
            <a:avLst/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3600" y="44942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cqui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2520" y="504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3356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22080" y="45403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467160" y="4876560"/>
            <a:ext cx="0" cy="228600"/>
          </a:xfrm>
          <a:prstGeom prst="line">
            <a:avLst/>
          </a:prstGeom>
          <a:ln w="255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467160" y="5409720"/>
            <a:ext cx="0" cy="228600"/>
          </a:xfrm>
          <a:prstGeom prst="line">
            <a:avLst/>
          </a:prstGeom>
          <a:ln w="25560">
            <a:solidFill>
              <a:srgbClr val="ff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55800" y="4724280"/>
            <a:ext cx="609840" cy="0"/>
          </a:xfrm>
          <a:prstGeom prst="line">
            <a:avLst/>
          </a:prstGeom>
          <a:ln w="25560">
            <a:solidFill>
              <a:srgbClr val="809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0640" y="4724280"/>
            <a:ext cx="609840" cy="0"/>
          </a:xfrm>
          <a:prstGeom prst="line">
            <a:avLst/>
          </a:prstGeom>
          <a:ln w="25560">
            <a:solidFill>
              <a:srgbClr val="809e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13000" y="5867280"/>
            <a:ext cx="9907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867280"/>
            <a:ext cx="99072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EB7-EB6F-4F35-B26F-04EEA1A801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9800" y="74520"/>
            <a:ext cx="46846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White-matter imaging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2425" b="0"/>
          <a:stretch/>
        </p:blipFill>
        <p:spPr>
          <a:xfrm>
            <a:off x="5464080" y="1206360"/>
            <a:ext cx="3070440" cy="4724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7280" y="1143000"/>
            <a:ext cx="2667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xons measure ~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m in width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y group together in bundles that traverse the white matter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cannot image individual axons but we can image bundles with diffusion MRI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Useful in studying neurodegenerative diseases, stroke, aging, development…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5397480" y="5999040"/>
            <a:ext cx="29718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</a:t>
            </a:r>
            <a:r>
              <a:rPr b="0" i="1" lang="en-US" sz="900" spc="-1" strike="noStrike">
                <a:solidFill>
                  <a:srgbClr val="ffffff"/>
                </a:solidFill>
                <a:latin typeface="Georgia"/>
              </a:rPr>
              <a:t>Gray's Anatomy: IX. Neurolo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8212" t="0" r="0" b="1611"/>
          <a:stretch/>
        </p:blipFill>
        <p:spPr>
          <a:xfrm>
            <a:off x="609480" y="1217520"/>
            <a:ext cx="2046240" cy="464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940360"/>
            <a:ext cx="2057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the National Institute on Ag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31F-5F26-4F50-A3E0-BE65DE647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74440" y="90360"/>
            <a:ext cx="39783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high b-value?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ing the b-value leads to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Georg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ed contrast b/w areas of higher and lower diffusivity in principl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creased signal-to-noise ratio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ess reliable estimation of diffusion measures in practic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TI: b ~ 1000 sec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/DSI: b ~ 10,000 sec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ata can be acquired at multiple b-values for trade-off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peat acquisition and average to increase signal-to-noise ratio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4CD-AAC9-423E-A292-61C2D44F41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41320" y="90360"/>
            <a:ext cx="40798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Looking at the data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8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2392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diffusion data set consists of: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set of non-diffusion-weighted a.k.a “baseline” a.k.a. “low-b” images (b-value = 0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set of diffusion-weighted (DW) images acquired with different gradient directions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,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, … and b-value &gt;0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diffusion-weighted images have lower intensity value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198520" y="3416400"/>
            <a:ext cx="4469040" cy="26064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8480" y="3492360"/>
            <a:ext cx="1157760" cy="70380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as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93080" y="3492360"/>
            <a:ext cx="1371600" cy="100872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Arial"/>
              </a:rPr>
              <a:t>Diffusion-weigh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Arial"/>
              </a:rPr>
              <a:t>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54360" y="3889440"/>
            <a:ext cx="457200" cy="0"/>
          </a:xfrm>
          <a:prstGeom prst="line">
            <a:avLst/>
          </a:prstGeom>
          <a:ln w="38160">
            <a:solidFill>
              <a:srgbClr val="fffb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3898800"/>
            <a:ext cx="533520" cy="0"/>
          </a:xfrm>
          <a:prstGeom prst="line">
            <a:avLst/>
          </a:prstGeom>
          <a:ln w="38160">
            <a:solidFill>
              <a:srgbClr val="fffb6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312408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78360" y="3124080"/>
            <a:ext cx="8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313704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13704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597384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48320" y="598176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598176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CB8-A085-40B5-9A86-17844737EC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90360"/>
            <a:ext cx="71964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stortions: Field inhomogeneiti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903" t="2176" r="903" b="1088"/>
          <a:stretch/>
        </p:blipFill>
        <p:spPr>
          <a:xfrm>
            <a:off x="5745240" y="1812960"/>
            <a:ext cx="2763720" cy="3390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85800" y="1587600"/>
            <a:ext cx="502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Scanner-dependent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(imperfections of main magnetic fiel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Subject-dependent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changes in magnetic susceptibility in tissue/air interfa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sult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gnal loss in interface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eometric distortions (warping) of the entire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84840" y="1282680"/>
            <a:ext cx="1857240" cy="39888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Georgia"/>
              </a:rPr>
              <a:t>Signal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94640" y="1685880"/>
            <a:ext cx="0" cy="609480"/>
          </a:xfrm>
          <a:prstGeom prst="line">
            <a:avLst/>
          </a:prstGeom>
          <a:ln w="38160">
            <a:solidFill>
              <a:srgbClr val="fffb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4C2-2527-456D-B6BB-4539BB312B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83880" y="90360"/>
            <a:ext cx="55594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stortions: Eddy curr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9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219320"/>
            <a:ext cx="4647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use: Fast switching of diffusion-encoding gradients induces eddy currents in conducting 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ddy currents lead to residual gradients that shift the diffusion grad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shifts are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direction-dependent,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i.e.,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erent for each DW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sult: Geometric dist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100480" y="1357200"/>
            <a:ext cx="3434040" cy="33800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638680" y="472428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Le Biha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,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tifacts and pitfalls in diffusion MRI, JMRI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0F8-CCDA-4864-840D-08269837D2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55360" y="90360"/>
            <a:ext cx="40165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ata analysis step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1066680"/>
            <a:ext cx="549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re-process images to reduce dist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Either register distorted DW images to an undistorted (non-DW) ima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Or use information on distortions from separate scans (field map, residual gradients)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t a diffusion model at every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TI, DSI, Q-ball,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o tractography to reconstruct pathways and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mpute measures of anisotropy/diffusivity and compare them between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Voxel-based, ROI-based, or tract-based statistical 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rcRect l="11680" t="13621" r="26091" b="6820"/>
          <a:stretch/>
        </p:blipFill>
        <p:spPr>
          <a:xfrm>
            <a:off x="6197760" y="2602080"/>
            <a:ext cx="2181240" cy="1495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6202440" y="1195560"/>
            <a:ext cx="2174760" cy="126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3"/>
          <a:srcRect l="14626" t="0" r="14074" b="0"/>
          <a:stretch/>
        </p:blipFill>
        <p:spPr>
          <a:xfrm>
            <a:off x="6203880" y="4257720"/>
            <a:ext cx="2178000" cy="191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8E4-C221-42E8-83E6-2361898680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57320" y="90360"/>
            <a:ext cx="1816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utorial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 Bold"/>
              </a:rPr>
              <a:t>dt_recon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to prepare DWI data for a simple voxel-based analysis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lculate and display FA/MD/… map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tra-subject registration (individual DWI to individual T1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ter-subject registration (individual T1 to common template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e anatomical segmentation (aparc+aseg) as a brain mask for DWI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p all FA/MD/… volumes to common template to perform voxel-based group comparis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20512" t="20539" r="19853" b="19846"/>
          <a:stretch/>
        </p:blipFill>
        <p:spPr>
          <a:xfrm>
            <a:off x="6797520" y="1292400"/>
            <a:ext cx="1292400" cy="109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2"/>
          <a:srcRect l="20512" t="20539" r="19926" b="19933"/>
          <a:stretch/>
        </p:blipFill>
        <p:spPr>
          <a:xfrm>
            <a:off x="6797520" y="2470320"/>
            <a:ext cx="1290960" cy="109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3"/>
          <a:srcRect l="20512" t="20539" r="20072" b="20106"/>
          <a:stretch/>
        </p:blipFill>
        <p:spPr>
          <a:xfrm>
            <a:off x="6804000" y="3646440"/>
            <a:ext cx="1287360" cy="108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4"/>
          <a:srcRect l="19267" t="19240" r="21101" b="21145"/>
          <a:stretch/>
        </p:blipFill>
        <p:spPr>
          <a:xfrm>
            <a:off x="6797520" y="4819680"/>
            <a:ext cx="1292400" cy="1092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DC1-4EDD-4D4F-9D97-326C7C82CA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8400" y="90360"/>
            <a:ext cx="50529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in brain tissu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010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ray matter: Diffusion is unrestrict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otropic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ite matter: Diffusion is restrict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nisotropic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erentiate between tissues based on the diffusion (random motion) of water molecules within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743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746840" y="2298240"/>
            <a:ext cx="266760" cy="406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23160" y="2844720"/>
            <a:ext cx="53352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46920" y="2844720"/>
            <a:ext cx="53352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277040" y="3009960"/>
            <a:ext cx="27936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85000" y="2983680"/>
            <a:ext cx="304920" cy="3812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264080" y="2324160"/>
            <a:ext cx="30492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532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969160" y="5221080"/>
            <a:ext cx="482400" cy="1522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94360" y="5437080"/>
            <a:ext cx="4827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18120" y="5360760"/>
            <a:ext cx="533520" cy="507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17760" y="5487840"/>
            <a:ext cx="546120" cy="511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875040"/>
            <a:ext cx="2514600" cy="140976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332240"/>
            <a:ext cx="2590920" cy="137160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4760" y="452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289640" y="4091040"/>
            <a:ext cx="22860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353360" y="4218120"/>
            <a:ext cx="304920" cy="3045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06880" y="4726080"/>
            <a:ext cx="291960" cy="3045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97680" y="4788720"/>
            <a:ext cx="177840" cy="343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4637160"/>
            <a:ext cx="3429000" cy="1306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70480" y="5272200"/>
            <a:ext cx="75960" cy="75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59400" y="5246280"/>
            <a:ext cx="317520" cy="25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33840" y="5335560"/>
            <a:ext cx="57168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075-05E2-48F3-AF48-3A90AAB959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2560" y="90360"/>
            <a:ext cx="31021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gnetic resonance imaging can provide “diffusion encoding”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gnetic field strength is varied by gradients in different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 intensity is attenuated depending on water diffusion in each direc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mpare with baseline images to infer on diffusion proces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85" t="0" r="4816" b="0"/>
          <a:stretch/>
        </p:blipFill>
        <p:spPr>
          <a:xfrm>
            <a:off x="5181480" y="4923000"/>
            <a:ext cx="1096920" cy="132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65640" y="1338120"/>
            <a:ext cx="104796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rcRect l="2165" t="0" r="0" b="0"/>
          <a:stretch/>
        </p:blipFill>
        <p:spPr>
          <a:xfrm>
            <a:off x="6172200" y="1719360"/>
            <a:ext cx="1038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164360" y="2143080"/>
            <a:ext cx="1065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5"/>
          <a:srcRect l="3744" t="0" r="0" b="0"/>
          <a:stretch/>
        </p:blipFill>
        <p:spPr>
          <a:xfrm>
            <a:off x="5165640" y="2701800"/>
            <a:ext cx="106380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6"/>
          <a:srcRect l="0" t="0" r="2334" b="0"/>
          <a:stretch/>
        </p:blipFill>
        <p:spPr>
          <a:xfrm>
            <a:off x="6138720" y="3063960"/>
            <a:ext cx="106380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7"/>
          <a:srcRect l="2967" t="0" r="2967" b="0"/>
          <a:stretch/>
        </p:blipFill>
        <p:spPr>
          <a:xfrm>
            <a:off x="7170840" y="3506760"/>
            <a:ext cx="105876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732720" y="5486400"/>
            <a:ext cx="137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No diffusion enco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838080"/>
            <a:ext cx="15242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Diffusion encoding in direction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291360" y="5680080"/>
            <a:ext cx="457200" cy="144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154620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229520" y="17445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17524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981920" y="192564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48040" y="408636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76640" y="4009680"/>
            <a:ext cx="35748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10160" y="433548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38760" y="42591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76840" y="457200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805440" y="4495680"/>
            <a:ext cx="35748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248520" y="127008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5E1-8CB8-4B2E-B850-164FA49340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63360" y="90360"/>
            <a:ext cx="56055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to represent diffus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very voxel we want to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 this in white mat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f yes, what pathway(s) is it part of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at is the orientation of diffu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at is the magnitude of diffu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grayscale image cannot capture all thi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5522" t="0" r="15167" b="0"/>
          <a:stretch/>
        </p:blipFill>
        <p:spPr>
          <a:xfrm>
            <a:off x="1117440" y="1143000"/>
            <a:ext cx="312444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4438" t="13621" r="26091" b="6820"/>
          <a:stretch/>
        </p:blipFill>
        <p:spPr>
          <a:xfrm>
            <a:off x="4610160" y="1346040"/>
            <a:ext cx="2435040" cy="1495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803240" y="1905120"/>
            <a:ext cx="762120" cy="4953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65360" y="1371600"/>
            <a:ext cx="2057400" cy="53352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65360" y="2387520"/>
            <a:ext cx="2057400" cy="43200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1440" y="2374920"/>
            <a:ext cx="114120" cy="1141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22960" y="2145960"/>
            <a:ext cx="1143000" cy="22860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61120" y="2502000"/>
            <a:ext cx="1130400" cy="20304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212076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42280" y="2311560"/>
            <a:ext cx="520560" cy="24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2A5-CC55-4AD8-BFAA-E35C1D8578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69920" y="90360"/>
            <a:ext cx="17874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ensor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ne way to express the notion of direction is 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tensor is a 3x3 symmetric, positive-definite matrix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4197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 symmetric 3x3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t has 6 uniqu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uffices to estimate the upper (lower) triangular 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852920" y="2590920"/>
            <a:ext cx="2536200" cy="1364400"/>
            <a:chOff x="1852920" y="2590920"/>
            <a:chExt cx="2536200" cy="1364400"/>
          </a:xfrm>
        </p:grpSpPr>
        <p:sp>
          <p:nvSpPr>
            <p:cNvPr id="120" name=""/>
            <p:cNvSpPr/>
            <p:nvPr/>
          </p:nvSpPr>
          <p:spPr>
            <a:xfrm>
              <a:off x="2778120" y="2612880"/>
              <a:ext cx="13968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3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52920" y="297036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Georgia"/>
                </a:rPr>
                <a:t>D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1840" y="2590920"/>
              <a:ext cx="164880" cy="1295280"/>
            </a:xfrm>
            <a:custGeom>
              <a:avLst/>
              <a:gdLst>
                <a:gd name="textAreaLeft" fmla="*/ 48240 w 164880"/>
                <a:gd name="textAreaRight" fmla="*/ 165240 w 16488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4223880" y="2590920"/>
              <a:ext cx="165240" cy="1295280"/>
            </a:xfrm>
            <a:custGeom>
              <a:avLst/>
              <a:gdLst>
                <a:gd name="textAreaLeft" fmla="*/ 48600 w 165240"/>
                <a:gd name="textAreaRight" fmla="*/ 165600 w 16524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5DE-AF8B-4448-A0CD-3087824946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29000" y="2743200"/>
            <a:ext cx="2209680" cy="1333440"/>
          </a:xfrm>
          <a:prstGeom prst="ellipse">
            <a:avLst/>
          </a:prstGeom>
          <a:gradFill rotWithShape="0">
            <a:gsLst>
              <a:gs pos="0">
                <a:srgbClr val="808080">
                  <a:alpha val="60392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4120" y="90360"/>
            <a:ext cx="56800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Eigenvalues &amp; eigenvector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matri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 positive-defini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has 3 real, positive eigenvalues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&gt; 0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has 3 orthogonal eigenvector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60400" y="4495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 +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 +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03400" y="4952880"/>
            <a:ext cx="9144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141640" y="4952880"/>
            <a:ext cx="380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360" y="5638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710760" y="4648320"/>
            <a:ext cx="1311480" cy="1342440"/>
            <a:chOff x="6710760" y="4648320"/>
            <a:chExt cx="1311480" cy="1342440"/>
          </a:xfrm>
        </p:grpSpPr>
        <p:grpSp>
          <p:nvGrpSpPr>
            <p:cNvPr id="132" name=""/>
            <p:cNvGrpSpPr/>
            <p:nvPr/>
          </p:nvGrpSpPr>
          <p:grpSpPr>
            <a:xfrm>
              <a:off x="7413480" y="4648320"/>
              <a:ext cx="608760" cy="1342440"/>
              <a:chOff x="7413480" y="4648320"/>
              <a:chExt cx="608760" cy="1342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500960" y="4648320"/>
                <a:ext cx="519120" cy="13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x</a:t>
                </a:r>
                <a:r>
                  <a:rPr b="0" i="1" lang="en-US" sz="2400" spc="-1" strike="noStrike">
                    <a:solidFill>
                      <a:srgbClr val="ff8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3480" y="4701960"/>
                <a:ext cx="151920" cy="1218960"/>
              </a:xfrm>
              <a:custGeom>
                <a:avLst/>
                <a:gdLst>
                  <a:gd name="textAreaLeft" fmla="*/ 44640 w 151920"/>
                  <a:gd name="textAreaRight" fmla="*/ 152280 w 151920"/>
                  <a:gd name="textAreaTop" fmla="*/ 2160 h 1218960"/>
                  <a:gd name="textAreaBottom" fmla="*/ 121680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3"/>
                      <a:pt x="0" y="86"/>
                    </a:cubicBezTo>
                    <a:lnTo>
                      <a:pt x="0" y="21514"/>
                    </a:lnTo>
                    <a:cubicBezTo>
                      <a:pt x="0" y="21557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0800000">
                <a:off x="7870320" y="4701960"/>
                <a:ext cx="151920" cy="1218960"/>
              </a:xfrm>
              <a:custGeom>
                <a:avLst/>
                <a:gdLst>
                  <a:gd name="textAreaLeft" fmla="*/ 44640 w 151920"/>
                  <a:gd name="textAreaRight" fmla="*/ 152280 w 151920"/>
                  <a:gd name="textAreaTop" fmla="*/ 2160 h 1218960"/>
                  <a:gd name="textAreaBottom" fmla="*/ 121680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3"/>
                      <a:pt x="0" y="86"/>
                    </a:cubicBezTo>
                    <a:lnTo>
                      <a:pt x="0" y="21514"/>
                    </a:lnTo>
                    <a:cubicBezTo>
                      <a:pt x="0" y="21557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710760" y="5028840"/>
              <a:ext cx="64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65400" y="5638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70240" y="495288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51120" y="4952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21240" y="337788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21240" y="339084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165560" y="3390840"/>
            <a:ext cx="355680" cy="343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18240" y="293364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2960" y="32130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89640" y="351792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3A8-B7BC-4788-B2F8-E3C371C735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3320" y="90360"/>
            <a:ext cx="4800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Physical interpretat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ectors express diffusion direc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alues express diffusion magnitud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"/>
          <p:cNvSpPr/>
          <p:nvPr/>
        </p:nvSpPr>
        <p:spPr>
          <a:xfrm>
            <a:off x="1608120" y="2909880"/>
            <a:ext cx="2209680" cy="2171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700000" y="3912840"/>
            <a:ext cx="12600" cy="825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392580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03480" y="3925800"/>
            <a:ext cx="596880" cy="596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97360" y="34686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99040" y="40528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38880" y="445932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65720" y="3252960"/>
            <a:ext cx="2209680" cy="1333440"/>
          </a:xfrm>
          <a:prstGeom prst="ellipse">
            <a:avLst/>
          </a:prstGeom>
          <a:gradFill rotWithShape="0">
            <a:gsLst>
              <a:gs pos="0">
                <a:srgbClr val="808080">
                  <a:alpha val="60392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57960" y="3836880"/>
            <a:ext cx="0" cy="432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57960" y="384984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002280" y="3849840"/>
            <a:ext cx="355680" cy="342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4960" y="339264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59680" y="36720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26360" y="397656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7040" y="2133720"/>
            <a:ext cx="322884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otropic diffu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84920" y="2168640"/>
            <a:ext cx="39906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isotropic diffu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&gt;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21496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ne such ellipsoid at each voxel: Likelihood of water molecule displacements at that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D6E-66F0-4A8E-93C4-C59E276A36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0710" t="431" r="17388" b="875"/>
          <a:stretch/>
        </p:blipFill>
        <p:spPr>
          <a:xfrm>
            <a:off x="4863960" y="2209680"/>
            <a:ext cx="31114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3520" y="90360"/>
            <a:ext cx="6462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tensor imaging (DTI)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0" b="3161"/>
          <a:stretch/>
        </p:blipFill>
        <p:spPr>
          <a:xfrm>
            <a:off x="1066680" y="2209680"/>
            <a:ext cx="31132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775040" y="5392800"/>
            <a:ext cx="3276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Direction of eigenvector corresponding to greatest eigen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066680"/>
            <a:ext cx="3657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lang="en-US" sz="2000" spc="-1" strike="noStrike">
                <a:solidFill>
                  <a:srgbClr val="cc99ff"/>
                </a:solidFill>
                <a:latin typeface="Georgia"/>
              </a:rPr>
              <a:t>intensity 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066680"/>
            <a:ext cx="3276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ensor ma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09320" y="1828800"/>
            <a:ext cx="368280" cy="1752480"/>
          </a:xfrm>
          <a:prstGeom prst="line">
            <a:avLst/>
          </a:prstGeom>
          <a:ln w="38160">
            <a:solidFill>
              <a:srgbClr val="cc9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0" y="3581280"/>
            <a:ext cx="76320" cy="76320"/>
          </a:xfrm>
          <a:prstGeom prst="rect">
            <a:avLst/>
          </a:prstGeom>
          <a:noFill/>
          <a:ln w="38160">
            <a:solidFill>
              <a:srgbClr val="cc97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5000" y="1828440"/>
            <a:ext cx="660240" cy="185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3657600"/>
            <a:ext cx="76320" cy="76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877-EA44-442D-9B71-958A3CE6E0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20:46:37Z</dcterms:created>
  <dc:creator>Anastasia Yendiki</dc:creator>
  <dc:description/>
  <dc:language>en-US</dc:language>
  <cp:lastModifiedBy>Anastasia Yendiki</cp:lastModifiedBy>
  <cp:lastPrinted>2008-10-08T21:25:17Z</cp:lastPrinted>
  <dcterms:modified xsi:type="dcterms:W3CDTF">2012-04-09T16:07:14Z</dcterms:modified>
  <cp:revision>264</cp:revision>
  <dc:subject/>
  <dc:title>Anatomically constrained  white-matter tractography</dc:title>
</cp:coreProperties>
</file>