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1C1-5A0D-4A24-8798-2D67B679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F3AB-D259-45D8-9F2F-BFD5BFA9F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49B2-472A-4868-A149-1562455D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4D8-A005-4A10-9D41-32799E9A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A710-9F5A-4E65-9C9C-D74AA8F0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861-D393-491F-A077-32010072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D5E5-5DB7-4D40-8399-E1A420D6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376D-46BB-48B8-8A92-DABA3D3D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815-6B13-43C5-91A2-DBF9381F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84A0-8DB0-4E35-A4AA-14522286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1E0-07F4-402C-A053-D7A4D3FA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8C5-14CD-4D17-985B-815C1AAE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40AD-2CA2-4AC9-B244-13C40708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45BE-97F5-41D7-AE92-A824BBC2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CEB-E8DC-4105-865F-08D17A9F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DE5-C77D-4BBC-9717-4711DABC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BE2-9D4B-40C5-B7A0-88F802EA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D87-A625-4D98-A7B9-A5E97C41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DE8-2F62-456C-A9BA-C5A6CC9B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5E3B-68C5-45AC-A60B-14499AE3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F6E-E3D6-44F1-8168-8D4B5179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5E42-36DC-45A6-B1A9-B9A27E0E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84F-D0D9-4E60-A7BD-04F5ADBE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2EB5-A52E-48CB-9E32-47B59A42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10D-6B5B-4E2A-9C3B-F6F64630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665-26E0-4929-A43A-EB0C1493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69E-B790-4DCC-B35E-F98C17CD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A26-F24B-40E0-A317-1177EA4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284-44AF-4C40-AFEA-8F465D95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BB8-B5B1-4DDE-B95E-D949501B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644-A61A-4FB0-AAB7-47E7C0D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372-2950-475B-AC40-F9821A3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741-B24E-4F44-85C7-AD63624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55C-A2D6-4055-A603-5972714F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590-9660-488D-8AE4-E4E43FD9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411-BEC7-4948-B059-743F6372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8B3-46A5-482A-BCCD-2FC264F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01E-9511-4DA2-97E1-77F8074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B7E-5921-47CA-BAE8-91823947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eckbook"/>
              </a:rPr>
              <a:t>Unix Tutorial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for</a:t>
            </a:r>
            <a:r>
              <a:rPr b="1" lang="en-US" sz="5400" spc="-1" strike="noStrike">
                <a:solidFill>
                  <a:srgbClr val="000000"/>
                </a:solidFill>
                <a:latin typeface="Checkbook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FreeSurfer Users</a:t>
            </a:r>
            <a:endParaRPr b="1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llison Stevens Playe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Oval 7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87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5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943600" y="4800600"/>
            <a:ext cx="10666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7010280" y="502920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54380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Photo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7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3962520" y="2590920"/>
            <a:ext cx="12952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5257800" y="2590920"/>
            <a:ext cx="1752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010280" y="2438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Home is like “My Computer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410080" y="3733920"/>
            <a:ext cx="11430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Line 9"/>
          <p:cNvSpPr/>
          <p:nvPr/>
        </p:nvSpPr>
        <p:spPr>
          <a:xfrm flipV="1">
            <a:off x="6553080" y="3962160"/>
            <a:ext cx="9144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467480" y="36576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Document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3600" y="4800600"/>
            <a:ext cx="10666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Line 12"/>
          <p:cNvSpPr/>
          <p:nvPr/>
        </p:nvSpPr>
        <p:spPr>
          <a:xfrm flipV="1">
            <a:off x="7010280" y="502920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54380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ke “My Photos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5943600" y="5715000"/>
            <a:ext cx="99072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7467480" y="5958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picture.jp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6934320" y="6172200"/>
            <a:ext cx="53316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oc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hows “present working directory” or current location as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milar t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MyComputer/MyDocuments/MyPhot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38080" y="22860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705720" y="1676520"/>
            <a:ext cx="2286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705720" y="266688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Users/YourNam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543800" y="23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pening a Directo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t double clicking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 command to “open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8" name="Picture 4" descr="hierarchy"/>
          <p:cNvPicPr/>
          <p:nvPr/>
        </p:nvPicPr>
        <p:blipFill>
          <a:blip r:embed="rId1"/>
          <a:stretch/>
        </p:blipFill>
        <p:spPr>
          <a:xfrm>
            <a:off x="5562720" y="2133720"/>
            <a:ext cx="3504960" cy="275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rompt"/>
          <p:cNvPicPr/>
          <p:nvPr/>
        </p:nvPicPr>
        <p:blipFill>
          <a:blip r:embed="rId2"/>
          <a:srcRect l="0" t="26198" r="0" b="0"/>
          <a:stretch/>
        </p:blipFill>
        <p:spPr>
          <a:xfrm>
            <a:off x="914400" y="4038480"/>
            <a:ext cx="4114800" cy="1076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57200" y="57150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s to open files will diff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Navigat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directory”:  move into a fold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st”:  see contents of 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1440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914400" y="1828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914400" y="36576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6" name="Picture 10" descr="hierarchy"/>
          <p:cNvPicPr/>
          <p:nvPr/>
        </p:nvPicPr>
        <p:blipFill>
          <a:blip r:embed="rId1"/>
          <a:stretch/>
        </p:blipFill>
        <p:spPr>
          <a:xfrm>
            <a:off x="5562720" y="3962520"/>
            <a:ext cx="3504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Navigat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directory”:  move into a fold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st”:  see contents of 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1440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14400" y="1828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14400" y="36576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__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2" name="Picture 7" descr="hierarchy"/>
          <p:cNvPicPr/>
          <p:nvPr/>
        </p:nvPicPr>
        <p:blipFill>
          <a:blip r:embed="rId1"/>
          <a:stretch/>
        </p:blipFill>
        <p:spPr>
          <a:xfrm>
            <a:off x="5562720" y="3962520"/>
            <a:ext cx="3504960" cy="275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152280" y="457200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esktop   matlab   tmp   TUTORIAL_DAT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natomy of a Comma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2480" y="2895480"/>
            <a:ext cx="5181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option1   –option2    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124080" y="419112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 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natomy of a Comma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752480" y="2895480"/>
            <a:ext cx="5181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-option1   –option2    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124080" y="419112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mmand    - 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1240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9625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is Unix/Linux?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perating system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like Windows and OS X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ux is the free, modifiable, and redistributable version of Unix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6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895480" y="4800600"/>
            <a:ext cx="221004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xdebug_tkmedi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cshrc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alia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file detai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rwxrwx---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72" name="Line 5"/>
          <p:cNvSpPr/>
          <p:nvPr/>
        </p:nvSpPr>
        <p:spPr>
          <a:xfrm>
            <a:off x="3581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1911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4267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2670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Line 11"/>
          <p:cNvSpPr/>
          <p:nvPr/>
        </p:nvSpPr>
        <p:spPr>
          <a:xfrm flipV="1">
            <a:off x="48769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952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49528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55627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38862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257800" y="5486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581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1911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876920" y="609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y Content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st contents of directory you are i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names of directories/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hidden files to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file detai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ists recent files la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3" name="Picture 4" descr="hierarchy"/>
          <p:cNvPicPr/>
          <p:nvPr/>
        </p:nvPicPr>
        <p:blipFill>
          <a:blip r:embed="rId1"/>
          <a:stretch/>
        </p:blipFill>
        <p:spPr>
          <a:xfrm>
            <a:off x="5943600" y="2209680"/>
            <a:ext cx="2895480" cy="2274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6212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762120" y="3809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7621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76212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ave Some Tim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name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it Tab key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hit ent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it      key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Line 4"/>
          <p:cNvSpPr/>
          <p:nvPr/>
        </p:nvSpPr>
        <p:spPr>
          <a:xfrm flipV="1">
            <a:off x="1295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3520" y="2590920"/>
            <a:ext cx="129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267080" y="32004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kto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257800" y="510552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Deskto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akes a new directory “practic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s to directory “practic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09480" y="16765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kdir   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480" y="41911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09480" y="23623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-lr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09480" y="3048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094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60948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124080" y="29718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124080" y="52578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/practi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4" name="Picture 18" descr="practice"/>
          <p:cNvPicPr/>
          <p:nvPr/>
        </p:nvPicPr>
        <p:blipFill>
          <a:blip r:embed="rId1"/>
          <a:stretch/>
        </p:blipFill>
        <p:spPr>
          <a:xfrm>
            <a:off x="6248520" y="2133720"/>
            <a:ext cx="266688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1600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1600200" y="5348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1600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962520" y="5943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Nothing!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0" name="Picture 5" descr="practice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09480" y="152388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kdir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09480" y="2057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4" name="Picture 16" descr="stuff"/>
          <p:cNvPicPr/>
          <p:nvPr/>
        </p:nvPicPr>
        <p:blipFill>
          <a:blip r:embed="rId1"/>
          <a:stretch/>
        </p:blipFill>
        <p:spPr>
          <a:xfrm>
            <a:off x="4724280" y="3124080"/>
            <a:ext cx="4191120" cy="3294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2666880" y="1523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akes folder “stuff” inside pract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266688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hould see “stuff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If using a Mac: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  I could write a script in her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Save (Buffer)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Exit emac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“mynotes.txt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3520" y="16002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acs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19920" y="16002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ico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33520" y="5334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5867280" y="365760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trl-x if using pico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d then ‘Y’ and 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If using a Mac: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  I could write a script in her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Save (Buffer)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e &gt; Exit emac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“mynotes.txt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16002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edit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019920" y="16002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ico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33520" y="5334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867280" y="365760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trl-x if using pico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d then ‘Y’ and 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is Unix/Linux?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perating system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like Windows and OS X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ux is the free, modifiable, and redistributable version of Unix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wer to write many scripts with many commands to work with lots of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an Edito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0" name="Picture 5" descr="1stmynotes"/>
          <p:cNvPicPr/>
          <p:nvPr/>
        </p:nvPicPr>
        <p:blipFill>
          <a:blip r:embed="rId1"/>
          <a:stretch/>
        </p:blipFill>
        <p:spPr>
          <a:xfrm>
            <a:off x="1981080" y="1981080"/>
            <a:ext cx="49341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335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33520" y="20574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533520" y="3200400"/>
            <a:ext cx="2590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33520" y="449568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533520" y="5791320"/>
            <a:ext cx="21333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re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9051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earn all the options or “argument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152388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s the copy com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9" name="Picture 22" descr="2ndmynotes"/>
          <p:cNvPicPr/>
          <p:nvPr/>
        </p:nvPicPr>
        <p:blipFill>
          <a:blip r:embed="rId1"/>
          <a:stretch/>
        </p:blipFill>
        <p:spPr>
          <a:xfrm>
            <a:off x="3581280" y="2819520"/>
            <a:ext cx="4686480" cy="3682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3"/>
          <p:cNvSpPr/>
          <p:nvPr/>
        </p:nvSpPr>
        <p:spPr>
          <a:xfrm>
            <a:off x="533520" y="1523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335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20574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--hel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3520" y="3200400"/>
            <a:ext cx="2590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33520" y="449568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33520" y="5791320"/>
            <a:ext cx="21333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ess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9051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earn all the options or “argument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52388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s the copy com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9" name="Picture 10" descr="2ndmynotes"/>
          <p:cNvPicPr/>
          <p:nvPr/>
        </p:nvPicPr>
        <p:blipFill>
          <a:blip r:embed="rId1"/>
          <a:stretch/>
        </p:blipFill>
        <p:spPr>
          <a:xfrm>
            <a:off x="3581280" y="2819520"/>
            <a:ext cx="4686480" cy="3682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533520" y="1523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hanging 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hows one directory u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762120" y="4876920"/>
            <a:ext cx="914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733920" y="6248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562720" y="6248520"/>
            <a:ext cx="3504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home/nmrclass/practice/stuff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66" name="Picture 13" descr="stuff"/>
          <p:cNvPicPr/>
          <p:nvPr/>
        </p:nvPicPr>
        <p:blipFill>
          <a:blip r:embed="rId1"/>
          <a:stretch/>
        </p:blipFill>
        <p:spPr>
          <a:xfrm>
            <a:off x="2209680" y="1477800"/>
            <a:ext cx="4324320" cy="3399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762120" y="54864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   ../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1905120" y="5500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goes up two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6553080" y="525780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419720" y="6324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hould se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7696080" y="5257800"/>
            <a:ext cx="106704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d   ../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781680" y="48769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can also do (but don’t)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pying / Mov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590920" y="2362320"/>
            <a:ext cx="3809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p   mynotes.txt   myother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895480" y="1538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ould also use d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590920" y="3429000"/>
            <a:ext cx="3809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v   myothernotes.txt   her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2590920" y="4495680"/>
            <a:ext cx="3809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v   hernotes.txt     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moving Fi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79" name="Picture 4" descr="2ndmynotes"/>
          <p:cNvPicPr/>
          <p:nvPr/>
        </p:nvPicPr>
        <p:blipFill>
          <a:blip r:embed="rId1"/>
          <a:stretch/>
        </p:blipFill>
        <p:spPr>
          <a:xfrm>
            <a:off x="4191120" y="2209680"/>
            <a:ext cx="4686120" cy="36831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33520" y="25909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m   mynotes.tx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2057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533520" y="15238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295280" y="1523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hould be in “stuff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335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8077320" y="5029200"/>
            <a:ext cx="60948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8076960" y="5029200"/>
            <a:ext cx="53316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 double click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kdi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w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macs, gedit, vi, pic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Using FreeSurfe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FreeSurfer, certain variables must be set in order to use it correctly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_HOM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UBJECTS_DI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905120" y="3429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ell Operating System where FreeSurfer 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4572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ell FreeSurfer where data 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quired Variab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 to location of your data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$ means take the value of the varia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981080" y="3505320"/>
            <a:ext cx="4572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$SUBJECTS_D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219320" y="1752480"/>
            <a:ext cx="6172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tenv    SUBJECTS_DIR  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/path/to/dat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quired Variabl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 to location of your data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$ means take the value of the varia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981080" y="3505320"/>
            <a:ext cx="4572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$SUBJECTS_D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k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d   /path/to/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219320" y="1752480"/>
            <a:ext cx="6172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tenv    SUBJECTS_DIR  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/path/to/dat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Getting Starte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unicate with operating system through a “shell” or terminal window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For Linu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click Terminal icon on Deskto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For Ma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click on hard dr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cations &gt; Utilities &gt; X11 (double click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$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‘echo’ work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t a variabl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eck what a variable is set to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676520" y="5715000"/>
            <a:ext cx="4572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cho    $TEST_VARIA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219320" y="4114800"/>
            <a:ext cx="5943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tenv    TEST_VARIABLE 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ourfirstnam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286000" y="2438280"/>
            <a:ext cx="3124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cho   Allison is coo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Visualization Tool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FreeSurfer visualization tool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676520" y="2514600"/>
            <a:ext cx="5105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kmedit   subj001   T1.mgz   -aux   wm.mgz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676520" y="3200400"/>
            <a:ext cx="5105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ksurfer   subj001   lh   inflate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295280" y="4419720"/>
            <a:ext cx="624852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isualizationTool   subject   data_file   -aux  other_data_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295280" y="5105520"/>
            <a:ext cx="624852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isualizationTool   subject   hemisphere   data_fi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More Hel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ttp://surfer.nmr.mgh.harvard.edu/fswiki/FsTutorial/CommandLineNavig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nks on Wiki under “Unix Tutorial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lossary of Unix comm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11" descr="prompt"/>
          <p:cNvPicPr/>
          <p:nvPr/>
        </p:nvPicPr>
        <p:blipFill>
          <a:blip r:embed="rId1"/>
          <a:srcRect l="0" t="26198" r="0" b="0"/>
          <a:stretch/>
        </p:blipFill>
        <p:spPr>
          <a:xfrm>
            <a:off x="1905120" y="3276720"/>
            <a:ext cx="41148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867280" y="2274840"/>
            <a:ext cx="320040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867280" y="2274840"/>
            <a:ext cx="313056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3520" y="457200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arm Up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hit enter.  Should se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09480" y="220968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867280" y="2274840"/>
            <a:ext cx="313056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n Apr  6 8:05:24 EDT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457200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943600" y="4495680"/>
            <a:ext cx="25146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pril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u Mo Tu We Th Fr S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  2  3  4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  6  7  8  9 10 11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 13 14 15 16 17 18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 20 21 22 23 24 25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6 27 28 29 3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irectori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x uses a hierarchical file system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nk folders in Window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Picture 4" descr="hierarchy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khuber</cp:lastModifiedBy>
  <dcterms:modified xsi:type="dcterms:W3CDTF">2012-06-01T18:28:40Z</dcterms:modified>
  <cp:revision>355</cp:revision>
  <dc:subject/>
  <dc:title>Unix Tutorial for FreeSurfer Users</dc:title>
</cp:coreProperties>
</file>