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63C-CB29-46BD-90B6-3FB33606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F4E-1874-44CA-800E-5C379282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15E7-DF31-4C11-B25D-FE2A6160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8A2-90D0-4137-9FFA-7CA28BDA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68F-2CFD-40DD-B176-ED6619C1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B5D-4636-42BE-992B-BADC1B42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E68-30CE-47FF-9279-C092E1BB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6CC-A1BF-40D4-B8CD-1454D4E8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6DB-CB6E-4E47-A00A-4ACAE87E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7DF3-62CD-4310-AC7C-E7AF35D9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1AA3-6DC2-4D27-91E8-AB383411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EC2-8B76-45AF-B459-C2C08AD2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CF9D-4F1C-4305-94AD-40228CADA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upload.wikimedia.org/wikipedia/commons/8/82/Gyroscope_precession.gif" TargetMode="Externa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6360" y="71280"/>
            <a:ext cx="9159480" cy="6382080"/>
            <a:chOff x="-36360" y="71280"/>
            <a:chExt cx="9159480" cy="63820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rcRect l="0" t="0" r="0" b="11344"/>
            <a:stretch/>
          </p:blipFill>
          <p:spPr>
            <a:xfrm>
              <a:off x="-36360" y="71280"/>
              <a:ext cx="8970840" cy="638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8747280" y="5978520"/>
              <a:ext cx="375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5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91400" y="3014640"/>
            <a:ext cx="688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Group exerc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http://www.drcmr.dk/JavaCompass/BasicMRgroupwork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-27000"/>
            <a:ext cx="9180360" cy="6825960"/>
            <a:chOff x="0" y="-27000"/>
            <a:chExt cx="9180360" cy="68259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0" t="0" r="0" b="3134"/>
            <a:stretch/>
          </p:blipFill>
          <p:spPr>
            <a:xfrm>
              <a:off x="0" y="-27000"/>
              <a:ext cx="9180360" cy="645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Datei:Gyroscope precession.gif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500880" y="3906720"/>
              <a:ext cx="250344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47560" y="6354720"/>
              <a:ext cx="79898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300" spc="-1" strike="noStrike">
                  <a:solidFill>
                    <a:srgbClr val="ffffff"/>
                  </a:solidFill>
                  <a:latin typeface="Comic Sans MS"/>
                </a:rPr>
                <a:t>The difference is due to the rotation of the protons (spin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1:18:02Z</dcterms:created>
  <dc:creator>Lars G. Hanson</dc:creator>
  <dc:description/>
  <dc:language>en-US</dc:language>
  <cp:lastModifiedBy>Lars G. Hanson</cp:lastModifiedBy>
  <dcterms:modified xsi:type="dcterms:W3CDTF">2011-04-05T11:41:33Z</dcterms:modified>
  <cp:revision>5</cp:revision>
  <dc:subject/>
  <dc:title>Dias nummer 1</dc:title>
</cp:coreProperties>
</file>