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7F85B-8952-487D-BF50-A064E381F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richer information in the data. One way to represent it is to draw streamlines / tractography relying on directional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ool to manually isolate certain fi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s DTI reconstruction from the DWI in the input dicom file. Gets gradient directions and bvalues from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dicom file see $FREESURFER_HOME/diffusion/mgh-dti-seqpack/READ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to all other pac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c.nii -- apparent diffusion co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.nii -- fractional anisotr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.nii -- relative anisotr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r.nii -- volume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c.nii -- intervoxel corre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ncoded by diffusion matric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TI if Gaussian assumption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nterest: anisotropy and diffus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: fiber density, axonal diameter, myeleination in W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C: magnitude of diffusion (of water molecules) within cerebral tissue. A low value for ADC indicates that the cortical white matter tracts are organized (good), while a high value for ADC indicates that these tracts are disorganized (b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C: This is the degree to which diffusion in neighboring voxels has a common orientation (Pfefferbaum et al. 2000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This measure is similar to FA but views coherence on a larger spatial, voxel–to–voxel scale (in contrast with FA’s intravoxel sca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A660-82EA-48C8-9E39-171E7422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6E44-3B71-488F-AE59-D847530C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4FB9-7061-4837-8F68-FEB3D8A4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0428-31A2-4EA5-A9B1-0DE4E9AD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E4A2-2EB7-46C6-B469-52E57933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A2FC-5210-49F6-BB85-A4743DDA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062F-FED3-4301-A7C0-3A8CB9FC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0E44-E9A2-4EE1-8DED-CF4756F9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0456-5FA6-451B-978C-1781AC7C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69CC-957D-46EF-9465-E7DEAB74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A9C1-2376-4E39-B432-6449D93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15B7F-C786-4AE0-AE9D-E8E90643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9A57-4703-4E39-B7EC-00AD254D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DFD3-568B-4139-84E0-AD35ED56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4C2B-4F93-4FA2-A10C-13383AF7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9955-CA00-45CE-8222-04C130CA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7231-3C31-418B-9CAF-EF87EC78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7AA7-85B8-47CC-916F-AC031C22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B99C-4B19-4281-82EE-51622AD1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DBAD-2A1E-4E29-A592-262740A7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3693-A3B7-4C74-8744-7EBE1D59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967E-A573-4A81-A0F8-A6FAECD9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40D7-E825-40A6-977C-D1F1EC44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0357-ED64-406C-9809-66A25914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F7DE-2FEE-47E9-8BF1-6F2173CFC4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8B3C-344E-4AE4-8AFD-3E7D42A81D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troduction to Diffusion MRI process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lla Z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öl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tography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vis and Diffusion Toolkit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trackvis.org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268880" cy="261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E435-1F2D-4069-A2E8-23D967BCBF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6840" y="609480"/>
            <a:ext cx="4268880" cy="2614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724280" y="3710160"/>
            <a:ext cx="4268880" cy="2614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52280" y="3710160"/>
            <a:ext cx="4268880" cy="261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666C-1448-4C08-A717-E6147EAF4945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268880" cy="2614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4268880" cy="2614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 on (color) F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49E2-59B4-4A09-BD1C-C5CBEE24773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33F4-A926-49AA-8609-0EA37E339B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Convert dicom to nifti (creates dwi.n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Eddy current and motion correction using FSLs eddy_correc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s dwi-ec.nii. Can take 1-2 hou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TI GLM Fit and tensor construction. Includes creation o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sor.nii -- maps of the tensor (9 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vals.nii -- maps of the eigen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vec?.nii -- maps of the eigenv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c.nii -- apparent diffusion coeffic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.nii -- fractional anisotr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.nii -- relative anisotr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r.nii -- volume r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c.nii -- intervoxel cor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b.nii -- Low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vals.dat -- b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vecs.dat -- 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creates glm-related 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a.nii - regression 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es.nii - residual error (log of dwi int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var.nii - residual variance (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td.nii - residual stddev (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ires.nii - residual error (dwi int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irvar.nii - residual variance (dwi int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Registration of lowb to same-subject anatomical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SLs flirt (creates mask.nii and register.d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Map FA to talairach space (creates fa-tal.n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us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_recon --i 6-1025.dcm --s M87102113 --o d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9BC6-29FC-407C-BC62-6318BE2C324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dt_re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heck reg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kregister2 --mov dti/lowb.nii --reg dti/register.dat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urf orig --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View FA on the subject's an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kmedit  M87102113 orig.mgz -overlay dti/fa.nii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overlay-reg dti/register.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View FA on fs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kmedit fsaverage orig.mgz -overlay dti/fa-tal.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Group/Higher level GLM analys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oncatenate fa from individuals into on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 Make sure the order agrees with the fsgd be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concat */fa-tal.nii --o group-fa-tal.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reate a mas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concat */mask-tal.nii --o group-masksum-tal.nii --m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binarize --i group-masksum-tal.nii --min .999 --o group-mask-tal.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GLM 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glmfit --y group-fa-tal.nii --mask group-mask-tal.nii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fsgd your.fsgd --C contrast --glm groupana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3018-F6F4-43BD-9EBA-D8C116F0EA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_re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i inv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s subject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o output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t_recon --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t_recon --i 6-1025.dcm --s M111 --o d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4819-29A0-45E2-A8C6-DCB13D9A45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cessing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Eddy current and motion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S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ddy_cor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Tensor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or.nii, eigvals.nii. eigvec?.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scalar maps: adc, fa, ra, vr, i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Registration to anatomic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S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i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ow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#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lairach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556D6-B9DE-4DF6-B2FA-579A7FF700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guments (Option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 bvals bv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-dump infodump.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fo dump created by unpacksdcmdir or dcmun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ecref 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P as 0-based reference time points for 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no-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off eddy/motion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no-r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register to subject or resample to talair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no-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resample FA to talairch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d subjects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 subjects dir (default env SUBJECTS_D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eres-s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resdidual error (dwires and 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PCA/SVD analysis on eres (saves in pca-eres d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rune_thr t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hreshold for masking (default is FLT_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deb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lots of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version of this script and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inous bit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BF7A-3275-4C5C-A4DD-E15EF07BB6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ffus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09120" y="6095880"/>
            <a:ext cx="61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ubs.niaaa.nih.gov/publications/arh27-2/146-15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040" y="2438280"/>
            <a:ext cx="857412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8569-1F44-417F-919D-6F948DF70CC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calar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: fractional anisotrop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ber density, axonal diameter, myelination in W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: relative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: volum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C: inter-voxel correl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ffusion orientation agreement in neighb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: apparent diffusion coefficie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gnitude of diffusion; low valu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rganized tr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: radial diffu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: axial diffu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486400" y="1854360"/>
                <a:ext cx="2413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3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rad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324480" y="5099040"/>
                <a:ext cx="297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4618080"/>
                <a:ext cx="1257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638680" y="4084560"/>
                <a:ext cx="20797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943600" y="2514600"/>
                <a:ext cx="1325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rad>
                    <m:r>
                      <m:t xml:space="preserve">/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λ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943600" y="2994120"/>
                <a:ext cx="13492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25C7-FE27-4B6B-A83C-66677B242D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89240" y="1114560"/>
            <a:ext cx="5054760" cy="28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114560"/>
            <a:ext cx="5054760" cy="286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031840" y="3962520"/>
            <a:ext cx="5054760" cy="28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EF0C-7CED-48F4-9B05-CB2362C3C9D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28960" y="3962520"/>
            <a:ext cx="5027400" cy="28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114800" y="1114560"/>
            <a:ext cx="5027760" cy="284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1114560"/>
            <a:ext cx="5027760" cy="28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EB3F-0349-40EA-9074-5AB367D5C62D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14800" y="1114560"/>
            <a:ext cx="5027760" cy="284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028960" y="3962520"/>
            <a:ext cx="5027400" cy="284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440" y="1114560"/>
            <a:ext cx="5027760" cy="2844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B8A8-DBB5-4EDF-86BA-1A5026BE015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5:54:58Z</dcterms:created>
  <dc:creator>Lilla Zollei</dc:creator>
  <dc:description/>
  <dc:language>en-US</dc:language>
  <cp:lastModifiedBy>Lilla Zollei</cp:lastModifiedBy>
  <dcterms:modified xsi:type="dcterms:W3CDTF">2010-02-01T06:26:17Z</dcterms:modified>
  <cp:revision>47</cp:revision>
  <dc:subject/>
  <dc:title>Slide 1</dc:title>
</cp:coreProperties>
</file>