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10288588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917640" y="696600"/>
            <a:ext cx="517680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how many data points you have, there is still only one slope and one inter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3E5-F653-4231-A7B0-5A9EEB20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25A-D2EE-4853-8FDF-4D121125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B8B-EFC9-4E65-8810-1A833DD9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24F-0950-4163-99F0-B1815934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CF8-D5AF-43FD-8AB6-EB4CED54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0BC-93DB-4DD0-92E3-DD807F8D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CD7-68AA-40C5-A175-1239D533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539-A655-4A39-B598-BF776ED4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D48-30EE-4152-B4AA-8B9972B6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731-7636-4CE9-AF04-4FFCA50B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420-8765-44C2-8D9A-AC451EE1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AB0-5CD9-4649-A33E-137A1AA0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B058-883C-44BC-9237-20A38E2BA065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4042-E25A-4448-AC95-4FBFBC3484C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7886520" y="-36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3989-22EF-4FC2-89EC-A235AC3C97B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than Two Data Poi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48680" y="4267080"/>
            <a:ext cx="300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3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3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4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4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76840" y="1600200"/>
            <a:ext cx="3049200" cy="1834920"/>
            <a:chOff x="5676840" y="1600200"/>
            <a:chExt cx="3049200" cy="1834920"/>
          </a:xfrm>
        </p:grpSpPr>
        <p:sp>
          <p:nvSpPr>
            <p:cNvPr id="331" name=""/>
            <p:cNvSpPr/>
            <p:nvPr/>
          </p:nvSpPr>
          <p:spPr>
            <a:xfrm>
              <a:off x="5754240" y="1616040"/>
              <a:ext cx="537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97600" y="1616040"/>
              <a:ext cx="8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69560" y="160020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676840" y="1676520"/>
              <a:ext cx="74520" cy="1752120"/>
              <a:chOff x="5676840" y="1676520"/>
              <a:chExt cx="74520" cy="1752120"/>
            </a:xfrm>
          </p:grpSpPr>
          <p:sp>
            <p:nvSpPr>
              <p:cNvPr id="335" name=""/>
              <p:cNvSpPr/>
              <p:nvPr/>
            </p:nvSpPr>
            <p:spPr>
              <a:xfrm>
                <a:off x="5693760" y="1676520"/>
                <a:ext cx="0" cy="1752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76840" y="342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7684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896160" y="1676520"/>
              <a:ext cx="74520" cy="1758600"/>
              <a:chOff x="6896160" y="1676520"/>
              <a:chExt cx="74520" cy="1758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913080" y="167652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896160" y="34351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89616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8267760" y="1654200"/>
              <a:ext cx="74520" cy="838440"/>
              <a:chOff x="8267760" y="1654200"/>
              <a:chExt cx="74520" cy="838440"/>
            </a:xfrm>
          </p:grpSpPr>
          <p:sp>
            <p:nvSpPr>
              <p:cNvPr id="343" name=""/>
              <p:cNvSpPr/>
              <p:nvPr/>
            </p:nvSpPr>
            <p:spPr>
              <a:xfrm>
                <a:off x="8284680" y="165420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67760" y="2492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267760" y="16542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8648280" y="1653840"/>
              <a:ext cx="74520" cy="838440"/>
              <a:chOff x="8648280" y="1653840"/>
              <a:chExt cx="74520" cy="838440"/>
            </a:xfrm>
          </p:grpSpPr>
          <p:sp>
            <p:nvSpPr>
              <p:cNvPr id="347" name=""/>
              <p:cNvSpPr/>
              <p:nvPr/>
            </p:nvSpPr>
            <p:spPr>
              <a:xfrm flipV="1">
                <a:off x="8705880" y="165384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8648280" y="1653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8648280" y="24922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734240" y="1670400"/>
              <a:ext cx="76320" cy="1758600"/>
              <a:chOff x="7734240" y="1670400"/>
              <a:chExt cx="76320" cy="1758600"/>
            </a:xfrm>
          </p:grpSpPr>
          <p:sp>
            <p:nvSpPr>
              <p:cNvPr id="351" name=""/>
              <p:cNvSpPr/>
              <p:nvPr/>
            </p:nvSpPr>
            <p:spPr>
              <a:xfrm flipV="1">
                <a:off x="779292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734240" y="16704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734240" y="34290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210000" y="1670400"/>
              <a:ext cx="75960" cy="1758600"/>
              <a:chOff x="6210000" y="1670400"/>
              <a:chExt cx="75960" cy="175860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626868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6210000" y="16704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210000" y="34290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6363360" y="18068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11640" y="1806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988600" y="3657600"/>
            <a:ext cx="2294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+n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3960" y="1828800"/>
            <a:ext cx="2971800" cy="2286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57480" y="1752480"/>
            <a:ext cx="1676160" cy="457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 rot="21465000">
            <a:off x="2247120" y="2895120"/>
            <a:ext cx="457200" cy="381240"/>
          </a:xfrm>
          <a:prstGeom prst="rtTriangle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53480" y="12952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tercept: 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39640" y="213372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lope: 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000" y="1143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01400" y="3505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1160" y="1828800"/>
            <a:ext cx="0" cy="2133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76240" y="3733920"/>
            <a:ext cx="3048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62040" y="22096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29080" y="34290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705040" y="2590920"/>
            <a:ext cx="914400" cy="3045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86280" y="29718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43280" y="3124080"/>
            <a:ext cx="15228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95560" y="25146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33440" y="26668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28400" y="4343400"/>
            <a:ext cx="244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odel Err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rvar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409760" y="236232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019240" y="283860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171880" y="256716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162240" y="3047760"/>
            <a:ext cx="0" cy="6858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638360" y="2257560"/>
            <a:ext cx="0" cy="30456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05040" y="3352320"/>
            <a:ext cx="0" cy="1494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-Test and p-val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320" y="1676520"/>
            <a:ext cx="1851120" cy="7034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 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7120" y="9144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543480" y="99072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715320" y="243828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91040" y="1219320"/>
            <a:ext cx="4953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91040" y="213372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94640" y="1752480"/>
            <a:ext cx="5657760" cy="4367160"/>
            <a:chOff x="494640" y="1752480"/>
            <a:chExt cx="5657760" cy="4367160"/>
          </a:xfrm>
        </p:grpSpPr>
        <p:grpSp>
          <p:nvGrpSpPr>
            <p:cNvPr id="393" name=""/>
            <p:cNvGrpSpPr/>
            <p:nvPr/>
          </p:nvGrpSpPr>
          <p:grpSpPr>
            <a:xfrm>
              <a:off x="494640" y="1752480"/>
              <a:ext cx="5657760" cy="4367160"/>
              <a:chOff x="494640" y="1752480"/>
              <a:chExt cx="5657760" cy="4367160"/>
            </a:xfrm>
          </p:grpSpPr>
          <p:sp>
            <p:nvSpPr>
              <p:cNvPr id="394" name=""/>
              <p:cNvSpPr/>
              <p:nvPr/>
            </p:nvSpPr>
            <p:spPr>
              <a:xfrm>
                <a:off x="804600" y="2772360"/>
                <a:ext cx="4024080" cy="315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527120" y="2246040"/>
                <a:ext cx="2063520" cy="10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flipV="1" rot="21465000">
                <a:off x="2248560" y="3719880"/>
                <a:ext cx="618840" cy="52560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59320" y="175248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Intercept: b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692520" y="259488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Slope: m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4640" y="1824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hickness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43040" y="5088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23800" y="2772360"/>
                <a:ext cx="0" cy="2948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11600" y="5404680"/>
                <a:ext cx="4127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868840" y="3088080"/>
                <a:ext cx="1341000" cy="7369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8680" y="3825360"/>
                <a:ext cx="5056200" cy="1368360"/>
              </a:xfrm>
              <a:prstGeom prst="line">
                <a:avLst/>
              </a:prstGeom>
              <a:ln w="572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33840" y="572076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Intercept: b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30920" y="382536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Slope: m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 rot="20162400">
                <a:off x="4208760" y="4534560"/>
                <a:ext cx="618840" cy="52668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4829040" y="4351320"/>
                <a:ext cx="825480" cy="31572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27120" y="4246200"/>
                <a:ext cx="1134720" cy="147420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594440" y="39232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40080" y="4444560"/>
              <a:ext cx="8424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5548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69960" y="444456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16520" y="479160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7720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46400" y="49654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71800" y="279432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94440" y="357588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86640" y="3402360"/>
              <a:ext cx="84240" cy="86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17080" y="401004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01120" y="42706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69960" y="513900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62160" y="56602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94640" y="1066680"/>
            <a:ext cx="4497480" cy="3270960"/>
            <a:chOff x="494640" y="1066680"/>
            <a:chExt cx="4497480" cy="3270960"/>
          </a:xfrm>
        </p:grpSpPr>
        <p:sp>
          <p:nvSpPr>
            <p:cNvPr id="426" name=""/>
            <p:cNvSpPr/>
            <p:nvPr/>
          </p:nvSpPr>
          <p:spPr>
            <a:xfrm>
              <a:off x="723600" y="1805040"/>
              <a:ext cx="297144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1257120" y="1424160"/>
              <a:ext cx="1523520" cy="761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 rot="21465000">
              <a:off x="1790640" y="248976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93040" y="10666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56240" y="167652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4640" y="11192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01040" y="348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80800" y="180504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6240" y="3710160"/>
              <a:ext cx="3047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247840" y="2033640"/>
              <a:ext cx="990000" cy="533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320" y="2567160"/>
              <a:ext cx="3733560" cy="99036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83560" y="39387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70640" y="2567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 rot="20162400">
              <a:off x="3238200" y="308124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695400" y="2947680"/>
              <a:ext cx="609480" cy="22860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57120" y="2871720"/>
              <a:ext cx="837720" cy="10670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47640" y="4495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2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143680" y="1219320"/>
            <a:ext cx="4401000" cy="1910520"/>
            <a:chOff x="5143680" y="1219320"/>
            <a:chExt cx="4401000" cy="1910520"/>
          </a:xfrm>
        </p:grpSpPr>
        <p:sp>
          <p:nvSpPr>
            <p:cNvPr id="444" name=""/>
            <p:cNvSpPr/>
            <p:nvPr/>
          </p:nvSpPr>
          <p:spPr>
            <a:xfrm>
              <a:off x="5172840" y="1295280"/>
              <a:ext cx="715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17800" y="1311120"/>
              <a:ext cx="2045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2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973720" y="126972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5143680" y="1371600"/>
              <a:ext cx="74520" cy="1751760"/>
              <a:chOff x="5143680" y="1371600"/>
              <a:chExt cx="74520" cy="1751760"/>
            </a:xfrm>
          </p:grpSpPr>
          <p:sp>
            <p:nvSpPr>
              <p:cNvPr id="448" name=""/>
              <p:cNvSpPr/>
              <p:nvPr/>
            </p:nvSpPr>
            <p:spPr>
              <a:xfrm>
                <a:off x="5160600" y="1371600"/>
                <a:ext cx="0" cy="175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43680" y="312336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436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515280" y="1371600"/>
              <a:ext cx="74520" cy="1758240"/>
              <a:chOff x="6515280" y="1371600"/>
              <a:chExt cx="74520" cy="1758240"/>
            </a:xfrm>
          </p:grpSpPr>
          <p:sp>
            <p:nvSpPr>
              <p:cNvPr id="452" name=""/>
              <p:cNvSpPr/>
              <p:nvPr/>
            </p:nvSpPr>
            <p:spPr>
              <a:xfrm>
                <a:off x="6532200" y="137160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515280" y="3129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152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8982360" y="1219320"/>
              <a:ext cx="74520" cy="1599480"/>
              <a:chOff x="8982360" y="1219320"/>
              <a:chExt cx="74520" cy="159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8999280" y="121932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982360" y="28188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982360" y="12193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8572680" y="1295280"/>
              <a:ext cx="76320" cy="1758240"/>
              <a:chOff x="8572680" y="1295280"/>
              <a:chExt cx="76320" cy="1758240"/>
            </a:xfrm>
          </p:grpSpPr>
          <p:sp>
            <p:nvSpPr>
              <p:cNvPr id="460" name=""/>
              <p:cNvSpPr/>
              <p:nvPr/>
            </p:nvSpPr>
            <p:spPr>
              <a:xfrm flipV="1">
                <a:off x="8631360" y="129528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8572680" y="12952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8572680" y="30535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829480" y="1365120"/>
              <a:ext cx="76320" cy="1758240"/>
              <a:chOff x="5829480" y="1365120"/>
              <a:chExt cx="76320" cy="1758240"/>
            </a:xfrm>
          </p:grpSpPr>
          <p:sp>
            <p:nvSpPr>
              <p:cNvPr id="464" name=""/>
              <p:cNvSpPr/>
              <p:nvPr/>
            </p:nvSpPr>
            <p:spPr>
              <a:xfrm flipV="1">
                <a:off x="5888160" y="136512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829480" y="13651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5829480" y="31233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6011280" y="1904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602200" y="129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9439200" y="1219680"/>
              <a:ext cx="75960" cy="1599480"/>
              <a:chOff x="9439200" y="1219680"/>
              <a:chExt cx="75960" cy="1599480"/>
            </a:xfrm>
          </p:grpSpPr>
          <p:sp>
            <p:nvSpPr>
              <p:cNvPr id="470" name=""/>
              <p:cNvSpPr/>
              <p:nvPr/>
            </p:nvSpPr>
            <p:spPr>
              <a:xfrm flipV="1">
                <a:off x="9497880" y="121968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9439200" y="12196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9439200" y="281916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7665120" y="35053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904720" y="4267080"/>
            <a:ext cx="3664800" cy="2407680"/>
            <a:chOff x="5904720" y="4267080"/>
            <a:chExt cx="3664800" cy="2407680"/>
          </a:xfrm>
        </p:grpSpPr>
        <p:sp>
          <p:nvSpPr>
            <p:cNvPr id="476" name=""/>
            <p:cNvSpPr/>
            <p:nvPr/>
          </p:nvSpPr>
          <p:spPr>
            <a:xfrm>
              <a:off x="6075720" y="4783320"/>
              <a:ext cx="2216520" cy="15987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6473880" y="4516920"/>
              <a:ext cx="1136520" cy="532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 rot="21465000">
              <a:off x="6870960" y="5263200"/>
              <a:ext cx="340920" cy="26640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96680" y="42670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66200" y="469440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04720" y="43038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520840" y="5956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16640" y="4783320"/>
              <a:ext cx="0" cy="1492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89480" y="6116040"/>
              <a:ext cx="2273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212600" y="4943160"/>
              <a:ext cx="738360" cy="372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62320" y="5316480"/>
              <a:ext cx="2784960" cy="69264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40560" y="6275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48040" y="531648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 rot="20162400">
              <a:off x="7951320" y="5675760"/>
              <a:ext cx="340920" cy="26676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8292600" y="5582880"/>
              <a:ext cx="454680" cy="1598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3880" y="5529600"/>
              <a:ext cx="624960" cy="74628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952560" y="12193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=b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-b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54000" y="4952880"/>
            <a:ext cx="424368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(m1+m2)/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53720" y="106668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98320" y="1082520"/>
            <a:ext cx="204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1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2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524560" y="1143000"/>
            <a:ext cx="74520" cy="1752120"/>
            <a:chOff x="5524560" y="1143000"/>
            <a:chExt cx="74520" cy="1752120"/>
          </a:xfrm>
        </p:grpSpPr>
        <p:sp>
          <p:nvSpPr>
            <p:cNvPr id="497" name=""/>
            <p:cNvSpPr/>
            <p:nvPr/>
          </p:nvSpPr>
          <p:spPr>
            <a:xfrm>
              <a:off x="5541480" y="1143000"/>
              <a:ext cx="0" cy="175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4560" y="289512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245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896160" y="1143000"/>
            <a:ext cx="74520" cy="1758600"/>
            <a:chOff x="6896160" y="1143000"/>
            <a:chExt cx="74520" cy="1758600"/>
          </a:xfrm>
        </p:grpSpPr>
        <p:sp>
          <p:nvSpPr>
            <p:cNvPr id="501" name=""/>
            <p:cNvSpPr/>
            <p:nvPr/>
          </p:nvSpPr>
          <p:spPr>
            <a:xfrm>
              <a:off x="6913080" y="114300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96160" y="29016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961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8953560" y="1067040"/>
            <a:ext cx="76320" cy="1758600"/>
            <a:chOff x="8953560" y="1067040"/>
            <a:chExt cx="76320" cy="1758600"/>
          </a:xfrm>
        </p:grpSpPr>
        <p:sp>
          <p:nvSpPr>
            <p:cNvPr id="505" name=""/>
            <p:cNvSpPr/>
            <p:nvPr/>
          </p:nvSpPr>
          <p:spPr>
            <a:xfrm flipV="1">
              <a:off x="9012240" y="106704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8953560" y="10670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8953560" y="2825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210360" y="1136880"/>
            <a:ext cx="76320" cy="1758600"/>
            <a:chOff x="6210360" y="1136880"/>
            <a:chExt cx="76320" cy="1758600"/>
          </a:xfrm>
        </p:grpSpPr>
        <p:sp>
          <p:nvSpPr>
            <p:cNvPr id="509" name=""/>
            <p:cNvSpPr/>
            <p:nvPr/>
          </p:nvSpPr>
          <p:spPr>
            <a:xfrm flipV="1">
              <a:off x="6269040" y="113688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210360" y="1136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210360" y="2895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39216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983080" y="1066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9334440" y="990720"/>
            <a:ext cx="591120" cy="1607760"/>
            <a:chOff x="9334440" y="990720"/>
            <a:chExt cx="591120" cy="1607760"/>
          </a:xfrm>
        </p:grpSpPr>
        <p:sp>
          <p:nvSpPr>
            <p:cNvPr id="515" name=""/>
            <p:cNvSpPr/>
            <p:nvPr/>
          </p:nvSpPr>
          <p:spPr>
            <a:xfrm>
              <a:off x="9354600" y="104148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9334440" y="990720"/>
              <a:ext cx="102960" cy="1599840"/>
              <a:chOff x="9334440" y="990720"/>
              <a:chExt cx="102960" cy="1599840"/>
            </a:xfrm>
          </p:grpSpPr>
          <p:sp>
            <p:nvSpPr>
              <p:cNvPr id="517" name=""/>
              <p:cNvSpPr/>
              <p:nvPr/>
            </p:nvSpPr>
            <p:spPr>
              <a:xfrm>
                <a:off x="935820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34440" y="259056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9334440" y="99072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9791640" y="990720"/>
              <a:ext cx="76320" cy="1599840"/>
              <a:chOff x="9791640" y="990720"/>
              <a:chExt cx="76320" cy="159984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985032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9791640" y="990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9791640" y="25905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5836320" y="32767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52560" y="30481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=m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-m2=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9258480" y="3124080"/>
            <a:ext cx="590400" cy="1607760"/>
            <a:chOff x="9258480" y="3124080"/>
            <a:chExt cx="590400" cy="1607760"/>
          </a:xfrm>
        </p:grpSpPr>
        <p:sp>
          <p:nvSpPr>
            <p:cNvPr id="527" name=""/>
            <p:cNvSpPr/>
            <p:nvPr/>
          </p:nvSpPr>
          <p:spPr>
            <a:xfrm>
              <a:off x="9277920" y="317484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9258480" y="3124080"/>
              <a:ext cx="102600" cy="1599840"/>
              <a:chOff x="9258480" y="3124080"/>
              <a:chExt cx="102600" cy="1599840"/>
            </a:xfrm>
          </p:grpSpPr>
          <p:sp>
            <p:nvSpPr>
              <p:cNvPr id="529" name=""/>
              <p:cNvSpPr/>
              <p:nvPr/>
            </p:nvSpPr>
            <p:spPr>
              <a:xfrm>
                <a:off x="92822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258480" y="472392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258480" y="312408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9714960" y="3124080"/>
              <a:ext cx="75960" cy="1599840"/>
              <a:chOff x="9714960" y="3124080"/>
              <a:chExt cx="75960" cy="159984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97736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9714960" y="31240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9714960" y="472392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6" name=""/>
          <p:cNvSpPr/>
          <p:nvPr/>
        </p:nvSpPr>
        <p:spPr>
          <a:xfrm>
            <a:off x="8308440" y="3505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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 in FreeSurfe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28160" y="2033640"/>
            <a:ext cx="8148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your own design matrix and contrast matri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an FSGD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 creates desig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 still have to specify contra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QDE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discrete variables, 2 levels ma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continuous variab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02760" y="53352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09760" y="137160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 (FSG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7202880" y="1521000"/>
            <a:ext cx="2821680" cy="1434600"/>
            <a:chOff x="7202880" y="1521000"/>
            <a:chExt cx="2821680" cy="1434600"/>
          </a:xfrm>
        </p:grpSpPr>
        <p:sp>
          <p:nvSpPr>
            <p:cNvPr id="542" name=""/>
            <p:cNvSpPr/>
            <p:nvPr/>
          </p:nvSpPr>
          <p:spPr>
            <a:xfrm>
              <a:off x="7202880" y="1521000"/>
              <a:ext cx="717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afd00"/>
                  </a:solidFill>
                  <a:latin typeface="Times New Roman"/>
                </a:rPr>
                <a:t>}</a:t>
              </a:r>
              <a:endParaRPr b="0" lang="en-US" sz="8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31720" y="211284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recon-all -qcach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99920" y="358128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0996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$SUBJECTS_DI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906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194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24560" y="3505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rgaret   …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638000" y="23623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162240" y="2362320"/>
            <a:ext cx="1828800" cy="10666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4762080" y="2362320"/>
            <a:ext cx="22860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91040" y="2362320"/>
            <a:ext cx="213372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19040" y="4114800"/>
            <a:ext cx="2219400" cy="990000"/>
            <a:chOff x="419040" y="4114800"/>
            <a:chExt cx="2219400" cy="990000"/>
          </a:xfrm>
        </p:grpSpPr>
        <p:sp>
          <p:nvSpPr>
            <p:cNvPr id="555" name=""/>
            <p:cNvSpPr/>
            <p:nvPr/>
          </p:nvSpPr>
          <p:spPr>
            <a:xfrm>
              <a:off x="1540800" y="4114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9040" y="4609800"/>
              <a:ext cx="2219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2388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089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986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88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737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39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52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90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384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543480" y="4038480"/>
            <a:ext cx="2219040" cy="990000"/>
            <a:chOff x="3543480" y="4038480"/>
            <a:chExt cx="2219040" cy="990000"/>
          </a:xfrm>
        </p:grpSpPr>
        <p:sp>
          <p:nvSpPr>
            <p:cNvPr id="567" name=""/>
            <p:cNvSpPr/>
            <p:nvPr/>
          </p:nvSpPr>
          <p:spPr>
            <a:xfrm>
              <a:off x="46648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434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47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33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230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12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978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63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29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434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625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286680" y="4038480"/>
            <a:ext cx="2219040" cy="990000"/>
            <a:chOff x="6286680" y="4038480"/>
            <a:chExt cx="2219040" cy="990000"/>
          </a:xfrm>
        </p:grpSpPr>
        <p:sp>
          <p:nvSpPr>
            <p:cNvPr id="579" name=""/>
            <p:cNvSpPr/>
            <p:nvPr/>
          </p:nvSpPr>
          <p:spPr>
            <a:xfrm>
              <a:off x="74080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866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911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762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7662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55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41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06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728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86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5057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H="1">
            <a:off x="2836800" y="4038480"/>
            <a:ext cx="20880" cy="1333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14680" y="5372280"/>
            <a:ext cx="2219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19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03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939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84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668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35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0016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14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9337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5360" y="3429000"/>
            <a:ext cx="2057400" cy="838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0280" y="1752480"/>
            <a:ext cx="457200" cy="1600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6040" y="1147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Surfer Directory Tre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921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m    stats     mor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r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rgb  scripts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tiff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lab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    T1    brain     wm     aseg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942840" y="1371600"/>
            <a:ext cx="7972200" cy="914400"/>
            <a:chOff x="942840" y="1371600"/>
            <a:chExt cx="7972200" cy="914400"/>
          </a:xfrm>
        </p:grpSpPr>
        <p:sp>
          <p:nvSpPr>
            <p:cNvPr id="607" name=""/>
            <p:cNvSpPr/>
            <p:nvPr/>
          </p:nvSpPr>
          <p:spPr>
            <a:xfrm>
              <a:off x="4971960" y="13716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42840" y="1828800"/>
              <a:ext cx="79722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435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720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578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4332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71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719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713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42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9150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 flipV="1">
            <a:off x="857160" y="2666880"/>
            <a:ext cx="342900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400480" y="2666880"/>
            <a:ext cx="19713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3514680" y="2666880"/>
            <a:ext cx="8571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7184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71840" y="2666880"/>
            <a:ext cx="11145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14200" y="5602320"/>
            <a:ext cx="5374440" cy="4597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JECTS_DIR environment 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124760" y="2666880"/>
            <a:ext cx="0" cy="12193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49480" y="4419720"/>
            <a:ext cx="135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00880" y="447192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812000" y="4495680"/>
            <a:ext cx="203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286680" y="3885840"/>
            <a:ext cx="8571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143680" y="3885840"/>
            <a:ext cx="19713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24760" y="3886200"/>
            <a:ext cx="111420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80128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715520" y="3124080"/>
            <a:ext cx="24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114760" y="109692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5448240" y="1219320"/>
            <a:ext cx="28958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86080" y="129528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/Contrast (GLM Theory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012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design matrix cre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ou must still specify th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grated with tksurf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644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77680" y="60199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181160" y="4191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651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653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" name=""/>
              <p:cNvSpPr/>
              <p:nvPr/>
            </p:nvSpPr>
            <p:spPr>
              <a:xfrm>
                <a:off x="5067000" y="1371600"/>
                <a:ext cx="14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10520" y="914400"/>
                <a:ext cx="119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70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4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394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, Cla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76600" y="1905120"/>
            <a:ext cx="86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00280" y="434340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400480" y="167292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 –C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52760" y="464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47640" y="1905120"/>
            <a:ext cx="3505320" cy="380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68680" y="1905120"/>
            <a:ext cx="423756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Input file (output from smoothing)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tack of subjects, one frame per su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09" name=""/>
          <p:cNvCxnSpPr>
            <a:stCxn id="707" idx="3"/>
            <a:endCxn id="708" idx="1"/>
          </p:cNvCxnSpPr>
          <p:nvPr/>
        </p:nvCxnSpPr>
        <p:spPr>
          <a:xfrm>
            <a:off x="4152600" y="2095200"/>
            <a:ext cx="1220040" cy="16704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31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680" y="2286000"/>
            <a:ext cx="3504960" cy="380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92360" y="2286000"/>
            <a:ext cx="4563720" cy="1008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Group Descriptor File (FSGD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Group membership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variat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2" idx="3"/>
            <a:endCxn id="713" idx="1"/>
          </p:cNvCxnSpPr>
          <p:nvPr/>
        </p:nvCxnSpPr>
        <p:spPr>
          <a:xfrm>
            <a:off x="4076280" y="2476080"/>
            <a:ext cx="1220040" cy="32004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7640" y="2666880"/>
            <a:ext cx="3505320" cy="38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374800" y="2666880"/>
            <a:ext cx="2736360" cy="1008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trast Matric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mple text/ASCII fi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st hypothe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7" idx="3"/>
            <a:endCxn id="718" idx="1"/>
          </p:cNvCxnSpPr>
          <p:nvPr/>
        </p:nvCxnSpPr>
        <p:spPr>
          <a:xfrm>
            <a:off x="4152600" y="2857680"/>
            <a:ext cx="1220040" cy="31968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27040" y="3011400"/>
            <a:ext cx="3505320" cy="722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219640" y="1981080"/>
            <a:ext cx="4496040" cy="13136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form analysis on left hemisphere of fsaverage su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sks by fsaverage cortex.lab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mputes FWHM in 2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22" idx="3"/>
            <a:endCxn id="723" idx="1"/>
          </p:cNvCxnSpPr>
          <p:nvPr/>
        </p:nvCxnSpPr>
        <p:spPr>
          <a:xfrm flipV="1">
            <a:off x="4032360" y="2642400"/>
            <a:ext cx="1187640" cy="73116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lh.gender_age.glmdir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5360" y="3733920"/>
            <a:ext cx="4038480" cy="417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28" name=""/>
          <p:cNvCxnSpPr>
            <a:stCxn id="727" idx="3"/>
            <a:endCxn id="729" idx="1"/>
          </p:cNvCxnSpPr>
          <p:nvPr/>
        </p:nvCxnSpPr>
        <p:spPr>
          <a:xfrm flipV="1">
            <a:off x="4533480" y="3385800"/>
            <a:ext cx="686520" cy="55800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729" name=""/>
          <p:cNvSpPr/>
          <p:nvPr/>
        </p:nvSpPr>
        <p:spPr>
          <a:xfrm>
            <a:off x="5220720" y="1143000"/>
            <a:ext cx="4650840" cy="44830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Output directory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48240" y="3200400"/>
            <a:ext cx="464832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34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49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753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754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755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62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smooth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135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139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9040" y="2362320"/>
            <a:ext cx="5029200" cy="15570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l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9760" y="129528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295-0F1D-4891-AD71-779F27D28A9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9040" y="23623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l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9760" y="137160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7640" y="2743200"/>
            <a:ext cx="3810240" cy="457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78" name=""/>
          <p:cNvCxnSpPr>
            <a:stCxn id="777" idx="3"/>
            <a:endCxn id="779" idx="1"/>
          </p:cNvCxnSpPr>
          <p:nvPr/>
        </p:nvCxnSpPr>
        <p:spPr>
          <a:xfrm>
            <a:off x="4457880" y="2971800"/>
            <a:ext cx="1829520" cy="100728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  <p:grpSp>
        <p:nvGrpSpPr>
          <p:cNvPr id="780" name=""/>
          <p:cNvGrpSpPr/>
          <p:nvPr/>
        </p:nvGrpSpPr>
        <p:grpSpPr>
          <a:xfrm>
            <a:off x="6210360" y="1828800"/>
            <a:ext cx="3276720" cy="2343600"/>
            <a:chOff x="6210360" y="1828800"/>
            <a:chExt cx="3276720" cy="2343600"/>
          </a:xfrm>
        </p:grpSpPr>
        <p:sp>
          <p:nvSpPr>
            <p:cNvPr id="779" name=""/>
            <p:cNvSpPr/>
            <p:nvPr/>
          </p:nvSpPr>
          <p:spPr>
            <a:xfrm>
              <a:off x="6286680" y="3773520"/>
              <a:ext cx="3200400" cy="3988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                                              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210360" y="1828800"/>
              <a:ext cx="3276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 u="sng">
                  <a:solidFill>
                    <a:srgbClr val="bbe0e3"/>
                  </a:solidFill>
                  <a:uFillTx/>
                  <a:latin typeface="Times New Roman"/>
                </a:rPr>
                <a:t>Original mri_glmfit command: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mri_glmfit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y lh.thickness.sm10.mgh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fsgd gender_age.tx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C age.mtx –C gender.mt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surf fsaverage 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cort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fff75e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fff75e"/>
                  </a:solidFill>
                  <a:latin typeface="Times New Roman"/>
                </a:rPr>
                <a:t>--glmdir lh.gender_age.glmdir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6287040" y="4267080"/>
            <a:ext cx="2797560" cy="243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lh.gender_age.glmdir/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beta.mgh – parameter estimates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rvar.mgh – residual error varianc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etc …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age/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sig.mgh </a:t>
            </a:r>
            <a:r>
              <a:rPr b="0" lang="en" sz="1200" spc="-1" strike="noStrike">
                <a:solidFill>
                  <a:srgbClr val="fff75e"/>
                </a:solidFill>
                <a:latin typeface="Times New Roman"/>
              </a:rPr>
              <a:t>–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-log10(p), uncorrected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gamma.mgh, F.mgh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gender/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sig.mgh </a:t>
            </a:r>
            <a:r>
              <a:rPr b="0" lang="en" sz="1200" spc="-1" strike="noStrike">
                <a:solidFill>
                  <a:srgbClr val="fff75e"/>
                </a:solidFill>
                <a:latin typeface="Times New Roman"/>
              </a:rPr>
              <a:t>–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-log10(p)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gamma.mgh, F.mgh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F57-C876-4937-9A26-066CA5D7540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19040" y="23623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glmdir l</a:t>
            </a:r>
            <a:r>
              <a:rPr b="0" lang="en" sz="2400" spc="-1" strike="noStrike">
                <a:solidFill>
                  <a:srgbClr val="808080"/>
                </a:solidFill>
                <a:latin typeface="Times New Roman"/>
              </a:rPr>
              <a:t>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9760" y="137160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4440" y="3105000"/>
            <a:ext cx="2828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87" name=""/>
          <p:cNvCxnSpPr>
            <a:stCxn id="786" idx="3"/>
          </p:cNvCxnSpPr>
          <p:nvPr/>
        </p:nvCxnSpPr>
        <p:spPr>
          <a:xfrm flipV="1">
            <a:off x="3342960" y="3276360"/>
            <a:ext cx="1724760" cy="57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88" name=""/>
          <p:cNvSpPr/>
          <p:nvPr/>
        </p:nvSpPr>
        <p:spPr>
          <a:xfrm>
            <a:off x="5067360" y="2590920"/>
            <a:ext cx="4971960" cy="19227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pre-cached simulation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ositive contra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oxelwise threshold = 2 (p&lt;.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an use another simulation or permu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0D1-7D13-4AEF-AB9A-1F3FBAFF7CD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9040" y="236232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glmdir l</a:t>
            </a:r>
            <a:r>
              <a:rPr b="0" lang="en" sz="2400" spc="-1" strike="noStrike">
                <a:solidFill>
                  <a:srgbClr val="808080"/>
                </a:solidFill>
                <a:latin typeface="Times New Roman"/>
              </a:rPr>
              <a:t>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19760" y="137160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14440" y="3448080"/>
            <a:ext cx="2828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93" name=""/>
          <p:cNvCxnSpPr>
            <a:stCxn id="792" idx="3"/>
          </p:cNvCxnSpPr>
          <p:nvPr/>
        </p:nvCxnSpPr>
        <p:spPr>
          <a:xfrm flipV="1">
            <a:off x="3342960" y="3618720"/>
            <a:ext cx="1724760" cy="579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94" name=""/>
          <p:cNvSpPr/>
          <p:nvPr/>
        </p:nvSpPr>
        <p:spPr>
          <a:xfrm>
            <a:off x="5067360" y="3429000"/>
            <a:ext cx="4114800" cy="459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uster-wise threshold p&lt;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43440" y="4800600"/>
            <a:ext cx="868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Why Cluster-wise threshold p&lt;.025 when I wanted p &lt; .05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rrection across 2 spaces: lh and rh:   .025 = .05/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onferroni Correc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F50-928B-4EC1-B661-BF02CC40CF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1200" y="152280"/>
            <a:ext cx="911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 Output (Surfac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43080" y="1371600"/>
            <a:ext cx="4343400" cy="15570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-US" sz="2400" spc="-1" strike="noStrike">
                <a:solidFill>
                  <a:srgbClr val="fff75e"/>
                </a:solidFill>
                <a:latin typeface="Times New Roman"/>
              </a:rPr>
              <a:t>l</a:t>
            </a:r>
            <a:r>
              <a:rPr b="0" lang="en" sz="2400" spc="-1" strike="noStrike">
                <a:solidFill>
                  <a:srgbClr val="fff75e"/>
                </a:solidFill>
                <a:latin typeface="Times New Roman"/>
              </a:rPr>
              <a:t>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ache pos 2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32280" y="1173240"/>
            <a:ext cx="236304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75e"/>
                </a:solidFill>
                <a:latin typeface="Times New Roman"/>
              </a:rPr>
              <a:t>lh.gender_age.glmdi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64200" y="2244600"/>
            <a:ext cx="519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95360" y="3200400"/>
            <a:ext cx="8763120" cy="192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g.mg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pre-existing uncorrected p-valu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che.th20.pos.sig.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luster.mg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map of significance of clus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che.th20.pos.sig.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ocn.an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nnotation of significant clus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che.th20.pos.sig.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luster.summ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text file of cluster table (clusters, sizes, MNI305 XYZ, and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gnificanc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01" name=""/>
          <p:cNvCxnSpPr>
            <a:stCxn id="799" idx="2"/>
            <a:endCxn id="800" idx="0"/>
          </p:cNvCxnSpPr>
          <p:nvPr/>
        </p:nvCxnSpPr>
        <p:spPr>
          <a:xfrm rot="5400000">
            <a:off x="5295240" y="2171520"/>
            <a:ext cx="610200" cy="144828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802" name="" descr="groupana.lat.clusters.gif"/>
          <p:cNvPicPr/>
          <p:nvPr/>
        </p:nvPicPr>
        <p:blipFill>
          <a:blip r:embed="rId1"/>
          <a:stretch/>
        </p:blipFill>
        <p:spPr>
          <a:xfrm>
            <a:off x="7962840" y="5257800"/>
            <a:ext cx="1752840" cy="117936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86360" y="5156280"/>
            <a:ext cx="69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ly shows clusters p&lt;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uster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significance value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ot corrected for 2 spaces!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798" idx="2"/>
            <a:endCxn id="799" idx="0"/>
          </p:cNvCxnSpPr>
          <p:nvPr/>
        </p:nvCxnSpPr>
        <p:spPr>
          <a:xfrm rot="5400000">
            <a:off x="6285960" y="1617480"/>
            <a:ext cx="665640" cy="589680"/>
          </a:xfrm>
          <a:prstGeom prst="bentConnector3">
            <a:avLst>
              <a:gd name="adj1" fmla="val 49837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05" name=""/>
          <p:cNvSpPr/>
          <p:nvPr/>
        </p:nvSpPr>
        <p:spPr>
          <a:xfrm>
            <a:off x="7055280" y="2244600"/>
            <a:ext cx="811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stCxn id="798" idx="2"/>
            <a:endCxn id="805" idx="0"/>
          </p:cNvCxnSpPr>
          <p:nvPr/>
        </p:nvCxnSpPr>
        <p:spPr>
          <a:xfrm flipH="1" rot="16200000">
            <a:off x="6854760" y="1637640"/>
            <a:ext cx="665640" cy="548640"/>
          </a:xfrm>
          <a:prstGeom prst="bentConnector3">
            <a:avLst>
              <a:gd name="adj1" fmla="val 49837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316-9B48-4491-B037-6CC3A463EFC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81200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831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833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853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81360" y="533520"/>
            <a:ext cx="383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9760" y="137160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Subjects and Surface meas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4991760" y="2286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56" name="" descr="qdec-design1.jpg"/>
          <p:cNvPicPr/>
          <p:nvPr/>
        </p:nvPicPr>
        <p:blipFill>
          <a:blip r:embed="rId1"/>
          <a:srcRect l="0" t="0" r="69341" b="22563"/>
          <a:stretch/>
        </p:blipFill>
        <p:spPr>
          <a:xfrm>
            <a:off x="723960" y="304920"/>
            <a:ext cx="3370320" cy="640080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4381560" y="99072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oad QDEC Table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Factors (Discrete and Co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Input (cached)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asure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Contrast Mat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structs Human-Readable Ques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ys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990360"/>
            <a:ext cx="8163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he General Linear Model (GLM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80080" y="3581280"/>
            <a:ext cx="15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RF Amplitud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Q, Height, Weigh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556272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42320" y="114300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80080" y="243828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ble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10680" y="2362320"/>
            <a:ext cx="4265640" cy="2967840"/>
            <a:chOff x="3010680" y="2362320"/>
            <a:chExt cx="4265640" cy="2967840"/>
          </a:xfrm>
        </p:grpSpPr>
        <p:sp>
          <p:nvSpPr>
            <p:cNvPr id="150" name=""/>
            <p:cNvSpPr/>
            <p:nvPr/>
          </p:nvSpPr>
          <p:spPr>
            <a:xfrm>
              <a:off x="3863160" y="2362320"/>
              <a:ext cx="0" cy="256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84080" y="4656240"/>
              <a:ext cx="3792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31960" y="2912760"/>
              <a:ext cx="0" cy="198036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4145760"/>
              <a:ext cx="265500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73800" y="3187800"/>
              <a:ext cx="104256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0000" y="3830400"/>
              <a:ext cx="0" cy="110088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4828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7632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10680" y="3922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0680" y="291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37640" y="30963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64960" y="40539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279760" y="24526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10000" y="3124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86120" y="2743200"/>
            <a:ext cx="60948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905440" y="3505320"/>
            <a:ext cx="533520" cy="4572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4520" y="19051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5444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9800" y="5486400"/>
            <a:ext cx="13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course, you’d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more then tw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s …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95000" y="762120"/>
            <a:ext cx="4199400" cy="3218400"/>
            <a:chOff x="495000" y="762120"/>
            <a:chExt cx="4199400" cy="3218400"/>
          </a:xfrm>
        </p:grpSpPr>
        <p:sp>
          <p:nvSpPr>
            <p:cNvPr id="171" name=""/>
            <p:cNvSpPr/>
            <p:nvPr/>
          </p:nvSpPr>
          <p:spPr>
            <a:xfrm>
              <a:off x="723960" y="14479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257480" y="13716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 rot="21465000">
              <a:off x="2018880" y="23612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53480" y="9144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9640" y="17528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000" y="7621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01760" y="31244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96080" y="1447920"/>
              <a:ext cx="3428280" cy="2532600"/>
              <a:chOff x="496080" y="1447920"/>
              <a:chExt cx="3428280" cy="2532600"/>
            </a:xfrm>
          </p:grpSpPr>
          <p:sp>
            <p:nvSpPr>
              <p:cNvPr id="179" name=""/>
              <p:cNvSpPr/>
              <p:nvPr/>
            </p:nvSpPr>
            <p:spPr>
              <a:xfrm>
                <a:off x="1181160" y="14479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76600" y="33530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38360" y="19051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28880" y="29293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28880" y="21337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05400" y="26672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1048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7752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6080" y="2743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6080" y="19051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62400" y="20577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29080" y="28530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2552760" y="22100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986000" y="990720"/>
            <a:ext cx="472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of Linear Equ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60000" y="482616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522040" y="2649600"/>
            <a:ext cx="3405600" cy="1572480"/>
            <a:chOff x="5522040" y="2649600"/>
            <a:chExt cx="3405600" cy="1572480"/>
          </a:xfrm>
        </p:grpSpPr>
        <p:grpSp>
          <p:nvGrpSpPr>
            <p:cNvPr id="195" name=""/>
            <p:cNvGrpSpPr/>
            <p:nvPr/>
          </p:nvGrpSpPr>
          <p:grpSpPr>
            <a:xfrm>
              <a:off x="5753160" y="3259080"/>
              <a:ext cx="3048840" cy="963000"/>
              <a:chOff x="5753160" y="3259080"/>
              <a:chExt cx="3048840" cy="963000"/>
            </a:xfrm>
          </p:grpSpPr>
          <p:sp>
            <p:nvSpPr>
              <p:cNvPr id="196" name=""/>
              <p:cNvSpPr/>
              <p:nvPr/>
            </p:nvSpPr>
            <p:spPr>
              <a:xfrm>
                <a:off x="5830200" y="32749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73560" y="3274920"/>
                <a:ext cx="892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753160" y="3328920"/>
                <a:ext cx="74520" cy="838080"/>
                <a:chOff x="5753160" y="3328920"/>
                <a:chExt cx="74520" cy="838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77008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5316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75316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972120" y="3328920"/>
                <a:ext cx="74520" cy="838080"/>
                <a:chOff x="6972120" y="3328920"/>
                <a:chExt cx="74520" cy="838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98904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97212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97212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8343720" y="3259080"/>
                <a:ext cx="458280" cy="947160"/>
                <a:chOff x="8343720" y="3259080"/>
                <a:chExt cx="458280" cy="9471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345520" y="3259080"/>
                  <a:ext cx="456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m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8343720" y="3313080"/>
                  <a:ext cx="74520" cy="838080"/>
                  <a:chOff x="8343720" y="3313080"/>
                  <a:chExt cx="74520" cy="8380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836064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34372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834372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8724600" y="3313080"/>
                  <a:ext cx="74520" cy="838080"/>
                  <a:chOff x="8724600" y="3313080"/>
                  <a:chExt cx="74520" cy="8380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V="1">
                    <a:off x="878220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872460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872460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7810200" y="3328920"/>
                <a:ext cx="74520" cy="838080"/>
                <a:chOff x="7810200" y="3328920"/>
                <a:chExt cx="74520" cy="838080"/>
              </a:xfrm>
            </p:grpSpPr>
            <p:sp>
              <p:nvSpPr>
                <p:cNvPr id="217" name=""/>
                <p:cNvSpPr/>
                <p:nvPr/>
              </p:nvSpPr>
              <p:spPr>
                <a:xfrm flipV="1">
                  <a:off x="78678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781020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781020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286320" y="3328920"/>
                <a:ext cx="76320" cy="838080"/>
                <a:chOff x="6286320" y="3328920"/>
                <a:chExt cx="76320" cy="838080"/>
              </a:xfrm>
            </p:grpSpPr>
            <p:sp>
              <p:nvSpPr>
                <p:cNvPr id="221" name=""/>
                <p:cNvSpPr/>
                <p:nvPr/>
              </p:nvSpPr>
              <p:spPr>
                <a:xfrm flipV="1">
                  <a:off x="63450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6286320" y="33289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6286320" y="416700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439680" y="346536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7600" y="3465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522040" y="2649600"/>
              <a:ext cx="34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atrix Formulation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63520" y="4343400"/>
            <a:ext cx="359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egression Coeffici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“betas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tercepts and Slop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beta.mgh (mri_glmfi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908480" y="4749840"/>
            <a:ext cx="1274760" cy="947160"/>
            <a:chOff x="7908480" y="4749840"/>
            <a:chExt cx="1274760" cy="947160"/>
          </a:xfrm>
        </p:grpSpPr>
        <p:grpSp>
          <p:nvGrpSpPr>
            <p:cNvPr id="229" name=""/>
            <p:cNvGrpSpPr/>
            <p:nvPr/>
          </p:nvGrpSpPr>
          <p:grpSpPr>
            <a:xfrm>
              <a:off x="8724960" y="4749840"/>
              <a:ext cx="458280" cy="947160"/>
              <a:chOff x="8724960" y="4749840"/>
              <a:chExt cx="458280" cy="947160"/>
            </a:xfrm>
          </p:grpSpPr>
          <p:sp>
            <p:nvSpPr>
              <p:cNvPr id="230" name=""/>
              <p:cNvSpPr/>
              <p:nvPr/>
            </p:nvSpPr>
            <p:spPr>
              <a:xfrm>
                <a:off x="8726760" y="474984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8724960" y="4803840"/>
                <a:ext cx="74520" cy="838080"/>
                <a:chOff x="8724960" y="4803840"/>
                <a:chExt cx="74520" cy="8380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874188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72496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2496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9105840" y="4803840"/>
                <a:ext cx="74520" cy="838080"/>
                <a:chOff x="9105840" y="4803840"/>
                <a:chExt cx="74520" cy="838080"/>
              </a:xfrm>
            </p:grpSpPr>
            <p:sp>
              <p:nvSpPr>
                <p:cNvPr id="236" name=""/>
                <p:cNvSpPr/>
                <p:nvPr/>
              </p:nvSpPr>
              <p:spPr>
                <a:xfrm flipV="1">
                  <a:off x="916344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910584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910584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7908480" y="482580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87200" y="38862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tercept = Offs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02800" y="59436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bet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potheses and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0720" y="106668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m = 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ll Hypothesis: H0: m=0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71320" y="3276720"/>
            <a:ext cx="4199400" cy="3218400"/>
            <a:chOff x="571320" y="3276720"/>
            <a:chExt cx="4199400" cy="3218400"/>
          </a:xfrm>
        </p:grpSpPr>
        <p:sp>
          <p:nvSpPr>
            <p:cNvPr id="245" name=""/>
            <p:cNvSpPr/>
            <p:nvPr/>
          </p:nvSpPr>
          <p:spPr>
            <a:xfrm>
              <a:off x="800280" y="39625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333800" y="38862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 rot="21465000">
              <a:off x="2095200" y="48758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29800" y="34290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15960" y="42674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1320" y="32767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78080" y="5639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72400" y="3962520"/>
              <a:ext cx="3428280" cy="2532600"/>
              <a:chOff x="572400" y="3962520"/>
              <a:chExt cx="3428280" cy="2532600"/>
            </a:xfrm>
          </p:grpSpPr>
          <p:sp>
            <p:nvSpPr>
              <p:cNvPr id="253" name=""/>
              <p:cNvSpPr/>
              <p:nvPr/>
            </p:nvSpPr>
            <p:spPr>
              <a:xfrm>
                <a:off x="1257480" y="39625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52920" y="58676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14680" y="44197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105200" y="54439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05200" y="46483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81720" y="51818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48680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55384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2400" y="5258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2400" y="4419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38720" y="45723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05400" y="53676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 flipV="1">
              <a:off x="2629080" y="47246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58400" y="2666880"/>
            <a:ext cx="2516760" cy="1343520"/>
            <a:chOff x="7358400" y="2666880"/>
            <a:chExt cx="2516760" cy="1343520"/>
          </a:xfrm>
        </p:grpSpPr>
        <p:sp>
          <p:nvSpPr>
            <p:cNvPr id="267" name=""/>
            <p:cNvSpPr/>
            <p:nvPr/>
          </p:nvSpPr>
          <p:spPr>
            <a:xfrm>
              <a:off x="7358400" y="26668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m= [0 1]*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9337680" y="2819160"/>
              <a:ext cx="537480" cy="1191240"/>
              <a:chOff x="9337680" y="2819160"/>
              <a:chExt cx="537480" cy="1191240"/>
            </a:xfrm>
          </p:grpSpPr>
          <p:sp>
            <p:nvSpPr>
              <p:cNvPr id="269" name=""/>
              <p:cNvSpPr/>
              <p:nvPr/>
            </p:nvSpPr>
            <p:spPr>
              <a:xfrm>
                <a:off x="9339480" y="2819160"/>
                <a:ext cx="53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9337680" y="2895120"/>
                <a:ext cx="74520" cy="990720"/>
                <a:chOff x="9337680" y="2895120"/>
                <a:chExt cx="74520" cy="9907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935460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337680" y="3885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9337680" y="28951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9794880" y="2895120"/>
                <a:ext cx="76320" cy="990720"/>
                <a:chOff x="9794880" y="2895120"/>
                <a:chExt cx="76320" cy="990720"/>
              </a:xfrm>
            </p:grpSpPr>
            <p:sp>
              <p:nvSpPr>
                <p:cNvPr id="275" name=""/>
                <p:cNvSpPr/>
                <p:nvPr/>
              </p:nvSpPr>
              <p:spPr>
                <a:xfrm flipV="1">
                  <a:off x="985356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9794880" y="28951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9794880" y="388584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8" name=""/>
          <p:cNvGrpSpPr/>
          <p:nvPr/>
        </p:nvGrpSpPr>
        <p:grpSpPr>
          <a:xfrm>
            <a:off x="7056720" y="4038480"/>
            <a:ext cx="3045600" cy="808200"/>
            <a:chOff x="7056720" y="4038480"/>
            <a:chExt cx="3045600" cy="808200"/>
          </a:xfrm>
        </p:grpSpPr>
        <p:sp>
          <p:nvSpPr>
            <p:cNvPr id="279" name=""/>
            <p:cNvSpPr/>
            <p:nvPr/>
          </p:nvSpPr>
          <p:spPr>
            <a:xfrm>
              <a:off x="7056720" y="4143240"/>
              <a:ext cx="3045600" cy="703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 C*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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07280" y="40384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673240" y="502920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[0 1]: Contrast Matri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698440" y="3962520"/>
            <a:ext cx="1274760" cy="947160"/>
            <a:chOff x="5698440" y="3962520"/>
            <a:chExt cx="1274760" cy="947160"/>
          </a:xfrm>
        </p:grpSpPr>
        <p:grpSp>
          <p:nvGrpSpPr>
            <p:cNvPr id="283" name=""/>
            <p:cNvGrpSpPr/>
            <p:nvPr/>
          </p:nvGrpSpPr>
          <p:grpSpPr>
            <a:xfrm>
              <a:off x="6514920" y="3962520"/>
              <a:ext cx="458280" cy="947160"/>
              <a:chOff x="6514920" y="3962520"/>
              <a:chExt cx="458280" cy="947160"/>
            </a:xfrm>
          </p:grpSpPr>
          <p:sp>
            <p:nvSpPr>
              <p:cNvPr id="284" name=""/>
              <p:cNvSpPr/>
              <p:nvPr/>
            </p:nvSpPr>
            <p:spPr>
              <a:xfrm>
                <a:off x="6516720" y="39625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6514920" y="4016520"/>
                <a:ext cx="74160" cy="838080"/>
                <a:chOff x="6514920" y="4016520"/>
                <a:chExt cx="74160" cy="8380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318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1492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51492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6895800" y="4016520"/>
                <a:ext cx="74160" cy="838080"/>
                <a:chOff x="6895800" y="4016520"/>
                <a:chExt cx="74160" cy="838080"/>
              </a:xfrm>
            </p:grpSpPr>
            <p:sp>
              <p:nvSpPr>
                <p:cNvPr id="290" name=""/>
                <p:cNvSpPr/>
                <p:nvPr/>
              </p:nvSpPr>
              <p:spPr>
                <a:xfrm flipV="1">
                  <a:off x="69530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689580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89580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5698440" y="40384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972480" y="1143000"/>
            <a:ext cx="3048840" cy="963000"/>
            <a:chOff x="6972480" y="1143000"/>
            <a:chExt cx="3048840" cy="963000"/>
          </a:xfrm>
        </p:grpSpPr>
        <p:sp>
          <p:nvSpPr>
            <p:cNvPr id="295" name=""/>
            <p:cNvSpPr/>
            <p:nvPr/>
          </p:nvSpPr>
          <p:spPr>
            <a:xfrm>
              <a:off x="7049520" y="11588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92880" y="1158840"/>
              <a:ext cx="89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6972480" y="1212840"/>
              <a:ext cx="74520" cy="838080"/>
              <a:chOff x="6972480" y="1212840"/>
              <a:chExt cx="74520" cy="838080"/>
            </a:xfrm>
          </p:grpSpPr>
          <p:sp>
            <p:nvSpPr>
              <p:cNvPr id="298" name=""/>
              <p:cNvSpPr/>
              <p:nvPr/>
            </p:nvSpPr>
            <p:spPr>
              <a:xfrm>
                <a:off x="698940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7248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7248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191440" y="1212840"/>
              <a:ext cx="74520" cy="838080"/>
              <a:chOff x="8191440" y="1212840"/>
              <a:chExt cx="74520" cy="838080"/>
            </a:xfrm>
          </p:grpSpPr>
          <p:sp>
            <p:nvSpPr>
              <p:cNvPr id="302" name=""/>
              <p:cNvSpPr/>
              <p:nvPr/>
            </p:nvSpPr>
            <p:spPr>
              <a:xfrm>
                <a:off x="820836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19144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9144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9563040" y="1143000"/>
              <a:ext cx="458280" cy="947160"/>
              <a:chOff x="9563040" y="1143000"/>
              <a:chExt cx="458280" cy="947160"/>
            </a:xfrm>
          </p:grpSpPr>
          <p:sp>
            <p:nvSpPr>
              <p:cNvPr id="306" name=""/>
              <p:cNvSpPr/>
              <p:nvPr/>
            </p:nvSpPr>
            <p:spPr>
              <a:xfrm>
                <a:off x="9564840" y="114300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9563040" y="1197000"/>
                <a:ext cx="74520" cy="838080"/>
                <a:chOff x="9563040" y="1197000"/>
                <a:chExt cx="74520" cy="8380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957996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956304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956304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9943920" y="1197000"/>
                <a:ext cx="74520" cy="838080"/>
                <a:chOff x="9943920" y="1197000"/>
                <a:chExt cx="74520" cy="838080"/>
              </a:xfrm>
            </p:grpSpPr>
            <p:sp>
              <p:nvSpPr>
                <p:cNvPr id="312" name=""/>
                <p:cNvSpPr/>
                <p:nvPr/>
              </p:nvSpPr>
              <p:spPr>
                <a:xfrm flipV="1">
                  <a:off x="1000152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994392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994392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"/>
            <p:cNvGrpSpPr/>
            <p:nvPr/>
          </p:nvGrpSpPr>
          <p:grpSpPr>
            <a:xfrm>
              <a:off x="9029520" y="1212840"/>
              <a:ext cx="74520" cy="838080"/>
              <a:chOff x="9029520" y="1212840"/>
              <a:chExt cx="74520" cy="838080"/>
            </a:xfrm>
          </p:grpSpPr>
          <p:sp>
            <p:nvSpPr>
              <p:cNvPr id="316" name=""/>
              <p:cNvSpPr/>
              <p:nvPr/>
            </p:nvSpPr>
            <p:spPr>
              <a:xfrm flipV="1">
                <a:off x="90871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902952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902952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7505640" y="1212840"/>
              <a:ext cx="76320" cy="838080"/>
              <a:chOff x="7505640" y="1212840"/>
              <a:chExt cx="76320" cy="83808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75643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505640" y="12128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505640" y="20509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7659000" y="1349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106920" y="134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41536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8012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01360" y="59436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gamm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12-04-24T19:40:17Z</dcterms:modified>
  <cp:revision>955</cp:revision>
  <dc:subject/>
  <dc:title>Understanding Differential Responses in fMRI Through Linear Simulation</dc:title>
</cp:coreProperties>
</file>