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31B-93FB-4202-859D-F2ECC1D1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8760" indent="-158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milar across gradient strength, with overall better consistency for the G100 and G3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58760" indent="-158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covering tracts in the cc for G=300 not seen at G=100. Lower SNR at center of the brain due to lower coil sensitivity at the 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58760" indent="-1587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tracts are more consistently reconstructed at G300, unseen at G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142-E026-4671-AD36-AB8F8636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3D1-6DB5-41BC-A6D8-5C05957F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05B-0E3E-4F1B-95EF-F235B981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5D1-D4E4-46EE-A65A-8BBCEFF6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7C8-B21A-4161-8910-B2E4C63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298-B325-4D22-A5E0-02B5FB7D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9F4-5B50-4832-A899-3DF9166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858-582A-4572-B015-881EF568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572-8034-434D-B010-8AA9974E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659-8E49-4334-B2D0-35141EF2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44F-E656-4946-92F3-D7EA759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579-BF1C-4A2A-88A4-3E0EBA5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35C-A7F6-4DAB-9B78-A47BF0EE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-mri.org/" TargetMode="External"/><Relationship Id="rId2" Type="http://schemas.openxmlformats.org/officeDocument/2006/relationships/hyperlink" Target="http://www.cis.rit.edu/htbooks/mri/" TargetMode="External"/><Relationship Id="rId3" Type="http://schemas.openxmlformats.org/officeDocument/2006/relationships/hyperlink" Target="http://www.drcmr.dk/MR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MRI_Hanson/JavaCompass/compass_plus_Bloch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240" y="837720"/>
            <a:ext cx="70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Introduction to MR Physics for Non-Physicists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380880" y="387036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33"/>
                </a:solidFill>
                <a:latin typeface="Arial"/>
              </a:rPr>
              <a:t>Andr</a:t>
            </a:r>
            <a:r>
              <a:rPr b="0" lang="en-US" sz="2200" spc="-1" strike="noStrike">
                <a:solidFill>
                  <a:srgbClr val="ccff33"/>
                </a:solidFill>
                <a:latin typeface="Arial"/>
                <a:ea typeface="Times New Roman"/>
              </a:rPr>
              <a:t>é J. W. van der Kou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33"/>
                </a:solidFill>
                <a:latin typeface="Arial"/>
              </a:rPr>
              <a:t>Athinoula A. Martinos Center, Massachusetts General Hos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1"/>
          <p:cNvSpPr/>
          <p:nvPr/>
        </p:nvSpPr>
        <p:spPr>
          <a:xfrm>
            <a:off x="380880" y="3276720"/>
            <a:ext cx="838224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9" descr="mri-scannercoils.jpg"/>
          <p:cNvPicPr/>
          <p:nvPr/>
        </p:nvPicPr>
        <p:blipFill>
          <a:blip r:embed="rId1"/>
          <a:stretch/>
        </p:blipFill>
        <p:spPr>
          <a:xfrm>
            <a:off x="1809720" y="2151000"/>
            <a:ext cx="4286160" cy="3944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590920" y="65199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agnet.fsu.edu/education/tutorials/magnetacademy/mr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0"/>
          <p:cNvSpPr/>
          <p:nvPr/>
        </p:nvSpPr>
        <p:spPr>
          <a:xfrm>
            <a:off x="6554880" y="30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Straight Arrow Connector 6"/>
          <p:cNvCxnSpPr/>
          <p:nvPr/>
        </p:nvCxnSpPr>
        <p:spPr>
          <a:xfrm flipV="1">
            <a:off x="6705360" y="3428640"/>
            <a:ext cx="1080" cy="91512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85" name="Rectangle 100"/>
          <p:cNvSpPr/>
          <p:nvPr/>
        </p:nvSpPr>
        <p:spPr>
          <a:xfrm>
            <a:off x="7212240" y="351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0"/>
          <p:cNvSpPr/>
          <p:nvPr/>
        </p:nvSpPr>
        <p:spPr>
          <a:xfrm>
            <a:off x="7347240" y="455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traight Arrow Connector 11"/>
          <p:cNvCxnSpPr/>
          <p:nvPr/>
        </p:nvCxnSpPr>
        <p:spPr>
          <a:xfrm flipV="1">
            <a:off x="6705360" y="3809520"/>
            <a:ext cx="533880" cy="53424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88" name="Straight Arrow Connector 14"/>
          <p:cNvCxnSpPr/>
          <p:nvPr/>
        </p:nvCxnSpPr>
        <p:spPr>
          <a:xfrm>
            <a:off x="6705360" y="4343400"/>
            <a:ext cx="686520" cy="38160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Straight Arrow Connector 21"/>
          <p:cNvCxnSpPr/>
          <p:nvPr/>
        </p:nvCxnSpPr>
        <p:spPr>
          <a:xfrm>
            <a:off x="5914800" y="34286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2" name="Straight Arrow Connector 22"/>
          <p:cNvCxnSpPr/>
          <p:nvPr/>
        </p:nvCxnSpPr>
        <p:spPr>
          <a:xfrm>
            <a:off x="5914800" y="297144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3" name="Straight Arrow Connector 23"/>
          <p:cNvCxnSpPr/>
          <p:nvPr/>
        </p:nvCxnSpPr>
        <p:spPr>
          <a:xfrm>
            <a:off x="5915160" y="320004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4" name="Straight Arrow Connector 24"/>
          <p:cNvCxnSpPr/>
          <p:nvPr/>
        </p:nvCxnSpPr>
        <p:spPr>
          <a:xfrm flipH="1">
            <a:off x="5533200" y="4114440"/>
            <a:ext cx="38196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5" name="Straight Arrow Connector 25"/>
          <p:cNvCxnSpPr/>
          <p:nvPr/>
        </p:nvCxnSpPr>
        <p:spPr>
          <a:xfrm flipH="1">
            <a:off x="5685840" y="38858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96" name="Straight Arrow Connector 26"/>
          <p:cNvCxnSpPr/>
          <p:nvPr/>
        </p:nvCxnSpPr>
        <p:spPr>
          <a:xfrm flipH="1">
            <a:off x="5381280" y="434304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97" name="Rectangle 64"/>
          <p:cNvSpPr/>
          <p:nvPr/>
        </p:nvSpPr>
        <p:spPr>
          <a:xfrm>
            <a:off x="5652720" y="2514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1"/>
          <p:cNvSpPr/>
          <p:nvPr/>
        </p:nvSpPr>
        <p:spPr>
          <a:xfrm flipV="1">
            <a:off x="5867280" y="360936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"/>
          <p:cNvSpPr/>
          <p:nvPr/>
        </p:nvSpPr>
        <p:spPr>
          <a:xfrm>
            <a:off x="6567840" y="344808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positive x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73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01" name="Rectangle 74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76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8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9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80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1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2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Straight Arrow Connector 83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09" name="Straight Arrow Connector 84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0" name="Straight Arrow Connector 85"/>
          <p:cNvCxnSpPr>
            <a:stCxn id="104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1" name="Straight Arrow Connector 86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2" name="Straight Arrow Connector 87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3" name="Straight Arrow Connector 88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4" name="Straight Arrow Connector 89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15" name="Straight Arrow Connector 90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6" name="Straight Arrow Connector 91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7" name="Straight Arrow Connector 92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8" name="Straight Arrow Connector 93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19" name="Straight Arrow Connector 94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20" name="Straight Arrow Connector 95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21" name="Straight Arrow Connector 96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22" name="Straight Arrow Connector 9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3" name="Straight Arrow Connector 98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4" name="Rectangle 100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Straight Arrow Connector 10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26" name="Rectangle 103"/>
          <p:cNvSpPr/>
          <p:nvPr/>
        </p:nvSpPr>
        <p:spPr>
          <a:xfrm>
            <a:off x="5810400" y="4521240"/>
            <a:ext cx="318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45 mT/m (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200 mT/m/ms (maximum sl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(or 225 </a:t>
            </a:r>
            <a:r>
              <a:rPr b="0" lang="el-GR" sz="1600" spc="-1" strike="noStrike">
                <a:solidFill>
                  <a:srgbClr val="ccff33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s to 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39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40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41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42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5652720" y="2514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Straight Arrow Connector 21"/>
          <p:cNvCxnSpPr/>
          <p:nvPr/>
        </p:nvCxnSpPr>
        <p:spPr>
          <a:xfrm>
            <a:off x="5905080" y="38858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6" name="Straight Arrow Connector 22"/>
          <p:cNvCxnSpPr/>
          <p:nvPr/>
        </p:nvCxnSpPr>
        <p:spPr>
          <a:xfrm>
            <a:off x="5905440" y="434304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7" name="Straight Arrow Connector 23"/>
          <p:cNvCxnSpPr/>
          <p:nvPr/>
        </p:nvCxnSpPr>
        <p:spPr>
          <a:xfrm>
            <a:off x="5905080" y="4114440"/>
            <a:ext cx="38196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8" name="Straight Arrow Connector 24"/>
          <p:cNvCxnSpPr/>
          <p:nvPr/>
        </p:nvCxnSpPr>
        <p:spPr>
          <a:xfrm flipH="1">
            <a:off x="5524200" y="320004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39" name="Straight Arrow Connector 25"/>
          <p:cNvCxnSpPr/>
          <p:nvPr/>
        </p:nvCxnSpPr>
        <p:spPr>
          <a:xfrm flipH="1">
            <a:off x="5676120" y="342864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40" name="Straight Arrow Connector 26"/>
          <p:cNvCxnSpPr/>
          <p:nvPr/>
        </p:nvCxnSpPr>
        <p:spPr>
          <a:xfrm flipH="1">
            <a:off x="5371560" y="297144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41" name="Oval 77"/>
          <p:cNvSpPr/>
          <p:nvPr/>
        </p:nvSpPr>
        <p:spPr>
          <a:xfrm flipV="1">
            <a:off x="5867280" y="360936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6568200" y="34480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egative x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Arrow Connector 79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44" name="Rectangle 82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4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1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93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94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5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6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Straight Arrow Connector 4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3" name="Straight Arrow Connector 6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4" name="Straight Arrow Connector 7"/>
          <p:cNvCxnSpPr>
            <a:stCxn id="148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5" name="Straight Arrow Connector 8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6" name="Straight Arrow Connector 9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7" name="Straight Arrow Connector 10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8" name="Straight Arrow Connector 11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59" name="Straight Arrow Connector 97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0" name="Straight Arrow Connector 114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1" name="Straight Arrow Connector 115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2" name="Straight Arrow Connector 116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3" name="Straight Arrow Connector 117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4" name="Straight Arrow Connector 118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5" name="Straight Arrow Connector 119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66" name="Straight Arrow Connector 8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67" name="Straight Arrow Connector 89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68" name="Straight Arrow Connector 12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69" name="Rectangle 125"/>
          <p:cNvSpPr/>
          <p:nvPr/>
        </p:nvSpPr>
        <p:spPr>
          <a:xfrm>
            <a:off x="5810400" y="4521240"/>
            <a:ext cx="318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45 mT/m (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200 mT/m/ms (maximum sl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(or 225 </a:t>
            </a:r>
            <a:r>
              <a:rPr b="0" lang="el-GR" sz="1600" spc="-1" strike="noStrike">
                <a:solidFill>
                  <a:srgbClr val="ccff33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ccff33"/>
                </a:solidFill>
                <a:latin typeface="Arial"/>
              </a:rPr>
              <a:t>s to pe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44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5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6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7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8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21"/>
          <p:cNvCxnSpPr/>
          <p:nvPr/>
        </p:nvCxnSpPr>
        <p:spPr>
          <a:xfrm>
            <a:off x="388584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78" name="Straight Arrow Connector 23"/>
          <p:cNvCxnSpPr/>
          <p:nvPr/>
        </p:nvCxnSpPr>
        <p:spPr>
          <a:xfrm>
            <a:off x="4495320" y="5600520"/>
            <a:ext cx="38196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179" name="Straight Arrow Connector 24"/>
          <p:cNvCxnSpPr/>
          <p:nvPr/>
        </p:nvCxnSpPr>
        <p:spPr>
          <a:xfrm flipH="1">
            <a:off x="1676160" y="560052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80" name="Oval 77"/>
          <p:cNvSpPr/>
          <p:nvPr/>
        </p:nvSpPr>
        <p:spPr>
          <a:xfrm flipV="1">
            <a:off x="3238560" y="556200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8"/>
          <p:cNvSpPr/>
          <p:nvPr/>
        </p:nvSpPr>
        <p:spPr>
          <a:xfrm>
            <a:off x="6024960" y="538164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positive z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Straight Arrow Connector 79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183" name="Rectangle 82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4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91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2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93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94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5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96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Straight Arrow Connector 4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2" name="Straight Arrow Connector 6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3" name="Straight Arrow Connector 7"/>
          <p:cNvCxnSpPr>
            <a:stCxn id="187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4" name="Straight Arrow Connector 8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5" name="Straight Arrow Connector 9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6" name="Straight Arrow Connector 10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7" name="Straight Arrow Connector 11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198" name="Straight Arrow Connector 97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199" name="Straight Arrow Connector 114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0" name="Straight Arrow Connector 115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1" name="Straight Arrow Connector 116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2" name="Straight Arrow Connector 117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3" name="Straight Arrow Connector 118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4" name="Straight Arrow Connector 119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05" name="Straight Arrow Connector 8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6" name="Straight Arrow Connector 89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7" name="Straight Arrow Connector 12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08" name="Straight Arrow Connector 39"/>
          <p:cNvCxnSpPr/>
          <p:nvPr/>
        </p:nvCxnSpPr>
        <p:spPr>
          <a:xfrm flipH="1">
            <a:off x="914040" y="560052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09" name="Straight Arrow Connector 43"/>
          <p:cNvCxnSpPr/>
          <p:nvPr/>
        </p:nvCxnSpPr>
        <p:spPr>
          <a:xfrm>
            <a:off x="5105160" y="560052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10" name="Straight Arrow Connector 48"/>
          <p:cNvCxnSpPr/>
          <p:nvPr/>
        </p:nvCxnSpPr>
        <p:spPr>
          <a:xfrm flipH="1">
            <a:off x="243756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211" name="Rectangle 55"/>
          <p:cNvSpPr/>
          <p:nvPr/>
        </p:nvSpPr>
        <p:spPr>
          <a:xfrm>
            <a:off x="4884480" y="564984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0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1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2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4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field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re resistive coils that slightly alter the ma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Gradients add to or subtract from the main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884480" y="564984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ccff33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7"/>
          <p:cNvSpPr/>
          <p:nvPr/>
        </p:nvSpPr>
        <p:spPr>
          <a:xfrm flipV="1">
            <a:off x="3238560" y="5562000"/>
            <a:ext cx="76320" cy="759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8"/>
          <p:cNvSpPr/>
          <p:nvPr/>
        </p:nvSpPr>
        <p:spPr>
          <a:xfrm>
            <a:off x="6025320" y="538164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egative z-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Straight Arrow Connector 79"/>
          <p:cNvCxnSpPr/>
          <p:nvPr/>
        </p:nvCxnSpPr>
        <p:spPr>
          <a:xfrm>
            <a:off x="1600200" y="4990680"/>
            <a:ext cx="9151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223" name="Rectangle 82"/>
          <p:cNvSpPr/>
          <p:nvPr/>
        </p:nvSpPr>
        <p:spPr>
          <a:xfrm>
            <a:off x="2598480" y="47815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irection of bore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4"/>
          <p:cNvSpPr/>
          <p:nvPr/>
        </p:nvSpPr>
        <p:spPr>
          <a:xfrm>
            <a:off x="8398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91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2"/>
          <p:cNvSpPr/>
          <p:nvPr/>
        </p:nvSpPr>
        <p:spPr>
          <a:xfrm>
            <a:off x="342900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93"/>
          <p:cNvSpPr/>
          <p:nvPr/>
        </p:nvSpPr>
        <p:spPr>
          <a:xfrm>
            <a:off x="3276720" y="2666880"/>
            <a:ext cx="30456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94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5"/>
          <p:cNvSpPr/>
          <p:nvPr/>
        </p:nvSpPr>
        <p:spPr>
          <a:xfrm>
            <a:off x="1447920" y="25909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96"/>
          <p:cNvSpPr/>
          <p:nvPr/>
        </p:nvSpPr>
        <p:spPr>
          <a:xfrm>
            <a:off x="1295280" y="2666880"/>
            <a:ext cx="304920" cy="198144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Arrow Connector 4"/>
          <p:cNvCxnSpPr/>
          <p:nvPr/>
        </p:nvCxnSpPr>
        <p:spPr>
          <a:xfrm>
            <a:off x="3352320" y="29714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2" name="Straight Arrow Connector 6"/>
          <p:cNvCxnSpPr/>
          <p:nvPr/>
        </p:nvCxnSpPr>
        <p:spPr>
          <a:xfrm>
            <a:off x="3276720" y="32000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3" name="Straight Arrow Connector 7"/>
          <p:cNvCxnSpPr>
            <a:stCxn id="227" idx="2"/>
          </p:cNvCxnSpPr>
          <p:nvPr/>
        </p:nvCxnSpPr>
        <p:spPr>
          <a:xfrm>
            <a:off x="3276720" y="36572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4" name="Straight Arrow Connector 8"/>
          <p:cNvCxnSpPr/>
          <p:nvPr/>
        </p:nvCxnSpPr>
        <p:spPr>
          <a:xfrm>
            <a:off x="3276720" y="34286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5" name="Straight Arrow Connector 9"/>
          <p:cNvCxnSpPr/>
          <p:nvPr/>
        </p:nvCxnSpPr>
        <p:spPr>
          <a:xfrm>
            <a:off x="3276720" y="41144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6" name="Straight Arrow Connector 10"/>
          <p:cNvCxnSpPr/>
          <p:nvPr/>
        </p:nvCxnSpPr>
        <p:spPr>
          <a:xfrm>
            <a:off x="3352320" y="4343040"/>
            <a:ext cx="17535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7" name="Straight Arrow Connector 11"/>
          <p:cNvCxnSpPr/>
          <p:nvPr/>
        </p:nvCxnSpPr>
        <p:spPr>
          <a:xfrm>
            <a:off x="3276720" y="3885840"/>
            <a:ext cx="182952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</p:cxnSp>
      <p:cxnSp>
        <p:nvCxnSpPr>
          <p:cNvPr id="238" name="Straight Arrow Connector 97"/>
          <p:cNvCxnSpPr/>
          <p:nvPr/>
        </p:nvCxnSpPr>
        <p:spPr>
          <a:xfrm>
            <a:off x="1447560" y="2971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39" name="Straight Arrow Connector 114"/>
          <p:cNvCxnSpPr/>
          <p:nvPr/>
        </p:nvCxnSpPr>
        <p:spPr>
          <a:xfrm>
            <a:off x="1447560" y="3200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0" name="Straight Arrow Connector 115"/>
          <p:cNvCxnSpPr/>
          <p:nvPr/>
        </p:nvCxnSpPr>
        <p:spPr>
          <a:xfrm>
            <a:off x="1447560" y="41144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1" name="Straight Arrow Connector 116"/>
          <p:cNvCxnSpPr/>
          <p:nvPr/>
        </p:nvCxnSpPr>
        <p:spPr>
          <a:xfrm>
            <a:off x="1447560" y="34286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2" name="Straight Arrow Connector 117"/>
          <p:cNvCxnSpPr/>
          <p:nvPr/>
        </p:nvCxnSpPr>
        <p:spPr>
          <a:xfrm>
            <a:off x="1447560" y="36572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3" name="Straight Arrow Connector 118"/>
          <p:cNvCxnSpPr/>
          <p:nvPr/>
        </p:nvCxnSpPr>
        <p:spPr>
          <a:xfrm>
            <a:off x="1447560" y="38858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4" name="Straight Arrow Connector 119"/>
          <p:cNvCxnSpPr/>
          <p:nvPr/>
        </p:nvCxnSpPr>
        <p:spPr>
          <a:xfrm>
            <a:off x="1447560" y="4343040"/>
            <a:ext cx="1905480" cy="1080"/>
          </a:xfrm>
          <a:prstGeom prst="straightConnector1">
            <a:avLst/>
          </a:prstGeom>
          <a:ln w="25560">
            <a:solidFill>
              <a:srgbClr val="ffffff"/>
            </a:solidFill>
            <a:prstDash val="dash"/>
            <a:miter/>
          </a:ln>
        </p:spPr>
      </p:cxnSp>
      <p:cxnSp>
        <p:nvCxnSpPr>
          <p:cNvPr id="245" name="Straight Arrow Connector 87"/>
          <p:cNvCxnSpPr/>
          <p:nvPr/>
        </p:nvCxnSpPr>
        <p:spPr>
          <a:xfrm>
            <a:off x="1447560" y="464796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6" name="Straight Arrow Connector 89"/>
          <p:cNvCxnSpPr/>
          <p:nvPr/>
        </p:nvCxnSpPr>
        <p:spPr>
          <a:xfrm>
            <a:off x="1447560" y="2666520"/>
            <a:ext cx="19818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7" name="Straight Arrow Connector 121"/>
          <p:cNvCxnSpPr/>
          <p:nvPr/>
        </p:nvCxnSpPr>
        <p:spPr>
          <a:xfrm flipV="1">
            <a:off x="990360" y="2590560"/>
            <a:ext cx="1080" cy="205776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48" name="Straight Arrow Connector 43"/>
          <p:cNvCxnSpPr/>
          <p:nvPr/>
        </p:nvCxnSpPr>
        <p:spPr>
          <a:xfrm>
            <a:off x="1447560" y="5600520"/>
            <a:ext cx="53388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49" name="Straight Arrow Connector 38"/>
          <p:cNvCxnSpPr/>
          <p:nvPr/>
        </p:nvCxnSpPr>
        <p:spPr>
          <a:xfrm>
            <a:off x="266652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0" name="Straight Arrow Connector 40"/>
          <p:cNvCxnSpPr/>
          <p:nvPr/>
        </p:nvCxnSpPr>
        <p:spPr>
          <a:xfrm>
            <a:off x="2057400" y="560052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1" name="Straight Arrow Connector 44"/>
          <p:cNvCxnSpPr/>
          <p:nvPr/>
        </p:nvCxnSpPr>
        <p:spPr>
          <a:xfrm flipH="1">
            <a:off x="4114440" y="5600520"/>
            <a:ext cx="38160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2" name="Straight Arrow Connector 45"/>
          <p:cNvCxnSpPr/>
          <p:nvPr/>
        </p:nvCxnSpPr>
        <p:spPr>
          <a:xfrm flipH="1">
            <a:off x="4571640" y="5600520"/>
            <a:ext cx="53424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cxnSp>
        <p:nvCxnSpPr>
          <p:cNvPr id="253" name="Straight Arrow Connector 46"/>
          <p:cNvCxnSpPr/>
          <p:nvPr/>
        </p:nvCxnSpPr>
        <p:spPr>
          <a:xfrm flipH="1">
            <a:off x="3656880" y="5600520"/>
            <a:ext cx="229320" cy="108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lg" type="triangle" w="med"/>
          </a:ln>
        </p:spPr>
      </p:cxnSp>
      <p:sp>
        <p:nvSpPr>
          <p:cNvPr id="254" name="Oval 39"/>
          <p:cNvSpPr/>
          <p:nvPr/>
        </p:nvSpPr>
        <p:spPr>
          <a:xfrm>
            <a:off x="1905120" y="3352680"/>
            <a:ext cx="609480" cy="60984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2119320" y="3505320"/>
            <a:ext cx="304920" cy="3045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1967040" y="3429000"/>
            <a:ext cx="380880" cy="457200"/>
          </a:xfrm>
          <a:prstGeom prst="ellipse">
            <a:avLst/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47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48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997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pin behaviour and relaxation times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60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457200" y="5105520"/>
            <a:ext cx="82296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Spins release energy to environment (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relax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vironment can supply energy (RF exci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imescale for relaxation of longitudinal magnetization is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(e.g. 1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" descr="MagSpherical2.jpg"/>
          <p:cNvPicPr/>
          <p:nvPr/>
        </p:nvPicPr>
        <p:blipFill>
          <a:blip r:embed="rId1"/>
          <a:stretch/>
        </p:blipFill>
        <p:spPr>
          <a:xfrm>
            <a:off x="1503360" y="2743200"/>
            <a:ext cx="1830240" cy="2057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MagPrecession2.jpg"/>
          <p:cNvPicPr/>
          <p:nvPr/>
        </p:nvPicPr>
        <p:blipFill>
          <a:blip r:embed="rId2"/>
          <a:stretch/>
        </p:blipFill>
        <p:spPr>
          <a:xfrm>
            <a:off x="3665520" y="2743200"/>
            <a:ext cx="1801800" cy="2057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MagRotated2.jpg"/>
          <p:cNvPicPr/>
          <p:nvPr/>
        </p:nvPicPr>
        <p:blipFill>
          <a:blip r:embed="rId3"/>
          <a:stretch/>
        </p:blipFill>
        <p:spPr>
          <a:xfrm>
            <a:off x="5746680" y="2743200"/>
            <a:ext cx="1778040" cy="20574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(spin-lattice)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57200" y="1066680"/>
            <a:ext cx="8458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uclei in liquid collide (almost) with one another due to thermal ag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onsider compass needles in a tumble dryer – individual compasses don’t reach a steady state but the combined distribution quickly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he “lattice” is th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86080" y="4800600"/>
            <a:ext cx="18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657600" y="4800600"/>
            <a:ext cx="18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B0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5000" y="4800600"/>
            <a:ext cx="18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 exc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733920" y="651996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 to MRI Techniques, Lars Hanson, DRCM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(spin-spin)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457200" y="106668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spin-spin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transverse relax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Spins exchange energy with one another (local field vari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ransverse magnetization decays because spins dephase (but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refocusing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can be used to reverse dephasing and elicit an ec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57200" y="401004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Dephasing can also be caused by field inhomogeneity (poor sh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ontribution is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' (property of shim, voxel siz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Like resistors in parall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1 /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* = 1 /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+ 1 /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04920" y="31813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*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Bloch equations /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57200" y="106668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Bloch equations describe the macroscopic nuclear magnetization      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, 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, 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) given the relaxation times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and T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ccff33"/>
                </a:solidFill>
                <a:latin typeface="Arial"/>
              </a:rPr>
              <a:t>xy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or transverse magnetization induces the observ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114800" y="65199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ish Research Centre for Magnetic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Bloch_Hanson.gif"/>
          <p:cNvPicPr/>
          <p:nvPr/>
        </p:nvPicPr>
        <p:blipFill>
          <a:blip r:embed="rId1"/>
          <a:stretch/>
        </p:blipFill>
        <p:spPr>
          <a:xfrm>
            <a:off x="1380960" y="2352600"/>
            <a:ext cx="63723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R-PET combination: Biograph mMR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Simultaneous MR and PET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PET detectors use APDs instead of PMTs to function in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0" descr="DSC_6193"/>
          <p:cNvPicPr/>
          <p:nvPr/>
        </p:nvPicPr>
        <p:blipFill>
          <a:blip r:embed="rId1"/>
          <a:srcRect l="3511" t="0" r="8772" b="0"/>
          <a:stretch/>
        </p:blipFill>
        <p:spPr>
          <a:xfrm>
            <a:off x="4676760" y="2133720"/>
            <a:ext cx="4046400" cy="400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DSC_6195"/>
          <p:cNvPicPr/>
          <p:nvPr/>
        </p:nvPicPr>
        <p:blipFill>
          <a:blip r:embed="rId2"/>
          <a:srcRect l="1655" t="7577" r="793" b="7577"/>
          <a:stretch/>
        </p:blipFill>
        <p:spPr>
          <a:xfrm>
            <a:off x="343080" y="2133720"/>
            <a:ext cx="4211280" cy="39988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343080" y="6138720"/>
            <a:ext cx="41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nt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648320" y="61387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ck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prian Catana, MGH; 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Behaviour of spins in magnetic field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whole_body_movie.avi" descr=""/>
          <p:cNvPicPr/>
          <p:nvPr/>
        </p:nvPicPr>
        <p:blipFill>
          <a:blip r:embed="rId1"/>
          <a:stretch/>
        </p:blipFill>
        <p:spPr>
          <a:xfrm>
            <a:off x="444600" y="141120"/>
            <a:ext cx="8242200" cy="64119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prian Catana, MGH; 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onnectome gradi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57200" y="1066680"/>
            <a:ext cx="82296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igh peak gradient strength (G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= 300 mT/m vs. standard 45 mT/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ables diffusion imaging with high b-values at low echo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(b-value scales with G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, SNR decreases exponentially with 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838080" y="616284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 4 x 2250V/951A (~8.5 MW) (cmp. 2000V/625A ~1.25 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19920" y="61628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nectom Sky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9" descr="connectom-scanner-720x365.jpg"/>
          <p:cNvPicPr/>
          <p:nvPr/>
        </p:nvPicPr>
        <p:blipFill>
          <a:blip r:embed="rId1"/>
          <a:stretch/>
        </p:blipFill>
        <p:spPr>
          <a:xfrm>
            <a:off x="838080" y="2514600"/>
            <a:ext cx="7453440" cy="36576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GH/Siemens (NIH project with UC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onnectomeGradientCables.jpg"/>
          <p:cNvPicPr/>
          <p:nvPr/>
        </p:nvPicPr>
        <p:blipFill>
          <a:blip r:embed="rId1"/>
          <a:stretch/>
        </p:blipFill>
        <p:spPr>
          <a:xfrm>
            <a:off x="447840" y="1143000"/>
            <a:ext cx="8231040" cy="4923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447840" y="606276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rent 4 x 951A per 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onnectome gra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876920" y="651996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GH/Siemens (NIH project with UC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8"/>
          <p:cNvSpPr/>
          <p:nvPr/>
        </p:nvSpPr>
        <p:spPr>
          <a:xfrm>
            <a:off x="152280" y="1600200"/>
            <a:ext cx="8839440" cy="48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527040" y="1009800"/>
            <a:ext cx="8089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72560" y="1755360"/>
            <a:ext cx="1593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Gill Sans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 = 40 mT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711960" y="1755360"/>
            <a:ext cx="1719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Gill Sans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 = 100 mT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664680" y="1755360"/>
            <a:ext cx="1719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Gill Sans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 = 300 mT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33200" y="2246400"/>
            <a:ext cx="2884680" cy="3571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2"/>
          <a:stretch/>
        </p:blipFill>
        <p:spPr>
          <a:xfrm>
            <a:off x="3133800" y="2228760"/>
            <a:ext cx="2867040" cy="3589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3"/>
          <a:stretch/>
        </p:blipFill>
        <p:spPr>
          <a:xfrm>
            <a:off x="6081840" y="2246400"/>
            <a:ext cx="28922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3"/>
          <p:cNvGrpSpPr/>
          <p:nvPr/>
        </p:nvGrpSpPr>
        <p:grpSpPr>
          <a:xfrm>
            <a:off x="3911760" y="3174840"/>
            <a:ext cx="4268160" cy="1303560"/>
            <a:chOff x="3911760" y="3174840"/>
            <a:chExt cx="4268160" cy="1303560"/>
          </a:xfrm>
        </p:grpSpPr>
        <p:sp>
          <p:nvSpPr>
            <p:cNvPr id="307" name="Oval 11"/>
            <p:cNvSpPr/>
            <p:nvPr/>
          </p:nvSpPr>
          <p:spPr>
            <a:xfrm>
              <a:off x="6876360" y="3174840"/>
              <a:ext cx="1303560" cy="13035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3911760" y="3174840"/>
              <a:ext cx="1303560" cy="13035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14"/>
          <p:cNvSpPr/>
          <p:nvPr/>
        </p:nvSpPr>
        <p:spPr>
          <a:xfrm>
            <a:off x="924120" y="5979960"/>
            <a:ext cx="13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TE = 10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982680" y="597996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TE = 66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6936840" y="597996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ill Sans"/>
              </a:rPr>
              <a:t>TE = 54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onnectome gra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5720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ractography at b = 5000 s/mm</a:t>
            </a:r>
            <a:r>
              <a:rPr b="0" lang="en-US" sz="20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267080" y="65199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lien Cohen-Adad, MGH (ISMRM 2012, 6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Pulse sequences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traight Connector 16"/>
          <p:cNvSpPr/>
          <p:nvPr/>
        </p:nvSpPr>
        <p:spPr>
          <a:xfrm>
            <a:off x="47628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0"/>
          <p:cNvSpPr/>
          <p:nvPr/>
        </p:nvSpPr>
        <p:spPr>
          <a:xfrm>
            <a:off x="807732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5" descr="MEMPR_ES.png"/>
          <p:cNvPicPr/>
          <p:nvPr/>
        </p:nvPicPr>
        <p:blipFill>
          <a:blip r:embed="rId1"/>
          <a:stretch/>
        </p:blipFill>
        <p:spPr>
          <a:xfrm>
            <a:off x="304920" y="1657440"/>
            <a:ext cx="7924680" cy="4895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821052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210520" y="2976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8210520" y="4010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g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8210520" y="4876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210520" y="5910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E-MPRAGE puls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45720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code line: excitation – measurement – recovery/spo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760104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7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908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traight Connector 16"/>
          <p:cNvSpPr/>
          <p:nvPr/>
        </p:nvSpPr>
        <p:spPr>
          <a:xfrm>
            <a:off x="61920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17"/>
          <p:cNvSpPr/>
          <p:nvPr/>
        </p:nvSpPr>
        <p:spPr>
          <a:xfrm>
            <a:off x="807732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21052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210520" y="2976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210520" y="4010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g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8210520" y="4876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8210520" y="5910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E-MPRAGE puls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5720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code slice: inversion – phase encoding (loop over lines) –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3" descr="MEMPR_TR.png"/>
          <p:cNvPicPr/>
          <p:nvPr/>
        </p:nvPicPr>
        <p:blipFill>
          <a:blip r:embed="rId1"/>
          <a:stretch/>
        </p:blipFill>
        <p:spPr>
          <a:xfrm>
            <a:off x="453960" y="1660680"/>
            <a:ext cx="7775640" cy="48924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760104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6200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traight Connector 16"/>
          <p:cNvSpPr/>
          <p:nvPr/>
        </p:nvSpPr>
        <p:spPr>
          <a:xfrm>
            <a:off x="100980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17"/>
          <p:cNvSpPr/>
          <p:nvPr/>
        </p:nvSpPr>
        <p:spPr>
          <a:xfrm>
            <a:off x="8077320" y="643716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21052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210520" y="2976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210520" y="4010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 g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8210520" y="4876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8210520" y="5910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 g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E-MPRAGE puls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45720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ncode volume: loop over sl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3" descr="MEMPR_acq.png"/>
          <p:cNvPicPr/>
          <p:nvPr/>
        </p:nvPicPr>
        <p:blipFill>
          <a:blip r:embed="rId1"/>
          <a:stretch/>
        </p:blipFill>
        <p:spPr>
          <a:xfrm>
            <a:off x="858960" y="1660680"/>
            <a:ext cx="7370640" cy="48924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760104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552600" y="6519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-mri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is.rit.edu/htbooks/mr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drcmr.dk/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ource of signal in human MRI is water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57200" y="106668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uman body is 60%/55% water (brain 75% -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Water molecule contains two hydrogen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457200" y="4541760"/>
            <a:ext cx="6324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ydrogen nuclei (protons) have charge +1 and spin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harge on a spinning sphere is a flow of current in a loop and generates a magnetic field (Biot-Savart law) called a magnetic d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3" descr="WaterMolecule"/>
          <p:cNvPicPr/>
          <p:nvPr/>
        </p:nvPicPr>
        <p:blipFill>
          <a:blip r:embed="rId1"/>
          <a:srcRect l="0" t="12422" r="0" b="1678"/>
          <a:stretch/>
        </p:blipFill>
        <p:spPr>
          <a:xfrm>
            <a:off x="905040" y="2076480"/>
            <a:ext cx="305244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water_molecule"/>
          <p:cNvPicPr/>
          <p:nvPr/>
        </p:nvPicPr>
        <p:blipFill>
          <a:blip r:embed="rId2"/>
          <a:stretch/>
        </p:blipFill>
        <p:spPr>
          <a:xfrm>
            <a:off x="4314960" y="2076480"/>
            <a:ext cx="34304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ipole_magnetic.png"/>
          <p:cNvPicPr/>
          <p:nvPr/>
        </p:nvPicPr>
        <p:blipFill>
          <a:blip r:embed="rId3"/>
          <a:stretch/>
        </p:blipFill>
        <p:spPr>
          <a:xfrm>
            <a:off x="6991200" y="462924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447920" y="65199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hn Blamire, http://www.brooklyn.cuny.edu; http://www.labwater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OliphantDdrive\Documents\Talks\FreeSurfer_Amsterdam_2012\MRI_Hanson\JavaCompass\MagnetAnim.png"/>
          <p:cNvPicPr/>
          <p:nvPr/>
        </p:nvPicPr>
        <p:blipFill>
          <a:blip r:embed="rId1"/>
          <a:stretch/>
        </p:blipFill>
        <p:spPr>
          <a:xfrm>
            <a:off x="2238480" y="3200400"/>
            <a:ext cx="465588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52280" y="2286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Re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57200" y="1066680"/>
            <a:ext cx="8534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ydrogen nuclei (magnetic dipoles) behave like compass needles in a fixed external magnetic field (B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 compass needle oscillates as it comes to rest in the external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Oscillating magnetic dipoles emit radio waves - this is the MR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n external magnetic field (B1) at the right frequency drives the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76720" y="62308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rs Hanson's Compas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971800" y="651996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ish Research Centre for Magnetic Resonance (DRM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gnetic moment precesses about external magnetic field at Larmor frequency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1295280"/>
            <a:ext cx="82296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If perturbed, spins precess about direction of external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hey precess at the “Larmor” frequency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f = γB</a:t>
            </a:r>
            <a:r>
              <a:rPr b="0" lang="en-US" sz="2000" spc="-1" strike="noStrike" baseline="-25000">
                <a:solidFill>
                  <a:srgbClr val="ccff33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where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γ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is  gyromagnetic ratio 42.576 MHz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784760"/>
            <a:ext cx="8229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fter a time (T1) the spins realign themselves with the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1 is the spin-lattice or longitudinal relax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s they “relax”, the spins emit radio waves at the Larmor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6" descr="topp"/>
          <p:cNvPicPr/>
          <p:nvPr/>
        </p:nvPicPr>
        <p:blipFill>
          <a:blip r:embed="rId1"/>
          <a:stretch/>
        </p:blipFill>
        <p:spPr>
          <a:xfrm>
            <a:off x="3733920" y="2816280"/>
            <a:ext cx="1644480" cy="1832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971800" y="651996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hyperphysics.phy-astr.gs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yroscope_precession.mpeg" descr=""/>
          <p:cNvPicPr/>
          <p:nvPr/>
        </p:nvPicPr>
        <p:blipFill>
          <a:blip r:embed="rId1"/>
          <a:stretch/>
        </p:blipFill>
        <p:spPr>
          <a:xfrm>
            <a:off x="1095480" y="674640"/>
            <a:ext cx="6946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esign of MR scanner</a:t>
            </a:r>
            <a:endParaRPr b="0" lang="en-US" sz="32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2" name="Line 3"/>
          <p:cNvSpPr/>
          <p:nvPr/>
        </p:nvSpPr>
        <p:spPr>
          <a:xfrm>
            <a:off x="990720" y="3809880"/>
            <a:ext cx="716256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canner components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106668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Main magnet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generates very strong and uniform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Gradient coils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(X, Y and Z) encode spati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Radio frequency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transmit coil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perturbs s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Radio frequency </a:t>
            </a:r>
            <a:r>
              <a:rPr b="0" i="1" lang="en-US" sz="2000" spc="-1" strike="noStrike">
                <a:solidFill>
                  <a:srgbClr val="ccff33"/>
                </a:solidFill>
                <a:latin typeface="Arial"/>
              </a:rPr>
              <a:t>receive coil(s)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receive signal from relaxing s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mri-scanner"/>
          <p:cNvPicPr/>
          <p:nvPr/>
        </p:nvPicPr>
        <p:blipFill>
          <a:blip r:embed="rId1"/>
          <a:stretch/>
        </p:blipFill>
        <p:spPr>
          <a:xfrm>
            <a:off x="2286000" y="2971800"/>
            <a:ext cx="4562640" cy="3510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590920" y="65199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agnet.fsu.edu/education/tutorials/magnetacademy/mr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Main magnet</a:t>
            </a:r>
            <a:endParaRPr b="0" lang="en-US" sz="28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066680"/>
            <a:ext cx="82296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Main magnet is supercondu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Niobium-tin/titanium superconducts at temperature of liquid He (4.2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ooled magnet is “ramped up” to field i.e. energy is stored in m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Current continues to flow almost indefinitely (almost zero resi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Therefore magnet is “always 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If helium level becomes too low, magnet quenches i.e. helium boils off, superconductor becomes resistive, energy dissipated as 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Emergency quench button raises temperature of helium slightly and causes a controlled quench (1700 dm</a:t>
            </a:r>
            <a:r>
              <a:rPr b="0" lang="en-US" sz="2000" spc="-1" strike="noStrike" baseline="30000">
                <a:solidFill>
                  <a:srgbClr val="ccff33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Helium is a limited resource (helium can’t be synthesized like o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00:44Z</dcterms:created>
  <dc:creator>Andre van der Kouwe</dc:creator>
  <dc:description/>
  <dc:language>en-US</dc:language>
  <cp:lastModifiedBy>Andre van der Kouwe</cp:lastModifiedBy>
  <dcterms:modified xsi:type="dcterms:W3CDTF">2012-06-18T19:04:17Z</dcterms:modified>
  <cp:revision>248</cp:revision>
  <dc:subject/>
  <dc:title>Real-time B0 and first order shim correction during motion correction with cloverleaf navigators</dc:title>
</cp:coreProperties>
</file>