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DF40-6FA1-43C4-A059-F00464A8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424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6BD9-2BF4-4103-943B-F7EBA97A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1424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D2AE-A9E1-4C37-BE07-34FD09DA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1424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E5DE-041F-41E7-A90E-1F794C5B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424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CB7-5E5B-4B61-A4CC-C2247BBE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424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F0DC-CE7A-45D6-94BB-89F8D6B3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424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7AB0-8CCD-46DB-AC96-E36E8770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424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B09C-F249-4410-AA85-7ABDAAC6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14240" y="90360"/>
            <a:ext cx="607860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424-6469-4D4C-A078-E7B11A24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1424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EBF0-B13A-4295-AF12-EC76C82A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1424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E4F7-1B03-40AC-B319-3F0A57B8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1424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FB2-E3DC-4F22-A37B-E155B5D8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762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4240" y="90360"/>
            <a:ext cx="60786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78960" y="6400800"/>
            <a:ext cx="155412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ff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&lt;date/time&gt;</a:t>
            </a:r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05/04/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29920" y="6400800"/>
            <a:ext cx="449604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ff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&lt;footer&gt;</a:t>
            </a:r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Introduction to diffusion M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10200" y="6400800"/>
            <a:ext cx="155412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ff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9258-8AE8-4843-B8F2-555C51F0EEB4}" type="slidenum">
              <a:rPr b="0" lang="en-US" sz="1200" spc="-1" strike="noStrike">
                <a:solidFill>
                  <a:srgbClr val="99ff99"/>
                </a:solidFill>
                <a:latin typeface="Georgia"/>
              </a:rPr>
              <a:t>&lt;number&gt;</a:t>
            </a:fld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/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762120"/>
            <a:ext cx="380880" cy="5740200"/>
          </a:xfrm>
          <a:custGeom>
            <a:avLst/>
            <a:gdLst>
              <a:gd name="textAreaLeft" fmla="*/ 111960 w 380880"/>
              <a:gd name="textAreaRight" fmla="*/ 381240 w 380880"/>
              <a:gd name="textAreaTop" fmla="*/ 171360 h 5740200"/>
              <a:gd name="textAreaBottom" fmla="*/ 5568840 h 574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46"/>
                  <a:pt x="0" y="1291"/>
                </a:cubicBezTo>
                <a:lnTo>
                  <a:pt x="0" y="20309"/>
                </a:lnTo>
                <a:cubicBezTo>
                  <a:pt x="0" y="20955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8458200" y="762120"/>
            <a:ext cx="371520" cy="5740200"/>
          </a:xfrm>
          <a:custGeom>
            <a:avLst/>
            <a:gdLst>
              <a:gd name="textAreaLeft" fmla="*/ 109080 w 371520"/>
              <a:gd name="textAreaRight" fmla="*/ 371880 w 371520"/>
              <a:gd name="textAreaTop" fmla="*/ 171360 h 5740200"/>
              <a:gd name="textAreaBottom" fmla="*/ 5568840 h 574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46"/>
                  <a:pt x="0" y="1291"/>
                </a:cubicBezTo>
                <a:lnTo>
                  <a:pt x="0" y="20309"/>
                </a:lnTo>
                <a:cubicBezTo>
                  <a:pt x="0" y="20955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1000" y="2086920"/>
            <a:ext cx="622764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Introduction to diffusion MRI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762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23960" y="-760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1760" y="428004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nastasia Yendiki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HMS/MGH/MIT Athinoula A. Martinos Center for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Biomedical Imaging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1403" t="0" r="0" b="0"/>
          <a:stretch/>
        </p:blipFill>
        <p:spPr>
          <a:xfrm>
            <a:off x="876240" y="4984920"/>
            <a:ext cx="784440" cy="76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8CA6-31B1-4558-8020-7CECF8694D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11283" t="0" r="13136" b="0"/>
          <a:stretch/>
        </p:blipFill>
        <p:spPr>
          <a:xfrm>
            <a:off x="4869000" y="2209680"/>
            <a:ext cx="3114360" cy="311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24160" y="90360"/>
            <a:ext cx="64627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ffusion tensor imaging (DTI)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rcRect l="0" t="0" r="0" b="3161"/>
          <a:stretch/>
        </p:blipFill>
        <p:spPr>
          <a:xfrm>
            <a:off x="1066680" y="2212920"/>
            <a:ext cx="3113280" cy="311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990720" y="1066680"/>
            <a:ext cx="36576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mag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n </a:t>
            </a:r>
            <a:r>
              <a:rPr b="0" lang="en-US" sz="2000" spc="-1" strike="noStrike">
                <a:solidFill>
                  <a:srgbClr val="cc99ff"/>
                </a:solidFill>
                <a:latin typeface="Georgia"/>
              </a:rPr>
              <a:t>intensity valu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t each vo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1066680"/>
            <a:ext cx="327636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ensor map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tens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t each vo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75040" y="5396040"/>
            <a:ext cx="3276720" cy="10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Direction of eigenvector corresponding to greatest eigen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Red: L-R, Green: A-P, Blue: I-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209320" y="1828800"/>
            <a:ext cx="368280" cy="1752480"/>
          </a:xfrm>
          <a:prstGeom prst="line">
            <a:avLst/>
          </a:prstGeom>
          <a:ln w="38160">
            <a:solidFill>
              <a:srgbClr val="cc9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27200" y="3581280"/>
            <a:ext cx="76320" cy="76320"/>
          </a:xfrm>
          <a:prstGeom prst="rect">
            <a:avLst/>
          </a:prstGeom>
          <a:noFill/>
          <a:ln w="38160">
            <a:solidFill>
              <a:srgbClr val="cc97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715000" y="1828440"/>
            <a:ext cx="660240" cy="1854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24480" y="3657600"/>
            <a:ext cx="76320" cy="76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BF7-81D8-42DC-AD95-9367804056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65360" y="90360"/>
            <a:ext cx="41832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Summary measure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1600200" cy="1873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1600200" cy="1873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419720" y="150804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ean diffusivity (MD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ean of the 3 eigenval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371808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ractional anisotropy (FA)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Variance of the 3 eigenvalues, normalized so 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A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447920" y="3733920"/>
            <a:ext cx="1309680" cy="8380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676160" y="4371840"/>
            <a:ext cx="1081080" cy="7336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739880" y="1447920"/>
            <a:ext cx="838080" cy="3045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739880" y="2409840"/>
            <a:ext cx="838080" cy="3333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36960" y="1370160"/>
            <a:ext cx="1552320" cy="581400"/>
          </a:xfrm>
          <a:prstGeom prst="rect">
            <a:avLst/>
          </a:prstGeom>
          <a:solidFill>
            <a:srgbClr val="33333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36960" y="2055960"/>
            <a:ext cx="1552320" cy="581400"/>
          </a:xfrm>
          <a:prstGeom prst="rect">
            <a:avLst/>
          </a:prstGeom>
          <a:solidFill>
            <a:srgbClr val="33333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98880" y="3681360"/>
            <a:ext cx="1857240" cy="581400"/>
          </a:xfrm>
          <a:prstGeom prst="rect">
            <a:avLst/>
          </a:prstGeom>
          <a:solidFill>
            <a:srgbClr val="33333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nisotr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10040" y="4341960"/>
            <a:ext cx="1552320" cy="581400"/>
          </a:xfrm>
          <a:prstGeom prst="rect">
            <a:avLst/>
          </a:prstGeom>
          <a:solidFill>
            <a:srgbClr val="33333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sotr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2346480"/>
            <a:ext cx="3504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D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[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]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5073480"/>
            <a:ext cx="5410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-MD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]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-MD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]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-MD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]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38040" y="528624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530680"/>
            <a:ext cx="259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5508720"/>
            <a:ext cx="5105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69800" y="510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69800" y="5546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25960" y="5511960"/>
            <a:ext cx="2030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22F2-7A67-4C92-A31E-A3291E2852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98360" y="90360"/>
            <a:ext cx="531324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More summary measure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xial diffusivity: Greatest of the 3 eigenvalue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adial diffusivity: Average of 2 lesser eigenvalues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nter-voxel coherence: Average angle b/w the major eigenvector at some voxel and the major eigenvector at the voxels around it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167652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2819520"/>
            <a:ext cx="320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D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[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]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1093-568C-4A51-9381-2DA8D4D4D8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8440" y="90360"/>
            <a:ext cx="38545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Beyond the tensor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3504960"/>
            <a:ext cx="79246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High angular resolution diffusion imaging (HARDI): More complex models to capture more complex microarchitecture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ixture of tensors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[Tuch’02]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Higher-rank tensor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[Frank’02, Özarslan’03]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Ball-and-stick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[Behrens’03]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Orientation distribution function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[Tuch’04]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usion spectrum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[Wedeen’05]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tensor is an imperfect model: What if more than one major diffusion direction in the same vox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1828800"/>
            <a:ext cx="1206360" cy="14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511960" y="2044800"/>
            <a:ext cx="685800" cy="105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99000" y="2070000"/>
            <a:ext cx="762120" cy="1003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867280" y="1955880"/>
            <a:ext cx="0" cy="119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4345" t="13525" r="26091" b="6762"/>
          <a:stretch/>
        </p:blipFill>
        <p:spPr>
          <a:xfrm>
            <a:off x="2666880" y="1828800"/>
            <a:ext cx="2438640" cy="14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DBAA-C653-469F-9323-DECEE15163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90760" y="4111560"/>
            <a:ext cx="609480" cy="609840"/>
          </a:xfrm>
          <a:prstGeom prst="ellipse">
            <a:avLst/>
          </a:prstGeom>
          <a:solidFill>
            <a:srgbClr val="4506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612520" y="90360"/>
            <a:ext cx="40878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Models of diffusion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124080" y="1066680"/>
          <a:ext cx="5562360" cy="5257800"/>
        </p:xfrm>
        <a:graphic>
          <a:graphicData uri="http://schemas.openxmlformats.org/drawingml/2006/table">
            <a:tbl>
              <a:tblPr/>
              <a:tblGrid>
                <a:gridCol w="556236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Diffusion spectrum (DSI)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ull distribution of orientation and magnitu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6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Orientation distribution function (Q-ball)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No magnitude info, only ori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all-and-stic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Orientation and magnitude for up to N anisotropic compartm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ensor (DTI)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ingle orientation and magnitu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 rot="16200000">
            <a:off x="1307880" y="305748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5094800">
            <a:off x="1295280" y="305748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3874400">
            <a:off x="1295280" y="305712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2775800">
            <a:off x="1295280" y="305676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1767200">
            <a:off x="1294920" y="305676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305748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 rot="9832800">
            <a:off x="701280" y="3023280"/>
            <a:ext cx="2179800" cy="169920"/>
          </a:xfrm>
          <a:prstGeom prst="leftRightArrow">
            <a:avLst>
              <a:gd name="adj1" fmla="val 50000"/>
              <a:gd name="adj2" fmla="val 255380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 rot="8824200">
            <a:off x="1308240" y="304416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rot="7725600">
            <a:off x="1295640" y="305712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rot="6505200">
            <a:off x="1041120" y="3057480"/>
            <a:ext cx="1447920" cy="152280"/>
          </a:xfrm>
          <a:prstGeom prst="leftRightArrow">
            <a:avLst>
              <a:gd name="adj1" fmla="val 50000"/>
              <a:gd name="adj2" fmla="val 189285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338120" y="171432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23232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5094800">
            <a:off x="1245240" y="1700640"/>
            <a:ext cx="1066680" cy="172800"/>
          </a:xfrm>
          <a:prstGeom prst="leftRightArrow">
            <a:avLst>
              <a:gd name="adj1" fmla="val 50000"/>
              <a:gd name="adj2" fmla="val 122886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3874400">
            <a:off x="1325520" y="1713960"/>
            <a:ext cx="914400" cy="152640"/>
          </a:xfrm>
          <a:prstGeom prst="leftRightArrow">
            <a:avLst>
              <a:gd name="adj1" fmla="val 50000"/>
              <a:gd name="adj2" fmla="val 119257"/>
            </a:avLst>
          </a:prstGeom>
          <a:solidFill>
            <a:srgbClr val="23232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2775800">
            <a:off x="1325520" y="171396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2303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1767200">
            <a:off x="1325160" y="171396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23232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25520" y="171468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23232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 rot="9832800">
            <a:off x="685080" y="1716840"/>
            <a:ext cx="2089080" cy="165240"/>
          </a:xfrm>
          <a:prstGeom prst="leftRightArrow">
            <a:avLst>
              <a:gd name="adj1" fmla="val 50000"/>
              <a:gd name="adj2" fmla="val 251683"/>
            </a:avLst>
          </a:prstGeom>
          <a:solidFill>
            <a:srgbClr val="fff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 rot="8824200">
            <a:off x="1338120" y="1700640"/>
            <a:ext cx="914400" cy="152640"/>
          </a:xfrm>
          <a:prstGeom prst="leftRightArrow">
            <a:avLst>
              <a:gd name="adj1" fmla="val 50000"/>
              <a:gd name="adj2" fmla="val 119257"/>
            </a:avLst>
          </a:prstGeom>
          <a:solidFill>
            <a:srgbClr val="23232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rot="7725600">
            <a:off x="1325520" y="1714320"/>
            <a:ext cx="914400" cy="152280"/>
          </a:xfrm>
          <a:prstGeom prst="leftRightArrow">
            <a:avLst>
              <a:gd name="adj1" fmla="val 50000"/>
              <a:gd name="adj2" fmla="val 119538"/>
            </a:avLst>
          </a:prstGeom>
          <a:solidFill>
            <a:srgbClr val="4506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6505200">
            <a:off x="1071360" y="1714320"/>
            <a:ext cx="1447920" cy="152280"/>
          </a:xfrm>
          <a:prstGeom prst="leftRightArrow">
            <a:avLst>
              <a:gd name="adj1" fmla="val 50000"/>
              <a:gd name="adj2" fmla="val 189285"/>
            </a:avLst>
          </a:prstGeom>
          <a:solidFill>
            <a:srgbClr val="ff190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 rot="9832800">
            <a:off x="729720" y="4317480"/>
            <a:ext cx="2089440" cy="165240"/>
          </a:xfrm>
          <a:prstGeom prst="leftRightArrow">
            <a:avLst>
              <a:gd name="adj1" fmla="val 50000"/>
              <a:gd name="adj2" fmla="val 251727"/>
            </a:avLst>
          </a:prstGeom>
          <a:solidFill>
            <a:srgbClr val="fff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rot="6505200">
            <a:off x="1071360" y="4314600"/>
            <a:ext cx="1447920" cy="152280"/>
          </a:xfrm>
          <a:prstGeom prst="leftRightArrow">
            <a:avLst>
              <a:gd name="adj1" fmla="val 50000"/>
              <a:gd name="adj2" fmla="val 189285"/>
            </a:avLst>
          </a:prstGeom>
          <a:solidFill>
            <a:srgbClr val="ff190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 rot="8259600">
            <a:off x="1066680" y="5307840"/>
            <a:ext cx="1384560" cy="143280"/>
          </a:xfrm>
          <a:prstGeom prst="leftRightArrow">
            <a:avLst>
              <a:gd name="adj1" fmla="val 50000"/>
              <a:gd name="adj2" fmla="val 192371"/>
            </a:avLst>
          </a:prstGeom>
          <a:solidFill>
            <a:srgbClr val="ffa52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4EA3-E70E-4F61-8511-77104A7E2C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373120" y="90360"/>
            <a:ext cx="456228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Example: DTI vs. DSI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477120" cy="4681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219320" y="5791320"/>
            <a:ext cx="693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 Wedeen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t al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pping complex tissue architecture with diffusion spectrum magnetic resonance imaging, MRM 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1086-6E5F-4AC0-ADD9-F20AA8FEF0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932200" y="90360"/>
            <a:ext cx="348624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ata acquisition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962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emember: A tensor has six unique paramete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238880" y="1523880"/>
            <a:ext cx="1171800" cy="137160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pic>
        <p:nvPicPr>
          <p:cNvPr id="250" name="" descr=""/>
          <p:cNvPicPr/>
          <p:nvPr/>
        </p:nvPicPr>
        <p:blipFill>
          <a:blip r:embed="rId2"/>
          <a:srcRect l="383" t="1248" r="2812" b="921"/>
          <a:stretch/>
        </p:blipFill>
        <p:spPr>
          <a:xfrm>
            <a:off x="6149880" y="1752480"/>
            <a:ext cx="1160640" cy="137160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3"/>
          <a:srcRect l="758" t="646" r="536" b="921"/>
          <a:stretch/>
        </p:blipFill>
        <p:spPr>
          <a:xfrm>
            <a:off x="5045040" y="1981080"/>
            <a:ext cx="1171440" cy="137160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7242120" y="3352680"/>
            <a:ext cx="1168560" cy="137160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pic>
        <p:nvPicPr>
          <p:cNvPr id="253" name="" descr=""/>
          <p:cNvPicPr/>
          <p:nvPr/>
        </p:nvPicPr>
        <p:blipFill>
          <a:blip r:embed="rId5"/>
          <a:srcRect l="1451" t="646" r="383" b="0"/>
          <a:stretch/>
        </p:blipFill>
        <p:spPr>
          <a:xfrm>
            <a:off x="6149880" y="3581280"/>
            <a:ext cx="1157400" cy="137160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5029200" y="3809880"/>
            <a:ext cx="1171440" cy="137160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sp>
        <p:nvSpPr>
          <p:cNvPr id="255" name=""/>
          <p:cNvSpPr/>
          <p:nvPr/>
        </p:nvSpPr>
        <p:spPr>
          <a:xfrm>
            <a:off x="7599960" y="10666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77320" y="15238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3280" y="12952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80880" y="28954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37880" y="31240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77320" y="335268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09880"/>
            <a:ext cx="4190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o estimate six parameters at each voxel, must acquire at least six diffusion-weighted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HARDI models have more parameters per voxel, so more images must be ac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425960" y="2209680"/>
            <a:ext cx="2536200" cy="1364400"/>
            <a:chOff x="1425960" y="2209680"/>
            <a:chExt cx="2536200" cy="1364400"/>
          </a:xfrm>
        </p:grpSpPr>
        <p:sp>
          <p:nvSpPr>
            <p:cNvPr id="263" name=""/>
            <p:cNvSpPr/>
            <p:nvPr/>
          </p:nvSpPr>
          <p:spPr>
            <a:xfrm>
              <a:off x="2351160" y="2231640"/>
              <a:ext cx="139680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1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2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3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2</a:t>
              </a:r>
              <a:r>
                <a:rPr b="0" i="1" lang="en-US" sz="2400" spc="-1" strike="noStrike">
                  <a:solidFill>
                    <a:srgbClr val="ff8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22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3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3</a:t>
              </a:r>
              <a:r>
                <a:rPr b="0" i="1" lang="en-US" sz="2400" spc="-1" strike="noStrike">
                  <a:solidFill>
                    <a:srgbClr val="ff8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25960" y="2589120"/>
              <a:ext cx="64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00"/>
                  </a:solidFill>
                  <a:latin typeface="Georgia"/>
                </a:rPr>
                <a:t>D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44880" y="2209680"/>
              <a:ext cx="164880" cy="1295280"/>
            </a:xfrm>
            <a:custGeom>
              <a:avLst/>
              <a:gdLst>
                <a:gd name="textAreaLeft" fmla="*/ 48240 w 164880"/>
                <a:gd name="textAreaRight" fmla="*/ 165240 w 164880"/>
                <a:gd name="textAreaTop" fmla="*/ 2520 h 1295280"/>
                <a:gd name="textAreaBottom" fmla="*/ 1292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43"/>
                    <a:pt x="0" y="86"/>
                  </a:cubicBezTo>
                  <a:lnTo>
                    <a:pt x="0" y="21514"/>
                  </a:lnTo>
                  <a:cubicBezTo>
                    <a:pt x="0" y="21557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0800000">
              <a:off x="3796920" y="2209680"/>
              <a:ext cx="165240" cy="1295280"/>
            </a:xfrm>
            <a:custGeom>
              <a:avLst/>
              <a:gdLst>
                <a:gd name="textAreaLeft" fmla="*/ 48600 w 165240"/>
                <a:gd name="textAreaRight" fmla="*/ 165600 w 165240"/>
                <a:gd name="textAreaTop" fmla="*/ 2520 h 1295280"/>
                <a:gd name="textAreaBottom" fmla="*/ 1292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43"/>
                    <a:pt x="0" y="86"/>
                  </a:cubicBezTo>
                  <a:lnTo>
                    <a:pt x="0" y="21514"/>
                  </a:lnTo>
                  <a:cubicBezTo>
                    <a:pt x="0" y="21557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5839-28A3-4CA9-A53A-5E6B25D9F4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36560" y="90360"/>
            <a:ext cx="603576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Choice 1: Gradient direction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rue diffusion direction || Applied gradient direction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aximum attenuation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rue diffusion direc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Applied gradient direction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No attenuation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o capture all diffusion directions well, gradient directions should cover 3D space uniforml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038480" y="1828800"/>
            <a:ext cx="1295640" cy="533520"/>
          </a:xfrm>
          <a:prstGeom prst="line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038480" y="2133360"/>
            <a:ext cx="609840" cy="2286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46920" y="1957320"/>
            <a:ext cx="46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Georgia"/>
              </a:rPr>
              <a:t>Diffusion-encoding gradient </a:t>
            </a:r>
            <a:r>
              <a:rPr b="1" i="1" lang="en-US" sz="2000" spc="-1" strike="noStrike">
                <a:solidFill>
                  <a:srgbClr val="ff9999"/>
                </a:solidFill>
                <a:latin typeface="Georgia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93680" y="225432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splacement det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038480" y="3368520"/>
            <a:ext cx="1295640" cy="533520"/>
          </a:xfrm>
          <a:prstGeom prst="line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3835440" y="3406680"/>
            <a:ext cx="203040" cy="4953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46920" y="3497400"/>
            <a:ext cx="46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Georgia"/>
              </a:rPr>
              <a:t>Diffusion-encoding gradient </a:t>
            </a:r>
            <a:r>
              <a:rPr b="1" i="1" lang="en-US" sz="2000" spc="-1" strike="noStrike">
                <a:solidFill>
                  <a:srgbClr val="ff9999"/>
                </a:solidFill>
                <a:latin typeface="Georgia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06920" y="3794040"/>
            <a:ext cx="39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splacement not det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083120" y="5273640"/>
            <a:ext cx="1295280" cy="533520"/>
          </a:xfrm>
          <a:prstGeom prst="line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083120" y="5645160"/>
            <a:ext cx="336600" cy="1620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91200" y="5402160"/>
            <a:ext cx="46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Georgia"/>
              </a:rPr>
              <a:t>Diffusion-encoding gradient </a:t>
            </a:r>
            <a:r>
              <a:rPr b="1" i="1" lang="en-US" sz="2000" spc="-1" strike="noStrike">
                <a:solidFill>
                  <a:srgbClr val="ff9999"/>
                </a:solidFill>
                <a:latin typeface="Georgia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66600" y="5699160"/>
            <a:ext cx="44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splacement partly det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114800" y="5264280"/>
            <a:ext cx="177840" cy="5587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67080" y="526428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C9F6-9089-45D9-AC30-65EE1778A9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92120" y="90360"/>
            <a:ext cx="47257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How many directions?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cquiring data with more gradient directions leads to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Georg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ore reliable estimation of diffusion measure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ncreased imaging tim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Subject discomfort, more susceptible to artifacts due to motion, respiration, etc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TI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 directions is the minimum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Usually a few 10’s of direction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-280080">
              <a:spcBef>
                <a:spcPts val="3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minishing returns after a certain number 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[Jones, 2004]</a:t>
            </a: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HARDI/DSI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Usually a few 100’s of direction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65A1-5478-494B-9EDA-83A3CFD5BD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79240" y="90360"/>
            <a:ext cx="455148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Choice 2: The b-value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b-value depends on acquisition parameters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9999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809e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ffff33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809e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/3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gyromagnetic ratio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99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the strength of the diffusion-encoding gradient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9e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9eff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duration of each diffusion-encoding pulse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33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33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interval b/w diffusion-encoding pulse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5664240"/>
            <a:ext cx="6629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95280" y="4902120"/>
            <a:ext cx="228600" cy="762120"/>
          </a:xfrm>
          <a:prstGeom prst="rect">
            <a:avLst/>
          </a:prstGeom>
          <a:solidFill>
            <a:srgbClr val="909082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4902120"/>
            <a:ext cx="228600" cy="762120"/>
          </a:xfrm>
          <a:prstGeom prst="rect">
            <a:avLst/>
          </a:prstGeom>
          <a:solidFill>
            <a:srgbClr val="909082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019920" y="4902120"/>
            <a:ext cx="1371600" cy="762120"/>
            <a:chOff x="6019920" y="4902120"/>
            <a:chExt cx="1371600" cy="762120"/>
          </a:xfrm>
        </p:grpSpPr>
        <p:sp>
          <p:nvSpPr>
            <p:cNvPr id="291" name=""/>
            <p:cNvSpPr/>
            <p:nvPr/>
          </p:nvSpPr>
          <p:spPr>
            <a:xfrm>
              <a:off x="601992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220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2448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7712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2940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168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3432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8660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3888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91520" y="490212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117800" y="44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90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85800" y="446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180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28800" y="4902120"/>
            <a:ext cx="1523880" cy="762120"/>
          </a:xfrm>
          <a:prstGeom prst="rect">
            <a:avLst/>
          </a:prstGeom>
          <a:solidFill>
            <a:srgbClr val="ff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191120" y="4902120"/>
            <a:ext cx="1523880" cy="762120"/>
          </a:xfrm>
          <a:prstGeom prst="rect">
            <a:avLst/>
          </a:prstGeom>
          <a:solidFill>
            <a:srgbClr val="ff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63600" y="44942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cqui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32520" y="50418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99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33560" y="5638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33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22080" y="454032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9eff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467160" y="4876560"/>
            <a:ext cx="0" cy="228600"/>
          </a:xfrm>
          <a:prstGeom prst="line">
            <a:avLst/>
          </a:prstGeom>
          <a:ln w="255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467160" y="5409720"/>
            <a:ext cx="0" cy="228600"/>
          </a:xfrm>
          <a:prstGeom prst="line">
            <a:avLst/>
          </a:prstGeom>
          <a:ln w="25560">
            <a:solidFill>
              <a:srgbClr val="ff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755800" y="4724280"/>
            <a:ext cx="609840" cy="0"/>
          </a:xfrm>
          <a:prstGeom prst="line">
            <a:avLst/>
          </a:prstGeom>
          <a:ln w="25560">
            <a:solidFill>
              <a:srgbClr val="809e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790640" y="4724280"/>
            <a:ext cx="609840" cy="0"/>
          </a:xfrm>
          <a:prstGeom prst="line">
            <a:avLst/>
          </a:prstGeom>
          <a:ln w="25560">
            <a:solidFill>
              <a:srgbClr val="809e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13000" y="5867280"/>
            <a:ext cx="9907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28800" y="5867280"/>
            <a:ext cx="990720" cy="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4460-F6E8-4355-9DF5-4B37804050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9800" y="74520"/>
            <a:ext cx="468468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White-matter imaging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2425" b="0"/>
          <a:stretch/>
        </p:blipFill>
        <p:spPr>
          <a:xfrm>
            <a:off x="5464080" y="1206360"/>
            <a:ext cx="3070440" cy="4724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7280" y="1143000"/>
            <a:ext cx="2667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xons measure ~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m in width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2120" indent="-31212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y group together in bundles that traverse the white matter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2120" indent="-31212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e cannot image individual axons but we can image bundles with diffusion MRI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2120" indent="-31212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Useful in studying neurodegenerative diseases, stroke, aging, development…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"/>
          <p:cNvSpPr/>
          <p:nvPr/>
        </p:nvSpPr>
        <p:spPr>
          <a:xfrm>
            <a:off x="5397480" y="5999040"/>
            <a:ext cx="29718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eorgia"/>
              </a:rPr>
              <a:t>From </a:t>
            </a:r>
            <a:r>
              <a:rPr b="0" i="1" lang="en-US" sz="900" spc="-1" strike="noStrike">
                <a:solidFill>
                  <a:srgbClr val="ffffff"/>
                </a:solidFill>
                <a:latin typeface="Georgia"/>
              </a:rPr>
              <a:t>Gray's Anatomy: IX. Neurology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48212" t="0" r="0" b="1611"/>
          <a:stretch/>
        </p:blipFill>
        <p:spPr>
          <a:xfrm>
            <a:off x="609480" y="1217520"/>
            <a:ext cx="2046240" cy="4649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520" y="5940360"/>
            <a:ext cx="2057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eorgia"/>
              </a:rPr>
              <a:t>From the National Institute on Ag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DFB0-538A-4916-8F6F-5F5CAF651D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665080" y="90360"/>
            <a:ext cx="397836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How high b-value?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ncreasing the b-value leads to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Georg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ncreased contrast b/w areas of higher and lower diffusivity in principle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ecreased signal-to-noise ratio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Less reliable estimation of diffusion measures in practice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TI: b ~ 1000 sec/m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HARDI/DSI: b ~ 10,000 sec/m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ata can be acquired at multiple b-values for trade-off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epeat acquisition and average to increase signal-to-noise ratio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2169-C731-4610-9363-64ADBF90B3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641320" y="90360"/>
            <a:ext cx="407988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Looking at the data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18" name=""/>
          <p:cNvSpPr/>
          <p:nvPr/>
        </p:nvSpPr>
        <p:spPr>
          <a:xfrm>
            <a:off x="584280" y="1066680"/>
            <a:ext cx="802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72392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 diffusion data set consists of: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 set of non-diffusion-weighted a.k.a “baseline” a.k.a. “low-b” images (b-value = 0)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 set of diffusion-weighted (DW) images acquired with different gradient directions g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eorgi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, g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eorg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, … and b-value &gt;0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diffusion-weighted images have lower intensity value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198520" y="3416400"/>
            <a:ext cx="4469040" cy="26064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07040" y="3492360"/>
            <a:ext cx="1157760" cy="703800"/>
          </a:xfrm>
          <a:prstGeom prst="rect">
            <a:avLst/>
          </a:prstGeom>
          <a:noFill/>
          <a:ln w="19080">
            <a:solidFill>
              <a:srgbClr val="fffb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Base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im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93080" y="3492360"/>
            <a:ext cx="1371600" cy="1008720"/>
          </a:xfrm>
          <a:prstGeom prst="rect">
            <a:avLst/>
          </a:prstGeom>
          <a:noFill/>
          <a:ln w="19080">
            <a:solidFill>
              <a:srgbClr val="fffb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b6a"/>
                </a:solidFill>
                <a:latin typeface="Arial"/>
              </a:rPr>
              <a:t>Diffusion-weigh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b6a"/>
                </a:solidFill>
                <a:latin typeface="Arial"/>
              </a:rPr>
              <a:t>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854360" y="3889440"/>
            <a:ext cx="457200" cy="0"/>
          </a:xfrm>
          <a:prstGeom prst="line">
            <a:avLst/>
          </a:prstGeom>
          <a:ln w="38160">
            <a:solidFill>
              <a:srgbClr val="fffb6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553080" y="3898800"/>
            <a:ext cx="533520" cy="0"/>
          </a:xfrm>
          <a:prstGeom prst="line">
            <a:avLst/>
          </a:prstGeom>
          <a:ln w="38160">
            <a:solidFill>
              <a:srgbClr val="fffb6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48320" y="3124080"/>
            <a:ext cx="838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2</a:t>
            </a: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,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78360" y="3124080"/>
            <a:ext cx="838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3</a:t>
            </a: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,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505320" y="3137040"/>
            <a:ext cx="838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1</a:t>
            </a: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,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14600" y="3137040"/>
            <a:ext cx="838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=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5973840"/>
            <a:ext cx="838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4</a:t>
            </a: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,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48320" y="5981760"/>
            <a:ext cx="838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5</a:t>
            </a: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,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91320" y="5981760"/>
            <a:ext cx="838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b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6</a:t>
            </a: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,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1AEA-5312-45D7-9729-E828F6663F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0200" y="90360"/>
            <a:ext cx="719604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stortions: Field inhomogeneitie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33" name=""/>
          <p:cNvSpPr/>
          <p:nvPr/>
        </p:nvSpPr>
        <p:spPr>
          <a:xfrm>
            <a:off x="584280" y="1066680"/>
            <a:ext cx="802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903" t="2176" r="903" b="1088"/>
          <a:stretch/>
        </p:blipFill>
        <p:spPr>
          <a:xfrm>
            <a:off x="5745240" y="1812960"/>
            <a:ext cx="2763720" cy="33908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85800" y="1587600"/>
            <a:ext cx="5029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au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Georgia"/>
              </a:rPr>
              <a:t>Scanner-dependent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(imperfections of main magnetic fiel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Georgia"/>
              </a:rPr>
              <a:t>Subject-dependent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(changes in magnetic susceptibility in tissue/air interfac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esult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gnal loss in interface ar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Geometric distortions (warping) of the entire im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783400" y="1282680"/>
            <a:ext cx="1857240" cy="398880"/>
          </a:xfrm>
          <a:prstGeom prst="rect">
            <a:avLst/>
          </a:prstGeom>
          <a:noFill/>
          <a:ln w="19080">
            <a:solidFill>
              <a:srgbClr val="fffb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b6a"/>
                </a:solidFill>
                <a:latin typeface="Georgia"/>
              </a:rPr>
              <a:t>Signal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94640" y="1685880"/>
            <a:ext cx="0" cy="609480"/>
          </a:xfrm>
          <a:prstGeom prst="line">
            <a:avLst/>
          </a:prstGeom>
          <a:ln w="38160">
            <a:solidFill>
              <a:srgbClr val="fffb6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C3FA-3170-44D6-9C18-E7E79212A7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883880" y="90360"/>
            <a:ext cx="555948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stortions: Eddy current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39" name=""/>
          <p:cNvSpPr/>
          <p:nvPr/>
        </p:nvSpPr>
        <p:spPr>
          <a:xfrm>
            <a:off x="584280" y="1066680"/>
            <a:ext cx="802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1219320"/>
            <a:ext cx="46479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ause: Fast switching of diffusion-encoding gradients induces eddy currents in conducting compon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ddy currents lead to residual gradients that shift the diffusion grad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shifts are </a:t>
            </a:r>
            <a:r>
              <a:rPr b="0" lang="en-US" sz="2000" spc="-1" strike="noStrike">
                <a:solidFill>
                  <a:srgbClr val="ffff66"/>
                </a:solidFill>
                <a:latin typeface="Georgia"/>
              </a:rPr>
              <a:t>direction-dependent,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i.e.,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erent for each DW im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esult: Geometric distor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5100480" y="1357200"/>
            <a:ext cx="3434040" cy="33800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5638680" y="4724280"/>
            <a:ext cx="312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 Le Bihan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t al.,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tifacts and pitfalls in diffusion MRI, JMRI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CC33-B010-4C32-B9A3-B34D8A1837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646000" y="90360"/>
            <a:ext cx="40165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ata analysis step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1066680"/>
            <a:ext cx="5499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Pre-process images to reduce distor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Either register distorted DW images to an undistorted (non-DW) imag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Or use information on distortions from separate scans (field map, residual gradients)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t a diffusion model at every vo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DTI, DSI, Q-ball,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o tractography to reconstruct pathways and/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ompute measures of anisotropy/diffusivity and compare them between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Voxel-based, ROI-based, or tract-based statistical analy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rcRect l="11680" t="13621" r="26091" b="6820"/>
          <a:stretch/>
        </p:blipFill>
        <p:spPr>
          <a:xfrm>
            <a:off x="6197760" y="2602080"/>
            <a:ext cx="2181240" cy="1495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6202440" y="1195560"/>
            <a:ext cx="2174760" cy="1268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47" name="" descr=""/>
          <p:cNvPicPr/>
          <p:nvPr/>
        </p:nvPicPr>
        <p:blipFill>
          <a:blip r:embed="rId3"/>
          <a:srcRect l="14626" t="0" r="14074" b="0"/>
          <a:stretch/>
        </p:blipFill>
        <p:spPr>
          <a:xfrm>
            <a:off x="6203880" y="4257720"/>
            <a:ext cx="2178000" cy="1914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5C4F-B7FF-4BA1-87A3-24F88D3B7E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28320" y="90360"/>
            <a:ext cx="50533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ffusion in brain tissue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70102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Gray matter: Diffusion is unrestricted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isotropic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White matter: Diffusion is restricted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anisotropic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14300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ifferentiate between tissues based on the diffusion (random motion) of water molecules within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43800" y="2743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746840" y="2298240"/>
            <a:ext cx="266760" cy="4064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23160" y="2844720"/>
            <a:ext cx="53352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946920" y="2844720"/>
            <a:ext cx="53352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7277040" y="3009960"/>
            <a:ext cx="279360" cy="3808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85000" y="2983680"/>
            <a:ext cx="304920" cy="3812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7264080" y="2324160"/>
            <a:ext cx="304920" cy="3808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5322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969160" y="5221080"/>
            <a:ext cx="482400" cy="1522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94360" y="5437080"/>
            <a:ext cx="48276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118120" y="5360760"/>
            <a:ext cx="533520" cy="507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117760" y="5487840"/>
            <a:ext cx="546120" cy="511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3875040"/>
            <a:ext cx="2514600" cy="1409760"/>
          </a:xfrm>
          <a:custGeom>
            <a:avLst/>
            <a:gdLst/>
            <a:ahLst/>
            <a:rect l="l" t="t" r="r" b="b"/>
            <a:pathLst>
              <a:path w="1392" h="744">
                <a:moveTo>
                  <a:pt x="0" y="720"/>
                </a:moveTo>
                <a:cubicBezTo>
                  <a:pt x="316" y="732"/>
                  <a:pt x="632" y="744"/>
                  <a:pt x="864" y="624"/>
                </a:cubicBezTo>
                <a:cubicBezTo>
                  <a:pt x="1096" y="504"/>
                  <a:pt x="1304" y="104"/>
                  <a:pt x="139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4332240"/>
            <a:ext cx="2590920" cy="1371600"/>
          </a:xfrm>
          <a:custGeom>
            <a:avLst/>
            <a:gdLst/>
            <a:ahLst/>
            <a:rect l="l" t="t" r="r" b="b"/>
            <a:pathLst>
              <a:path w="1392" h="744">
                <a:moveTo>
                  <a:pt x="0" y="720"/>
                </a:moveTo>
                <a:cubicBezTo>
                  <a:pt x="316" y="732"/>
                  <a:pt x="632" y="744"/>
                  <a:pt x="864" y="624"/>
                </a:cubicBezTo>
                <a:cubicBezTo>
                  <a:pt x="1096" y="504"/>
                  <a:pt x="1304" y="104"/>
                  <a:pt x="139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4760" y="452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289640" y="4091040"/>
            <a:ext cx="228600" cy="3808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353360" y="4218120"/>
            <a:ext cx="304920" cy="3045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806880" y="4726080"/>
            <a:ext cx="291960" cy="3045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97680" y="4788720"/>
            <a:ext cx="177840" cy="343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4637160"/>
            <a:ext cx="3429000" cy="1306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470480" y="5272200"/>
            <a:ext cx="75960" cy="759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559400" y="5246280"/>
            <a:ext cx="317520" cy="25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33840" y="5335560"/>
            <a:ext cx="571680" cy="30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B07A-2FA9-43B9-A644-BC944E83AB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03200" y="90360"/>
            <a:ext cx="31021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ffusion MRI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agnetic resonance imaging can provide “diffusion encoding”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98440" indent="-2984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agnetic field strength is varied by gradients in different direction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98440" indent="-2984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mage intensity is attenuated depending on water diffusion in each direction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98440" indent="-2984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ompare with baseline images to infer on diffusion proces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2085" t="0" r="4816" b="0"/>
          <a:stretch/>
        </p:blipFill>
        <p:spPr>
          <a:xfrm>
            <a:off x="5181480" y="4923000"/>
            <a:ext cx="1096920" cy="132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165640" y="1338120"/>
            <a:ext cx="1047960" cy="127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rcRect l="2165" t="0" r="0" b="0"/>
          <a:stretch/>
        </p:blipFill>
        <p:spPr>
          <a:xfrm>
            <a:off x="6172200" y="1719360"/>
            <a:ext cx="1038240" cy="127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164360" y="2143080"/>
            <a:ext cx="1065240" cy="127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5"/>
          <a:srcRect l="3744" t="0" r="0" b="0"/>
          <a:stretch/>
        </p:blipFill>
        <p:spPr>
          <a:xfrm>
            <a:off x="5165640" y="2701800"/>
            <a:ext cx="1063800" cy="127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6"/>
          <a:srcRect l="0" t="0" r="2334" b="0"/>
          <a:stretch/>
        </p:blipFill>
        <p:spPr>
          <a:xfrm>
            <a:off x="6138720" y="3063960"/>
            <a:ext cx="1063800" cy="127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7"/>
          <a:srcRect l="2967" t="0" r="2967" b="0"/>
          <a:stretch/>
        </p:blipFill>
        <p:spPr>
          <a:xfrm>
            <a:off x="7170840" y="3506760"/>
            <a:ext cx="1058760" cy="127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6732720" y="5486400"/>
            <a:ext cx="13716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No diffusion enco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838080"/>
            <a:ext cx="152424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Diffusion encoding in direction 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291360" y="5680080"/>
            <a:ext cx="457200" cy="144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154620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7229520" y="1744560"/>
            <a:ext cx="357120" cy="16056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05920" y="175248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7981920" y="1925640"/>
            <a:ext cx="357120" cy="16020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48040" y="4086360"/>
            <a:ext cx="509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976640" y="4009680"/>
            <a:ext cx="357480" cy="16020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10160" y="4335480"/>
            <a:ext cx="509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738760" y="4259160"/>
            <a:ext cx="357120" cy="16056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76840" y="4572000"/>
            <a:ext cx="509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600" spc="-1" strike="noStrike" baseline="-25000">
                <a:solidFill>
                  <a:srgbClr val="ff9999"/>
                </a:solidFill>
                <a:latin typeface="Georgia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805440" y="4495680"/>
            <a:ext cx="357480" cy="16056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248520" y="1270080"/>
            <a:ext cx="357120" cy="16020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089-5302-42BB-B2AF-DEDD9AD90C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54360" y="90360"/>
            <a:ext cx="56052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How to represent diffusion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9625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t every voxel we want to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s this in white mat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f yes, what pathway(s) is it part of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What is the orientation of diffus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What is the magnitude of diffus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 grayscale image cannot capture all thi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15522" t="0" r="15167" b="0"/>
          <a:stretch/>
        </p:blipFill>
        <p:spPr>
          <a:xfrm>
            <a:off x="1117440" y="1143000"/>
            <a:ext cx="3124440" cy="2743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4438" t="13621" r="26091" b="6820"/>
          <a:stretch/>
        </p:blipFill>
        <p:spPr>
          <a:xfrm>
            <a:off x="4610160" y="1346040"/>
            <a:ext cx="2435040" cy="14954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803240" y="1905120"/>
            <a:ext cx="762120" cy="4953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565360" y="1371600"/>
            <a:ext cx="2057400" cy="533520"/>
          </a:xfrm>
          <a:prstGeom prst="line">
            <a:avLst/>
          </a:prstGeom>
          <a:ln cap="rnd" w="3816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65360" y="2387520"/>
            <a:ext cx="2057400" cy="432000"/>
          </a:xfrm>
          <a:prstGeom prst="line">
            <a:avLst/>
          </a:prstGeom>
          <a:ln cap="rnd" w="3816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21440" y="2374920"/>
            <a:ext cx="114120" cy="1141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222960" y="2145960"/>
            <a:ext cx="1143000" cy="228600"/>
          </a:xfrm>
          <a:prstGeom prst="line">
            <a:avLst/>
          </a:prstGeom>
          <a:ln cap="rnd" w="3816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61120" y="2502000"/>
            <a:ext cx="1130400" cy="203040"/>
          </a:xfrm>
          <a:prstGeom prst="line">
            <a:avLst/>
          </a:prstGeom>
          <a:ln cap="rnd" w="3816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2120760"/>
            <a:ext cx="6094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42280" y="2311560"/>
            <a:ext cx="520560" cy="241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5039-3685-4E36-A470-F9337EFAFC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60560" y="90360"/>
            <a:ext cx="17874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Tensor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One way to express the notion of direction is a 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tensor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 tensor is a 3x3 symmetric, positive-definite matrix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419720"/>
            <a:ext cx="7848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is symmetric 3x3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It has 6 uniqu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5480" indent="-19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5480" indent="-19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uffices to estimate the upper (lower) triangular 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5480" indent="-19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852920" y="2590920"/>
            <a:ext cx="2536200" cy="1364400"/>
            <a:chOff x="1852920" y="2590920"/>
            <a:chExt cx="2536200" cy="1364400"/>
          </a:xfrm>
        </p:grpSpPr>
        <p:sp>
          <p:nvSpPr>
            <p:cNvPr id="120" name=""/>
            <p:cNvSpPr/>
            <p:nvPr/>
          </p:nvSpPr>
          <p:spPr>
            <a:xfrm>
              <a:off x="2778120" y="2612880"/>
              <a:ext cx="139680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1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2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3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2</a:t>
              </a:r>
              <a:r>
                <a:rPr b="0" i="1" lang="en-US" sz="2400" spc="-1" strike="noStrike">
                  <a:solidFill>
                    <a:srgbClr val="ff8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22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3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d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3</a:t>
              </a:r>
              <a:r>
                <a:rPr b="0" i="1" lang="en-US" sz="2400" spc="-1" strike="noStrike">
                  <a:solidFill>
                    <a:srgbClr val="ff8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52920" y="2970360"/>
              <a:ext cx="64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00"/>
                  </a:solidFill>
                  <a:latin typeface="Georgia"/>
                </a:rPr>
                <a:t>D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71840" y="2590920"/>
              <a:ext cx="164880" cy="1295280"/>
            </a:xfrm>
            <a:custGeom>
              <a:avLst/>
              <a:gdLst>
                <a:gd name="textAreaLeft" fmla="*/ 48240 w 164880"/>
                <a:gd name="textAreaRight" fmla="*/ 165240 w 164880"/>
                <a:gd name="textAreaTop" fmla="*/ 2520 h 1295280"/>
                <a:gd name="textAreaBottom" fmla="*/ 1292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43"/>
                    <a:pt x="0" y="86"/>
                  </a:cubicBezTo>
                  <a:lnTo>
                    <a:pt x="0" y="21514"/>
                  </a:lnTo>
                  <a:cubicBezTo>
                    <a:pt x="0" y="21557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4223880" y="2590920"/>
              <a:ext cx="165240" cy="1295280"/>
            </a:xfrm>
            <a:custGeom>
              <a:avLst/>
              <a:gdLst>
                <a:gd name="textAreaLeft" fmla="*/ 48600 w 165240"/>
                <a:gd name="textAreaRight" fmla="*/ 165600 w 165240"/>
                <a:gd name="textAreaTop" fmla="*/ 2520 h 1295280"/>
                <a:gd name="textAreaBottom" fmla="*/ 1292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43"/>
                    <a:pt x="0" y="86"/>
                  </a:cubicBezTo>
                  <a:lnTo>
                    <a:pt x="0" y="21514"/>
                  </a:lnTo>
                  <a:cubicBezTo>
                    <a:pt x="0" y="21557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85DA-2B98-4567-8DFE-5536A163C1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429000" y="2743200"/>
            <a:ext cx="2209680" cy="1333440"/>
          </a:xfrm>
          <a:prstGeom prst="ellipse">
            <a:avLst/>
          </a:prstGeom>
          <a:gradFill rotWithShape="0">
            <a:gsLst>
              <a:gs pos="0">
                <a:srgbClr val="808080">
                  <a:alpha val="60392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14400" y="90360"/>
            <a:ext cx="568008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Eigenvalues &amp; eigenvector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matrix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is positive-defini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t has 3 real, positive eigenvalues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&gt; 0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t has 3 orthogonal eigenvectors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7" name=""/>
          <p:cNvSpPr/>
          <p:nvPr/>
        </p:nvSpPr>
        <p:spPr>
          <a:xfrm>
            <a:off x="1760400" y="449568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´ +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´ +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03400" y="4952880"/>
            <a:ext cx="91440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141640" y="4952880"/>
            <a:ext cx="380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8360" y="56386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igen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710760" y="4648320"/>
            <a:ext cx="1311480" cy="1342440"/>
            <a:chOff x="6710760" y="4648320"/>
            <a:chExt cx="1311480" cy="1342440"/>
          </a:xfrm>
        </p:grpSpPr>
        <p:grpSp>
          <p:nvGrpSpPr>
            <p:cNvPr id="132" name=""/>
            <p:cNvGrpSpPr/>
            <p:nvPr/>
          </p:nvGrpSpPr>
          <p:grpSpPr>
            <a:xfrm>
              <a:off x="7413480" y="4648320"/>
              <a:ext cx="608760" cy="1342440"/>
              <a:chOff x="7413480" y="4648320"/>
              <a:chExt cx="608760" cy="1342440"/>
            </a:xfrm>
          </p:grpSpPr>
          <p:sp>
            <p:nvSpPr>
              <p:cNvPr id="133" name=""/>
              <p:cNvSpPr/>
              <p:nvPr/>
            </p:nvSpPr>
            <p:spPr>
              <a:xfrm>
                <a:off x="7500960" y="4648320"/>
                <a:ext cx="519120" cy="13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r>
                  <a:rPr b="0" i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x</a:t>
                </a:r>
                <a:r>
                  <a:rPr b="0" i="1" lang="en-US" sz="2400" spc="-1" strike="noStrike">
                    <a:solidFill>
                      <a:srgbClr val="ff8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r>
                  <a:rPr b="0" i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y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r>
                  <a:rPr b="0" i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413480" y="4701960"/>
                <a:ext cx="151920" cy="1218960"/>
              </a:xfrm>
              <a:custGeom>
                <a:avLst/>
                <a:gdLst>
                  <a:gd name="textAreaLeft" fmla="*/ 44640 w 151920"/>
                  <a:gd name="textAreaRight" fmla="*/ 152280 w 151920"/>
                  <a:gd name="textAreaTop" fmla="*/ 2160 h 1218960"/>
                  <a:gd name="textAreaBottom" fmla="*/ 121680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43"/>
                      <a:pt x="0" y="86"/>
                    </a:cubicBezTo>
                    <a:lnTo>
                      <a:pt x="0" y="21514"/>
                    </a:lnTo>
                    <a:cubicBezTo>
                      <a:pt x="0" y="21557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0800000">
                <a:off x="7870320" y="4701960"/>
                <a:ext cx="151920" cy="1218960"/>
              </a:xfrm>
              <a:custGeom>
                <a:avLst/>
                <a:gdLst>
                  <a:gd name="textAreaLeft" fmla="*/ 44640 w 151920"/>
                  <a:gd name="textAreaRight" fmla="*/ 152280 w 151920"/>
                  <a:gd name="textAreaTop" fmla="*/ 2160 h 1218960"/>
                  <a:gd name="textAreaBottom" fmla="*/ 121680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43"/>
                      <a:pt x="0" y="86"/>
                    </a:cubicBezTo>
                    <a:lnTo>
                      <a:pt x="0" y="21514"/>
                    </a:lnTo>
                    <a:cubicBezTo>
                      <a:pt x="0" y="21557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6710760" y="5028840"/>
              <a:ext cx="64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065400" y="56386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igenve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70240" y="4952880"/>
            <a:ext cx="304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51120" y="49528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21240" y="3377880"/>
            <a:ext cx="0" cy="4316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21240" y="3390840"/>
            <a:ext cx="8254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165560" y="3390840"/>
            <a:ext cx="355680" cy="343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18240" y="293364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2960" y="32130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89640" y="351792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6526-18C1-48C9-A338-1A461CB6F1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3960" y="90360"/>
            <a:ext cx="48006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Physical interpretation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igenvectors express diffusion direction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igenvalues express diffusion magnitude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"/>
          <p:cNvSpPr/>
          <p:nvPr/>
        </p:nvSpPr>
        <p:spPr>
          <a:xfrm>
            <a:off x="1608120" y="2909880"/>
            <a:ext cx="2209680" cy="21718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700000" y="3912840"/>
            <a:ext cx="12600" cy="8254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0360" y="3925800"/>
            <a:ext cx="8254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103480" y="3925800"/>
            <a:ext cx="596880" cy="596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97360" y="34686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99040" y="405288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38880" y="445932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65720" y="3252960"/>
            <a:ext cx="2209680" cy="1333440"/>
          </a:xfrm>
          <a:prstGeom prst="ellipse">
            <a:avLst/>
          </a:prstGeom>
          <a:gradFill rotWithShape="0">
            <a:gsLst>
              <a:gs pos="0">
                <a:srgbClr val="808080">
                  <a:alpha val="60392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357960" y="3836880"/>
            <a:ext cx="0" cy="4320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57960" y="3849840"/>
            <a:ext cx="8254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002280" y="3849840"/>
            <a:ext cx="355680" cy="342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4960" y="339264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59680" y="367200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26360" y="3976560"/>
            <a:ext cx="7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i="1" lang="en-US" sz="2400" spc="-1" strike="noStrike" baseline="-25000">
                <a:solidFill>
                  <a:srgbClr val="ff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7040" y="2133720"/>
            <a:ext cx="322884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sotropic diffus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84920" y="2168640"/>
            <a:ext cx="399060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nisotropic diffus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&gt;&gt;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521496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One such ellipsoid at each voxel: Likelihood of water molecule displacements at that vo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0CA1-E27E-4CD6-8154-075882C7F7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10710" t="431" r="17388" b="875"/>
          <a:stretch/>
        </p:blipFill>
        <p:spPr>
          <a:xfrm>
            <a:off x="4863960" y="2209680"/>
            <a:ext cx="3111480" cy="311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24160" y="90360"/>
            <a:ext cx="64627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ffusion tensor imaging (DTI)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rcRect l="0" t="0" r="0" b="3161"/>
          <a:stretch/>
        </p:blipFill>
        <p:spPr>
          <a:xfrm>
            <a:off x="1066680" y="2209680"/>
            <a:ext cx="3113280" cy="311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4775040" y="5392800"/>
            <a:ext cx="3276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Direction of eigenvector corresponding to greatest eigen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1066680"/>
            <a:ext cx="36576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mag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n </a:t>
            </a:r>
            <a:r>
              <a:rPr b="0" lang="en-US" sz="2000" spc="-1" strike="noStrike">
                <a:solidFill>
                  <a:srgbClr val="cc99ff"/>
                </a:solidFill>
                <a:latin typeface="Georgia"/>
              </a:rPr>
              <a:t>intensity valu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t each vo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1066680"/>
            <a:ext cx="327636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ensor map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tens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t each vo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209320" y="1828800"/>
            <a:ext cx="368280" cy="1752480"/>
          </a:xfrm>
          <a:prstGeom prst="line">
            <a:avLst/>
          </a:prstGeom>
          <a:ln w="38160">
            <a:solidFill>
              <a:srgbClr val="cc9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27200" y="3581280"/>
            <a:ext cx="76320" cy="76320"/>
          </a:xfrm>
          <a:prstGeom prst="rect">
            <a:avLst/>
          </a:prstGeom>
          <a:noFill/>
          <a:ln w="38160">
            <a:solidFill>
              <a:srgbClr val="cc97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715000" y="1828440"/>
            <a:ext cx="660240" cy="1854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3657600"/>
            <a:ext cx="76320" cy="76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326D-E83B-43F1-8166-688DC5A882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9T20:46:37Z</dcterms:created>
  <dc:creator>Anastasia Yendiki</dc:creator>
  <dc:description/>
  <dc:language>en-US</dc:language>
  <cp:lastModifiedBy>Anastasia Yendiki</cp:lastModifiedBy>
  <cp:lastPrinted>2008-10-08T21:25:17Z</cp:lastPrinted>
  <dcterms:modified xsi:type="dcterms:W3CDTF">2011-04-04T14:51:35Z</dcterms:modified>
  <cp:revision>258</cp:revision>
  <dc:subject/>
  <dc:title>Anatomically constrained  white-matter tractography</dc:title>
</cp:coreProperties>
</file>