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D697-ADDF-48EC-B134-442FED2605D6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9086760" cy="20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Analysis: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 an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772080" y="18478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728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680" y="1752480"/>
            <a:ext cx="944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ay Matter-to-Gray Matter (it’s all gray matter!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yrus-to-Gyrus and Sulcus-to-Sulcus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me minor folding patterns won’t line u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y automated, no landmarking need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tlas registration is probabilistic, most variable regions get less weight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ne automatically in recon-all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atial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9920" y="1752480"/>
            <a:ext cx="924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ight Improve CN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mprove intersubject registration (functional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 smoothing more forgiving than 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00880" y="1143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voxe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090440" y="1198440"/>
            <a:ext cx="2896920" cy="3299040"/>
            <a:chOff x="1090440" y="1198440"/>
            <a:chExt cx="2896920" cy="3299040"/>
          </a:xfrm>
        </p:grpSpPr>
        <p:grpSp>
          <p:nvGrpSpPr>
            <p:cNvPr id="195" name=""/>
            <p:cNvGrpSpPr/>
            <p:nvPr/>
          </p:nvGrpSpPr>
          <p:grpSpPr>
            <a:xfrm>
              <a:off x="1090440" y="1600200"/>
              <a:ext cx="2896920" cy="2897280"/>
              <a:chOff x="1090440" y="1600200"/>
              <a:chExt cx="2896920" cy="2897280"/>
            </a:xfrm>
          </p:grpSpPr>
          <p:sp>
            <p:nvSpPr>
              <p:cNvPr id="196" name=""/>
              <p:cNvSpPr/>
              <p:nvPr/>
            </p:nvSpPr>
            <p:spPr>
              <a:xfrm>
                <a:off x="1814040" y="2324160"/>
                <a:ext cx="1447200" cy="144792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2347200" y="2857680"/>
                <a:ext cx="380880" cy="380880"/>
                <a:chOff x="2347200" y="2857680"/>
                <a:chExt cx="380880" cy="380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347200" y="3048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2537640" y="285768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090440" y="1600200"/>
                <a:ext cx="2896920" cy="2897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27440" y="19810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7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21880" y="11984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4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24560" y="15238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5 mm apart in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5 mm apart on surface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ernel much larg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tissue types (WM, CS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functional are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2308320" y="2857680"/>
            <a:ext cx="380880" cy="380880"/>
            <a:chOff x="2308320" y="2857680"/>
            <a:chExt cx="380880" cy="380880"/>
          </a:xfrm>
        </p:grpSpPr>
        <p:sp>
          <p:nvSpPr>
            <p:cNvPr id="208" name=""/>
            <p:cNvSpPr/>
            <p:nvPr/>
          </p:nvSpPr>
          <p:spPr>
            <a:xfrm>
              <a:off x="2308320" y="304812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498760" y="285768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050840" y="1600200"/>
            <a:ext cx="2897280" cy="2897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62040" y="2514600"/>
            <a:ext cx="380880" cy="380880"/>
            <a:chOff x="1562040" y="2514600"/>
            <a:chExt cx="380880" cy="380880"/>
          </a:xfrm>
        </p:grpSpPr>
        <p:sp>
          <p:nvSpPr>
            <p:cNvPr id="212" name=""/>
            <p:cNvSpPr/>
            <p:nvPr/>
          </p:nvSpPr>
          <p:spPr>
            <a:xfrm>
              <a:off x="1562040" y="270504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752480" y="251460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939960" y="2743200"/>
            <a:ext cx="1536480" cy="2019240"/>
          </a:xfrm>
          <a:custGeom>
            <a:avLst/>
            <a:gdLst/>
            <a:ahLst/>
            <a:rect l="l" t="t" r="r" b="b"/>
            <a:pathLst>
              <a:path w="968" h="1272">
                <a:moveTo>
                  <a:pt x="488" y="0"/>
                </a:moveTo>
                <a:cubicBezTo>
                  <a:pt x="488" y="164"/>
                  <a:pt x="488" y="328"/>
                  <a:pt x="440" y="432"/>
                </a:cubicBezTo>
                <a:cubicBezTo>
                  <a:pt x="392" y="536"/>
                  <a:pt x="272" y="536"/>
                  <a:pt x="200" y="624"/>
                </a:cubicBezTo>
                <a:cubicBezTo>
                  <a:pt x="128" y="712"/>
                  <a:pt x="16" y="856"/>
                  <a:pt x="8" y="960"/>
                </a:cubicBezTo>
                <a:cubicBezTo>
                  <a:pt x="0" y="1064"/>
                  <a:pt x="64" y="1224"/>
                  <a:pt x="152" y="1248"/>
                </a:cubicBezTo>
                <a:cubicBezTo>
                  <a:pt x="240" y="1272"/>
                  <a:pt x="448" y="1184"/>
                  <a:pt x="536" y="1104"/>
                </a:cubicBezTo>
                <a:cubicBezTo>
                  <a:pt x="624" y="1024"/>
                  <a:pt x="632" y="872"/>
                  <a:pt x="680" y="768"/>
                </a:cubicBezTo>
                <a:cubicBezTo>
                  <a:pt x="728" y="664"/>
                  <a:pt x="776" y="576"/>
                  <a:pt x="824" y="480"/>
                </a:cubicBezTo>
                <a:cubicBezTo>
                  <a:pt x="872" y="384"/>
                  <a:pt x="920" y="288"/>
                  <a:pt x="968" y="192"/>
                </a:cubicBezTo>
              </a:path>
            </a:pathLst>
          </a:custGeom>
          <a:noFill/>
          <a:ln w="57240">
            <a:solidFill>
              <a:srgbClr val="04e3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98560" y="120636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4mm FWH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286680" y="388620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46080" y="3200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486080" y="4343400"/>
            <a:ext cx="533160" cy="533520"/>
            <a:chOff x="1486080" y="4343400"/>
            <a:chExt cx="533160" cy="533520"/>
          </a:xfrm>
        </p:grpSpPr>
        <p:sp>
          <p:nvSpPr>
            <p:cNvPr id="234" name=""/>
            <p:cNvSpPr/>
            <p:nvPr/>
          </p:nvSpPr>
          <p:spPr>
            <a:xfrm>
              <a:off x="1619280" y="44766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717200" y="4574880"/>
              <a:ext cx="69840" cy="69840"/>
              <a:chOff x="1717200" y="4574880"/>
              <a:chExt cx="69840" cy="69840"/>
            </a:xfrm>
          </p:grpSpPr>
          <p:sp>
            <p:nvSpPr>
              <p:cNvPr id="236" name=""/>
              <p:cNvSpPr/>
              <p:nvPr/>
            </p:nvSpPr>
            <p:spPr>
              <a:xfrm>
                <a:off x="1717200" y="4609800"/>
                <a:ext cx="6984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752120" y="45748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486080" y="4343400"/>
              <a:ext cx="53316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124760" y="4800600"/>
            <a:ext cx="533520" cy="533520"/>
            <a:chOff x="7124760" y="4800600"/>
            <a:chExt cx="533520" cy="533520"/>
          </a:xfrm>
        </p:grpSpPr>
        <p:sp>
          <p:nvSpPr>
            <p:cNvPr id="240" name=""/>
            <p:cNvSpPr/>
            <p:nvPr/>
          </p:nvSpPr>
          <p:spPr>
            <a:xfrm>
              <a:off x="7257960" y="49338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356240" y="5032080"/>
              <a:ext cx="70200" cy="69840"/>
              <a:chOff x="7356240" y="5032080"/>
              <a:chExt cx="70200" cy="69840"/>
            </a:xfrm>
          </p:grpSpPr>
          <p:sp>
            <p:nvSpPr>
              <p:cNvPr id="242" name=""/>
              <p:cNvSpPr/>
              <p:nvPr/>
            </p:nvSpPr>
            <p:spPr>
              <a:xfrm>
                <a:off x="7356240" y="5067000"/>
                <a:ext cx="7020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391160" y="50320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124760" y="4800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-266760" y="990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vert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35640" y="837720"/>
            <a:ext cx="5486040" cy="2210040"/>
            <a:chOff x="4535640" y="837720"/>
            <a:chExt cx="5486040" cy="2210040"/>
          </a:xfrm>
        </p:grpSpPr>
        <p:grpSp>
          <p:nvGrpSpPr>
            <p:cNvPr id="247" name=""/>
            <p:cNvGrpSpPr/>
            <p:nvPr/>
          </p:nvGrpSpPr>
          <p:grpSpPr>
            <a:xfrm>
              <a:off x="4535640" y="1020960"/>
              <a:ext cx="2615760" cy="1644480"/>
              <a:chOff x="4535640" y="1020960"/>
              <a:chExt cx="2615760" cy="1644480"/>
            </a:xfrm>
          </p:grpSpPr>
          <p:pic>
            <p:nvPicPr>
              <p:cNvPr id="2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5640" y="1020960"/>
                <a:ext cx="261576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6715080" y="2096640"/>
                <a:ext cx="373680" cy="37980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7626240" y="838080"/>
              <a:ext cx="2395440" cy="220968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251" name=""/>
            <p:cNvSpPr/>
            <p:nvPr/>
          </p:nvSpPr>
          <p:spPr>
            <a:xfrm flipV="1">
              <a:off x="7096320" y="837720"/>
              <a:ext cx="529560" cy="127908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96320" y="2482560"/>
              <a:ext cx="529560" cy="54792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urface-based 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28880" y="1294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eighborhood is 2D, not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duced search space (corrections for multiple comparison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55" name="" descr="groupana.lat.clusters.gif"/>
          <p:cNvPicPr/>
          <p:nvPr/>
        </p:nvPicPr>
        <p:blipFill>
          <a:blip r:embed="rId1"/>
          <a:stretch/>
        </p:blipFill>
        <p:spPr>
          <a:xfrm>
            <a:off x="4457880" y="4191120"/>
            <a:ext cx="32889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56920" y="0"/>
            <a:ext cx="71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5560" y="990720"/>
            <a:ext cx="762948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urface-based Analysis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unction has surface-based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ter-subject registration: anatomy, not intens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ing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ke 3D, but 2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8986" t="6171" r="4119" b="11536"/>
          <a:stretch/>
        </p:blipFill>
        <p:spPr>
          <a:xfrm>
            <a:off x="1371600" y="4648320"/>
            <a:ext cx="3257640" cy="1996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714920" y="4724280"/>
            <a:ext cx="3429000" cy="1920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100240" y="426708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se FreeSurf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0720" y="42991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 Happ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86080" y="129528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tivatio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ordinate System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D (Volumetri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(Surface-based)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luster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480" y="180720"/>
            <a:ext cx="8809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a Model of the Cortical Surface Useful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9560" y="1822320"/>
            <a:ext cx="943632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2514600"/>
                <a:tab algn="l" pos="3718080"/>
                <a:tab algn="l" pos="5576760"/>
                <a:tab algn="l" pos="7435800"/>
                <a:tab algn="l" pos="9294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unctional organization of cortex is largely 2-dimensional! Eg, functional mapping of primary visual area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4760" y="2863800"/>
            <a:ext cx="9354960" cy="2722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3080" y="62485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(Sereno et al, 1995, Science)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1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11560" y="304920"/>
            <a:ext cx="79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ordinate Systems: 3D (Volumetric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360" y="1523880"/>
            <a:ext cx="67057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D Coordinate Syste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AS (Right-Anterior-Superio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S (Column-Row-Sli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rigin (XYZ=0, eg, AC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 Intensity at each 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53160" y="1071720"/>
            <a:ext cx="4265280" cy="4491000"/>
            <a:chOff x="5753160" y="1071720"/>
            <a:chExt cx="4265280" cy="44910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6324480" y="1981080"/>
              <a:ext cx="294192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753160" y="1295280"/>
              <a:ext cx="4014360" cy="3885840"/>
              <a:chOff x="5753160" y="1295280"/>
              <a:chExt cx="4014360" cy="3885840"/>
            </a:xfrm>
          </p:grpSpPr>
          <p:sp>
            <p:nvSpPr>
              <p:cNvPr id="97" name=""/>
              <p:cNvSpPr/>
              <p:nvPr/>
            </p:nvSpPr>
            <p:spPr>
              <a:xfrm>
                <a:off x="7810200" y="1295280"/>
                <a:ext cx="0" cy="38858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53160" y="3252240"/>
                <a:ext cx="401436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6396120" y="1865880"/>
                <a:ext cx="2928960" cy="27446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532800" y="249084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82480" y="4267080"/>
              <a:ext cx="45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07400" y="107172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ordinate Systems: 2D (Surfac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82520" y="1544760"/>
            <a:ext cx="4597200" cy="3017520"/>
            <a:chOff x="182520" y="1544760"/>
            <a:chExt cx="4597200" cy="30175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147680" y="154476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16800" y="3594600"/>
              <a:ext cx="17096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920" y="404244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200" y="3608280"/>
              <a:ext cx="9122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9760" y="1706760"/>
              <a:ext cx="7322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3760" y="3074400"/>
              <a:ext cx="76896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425680" y="193644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423240" y="337860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898640" y="3106800"/>
              <a:ext cx="60408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016640" y="284508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520" y="245484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2520" y="2904480"/>
              <a:ext cx="1267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6240" y="4794120"/>
            <a:ext cx="8975880" cy="1905120"/>
            <a:chOff x="876240" y="4794120"/>
            <a:chExt cx="8975880" cy="1905120"/>
          </a:xfrm>
        </p:grpSpPr>
        <p:grpSp>
          <p:nvGrpSpPr>
            <p:cNvPr id="118" name=""/>
            <p:cNvGrpSpPr/>
            <p:nvPr/>
          </p:nvGrpSpPr>
          <p:grpSpPr>
            <a:xfrm>
              <a:off x="876240" y="4890960"/>
              <a:ext cx="2743200" cy="1582560"/>
              <a:chOff x="876240" y="4890960"/>
              <a:chExt cx="2743200" cy="1582560"/>
            </a:xfrm>
          </p:grpSpPr>
          <p:pic>
            <p:nvPicPr>
              <p:cNvPr id="1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6240" y="4890960"/>
                <a:ext cx="274320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992160" y="5991120"/>
                <a:ext cx="63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pial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194720" y="4794120"/>
              <a:ext cx="3201480" cy="1905120"/>
              <a:chOff x="4194720" y="4794120"/>
              <a:chExt cx="3201480" cy="1905120"/>
            </a:xfrm>
          </p:grpSpPr>
          <p:pic>
            <p:nvPicPr>
              <p:cNvPr id="1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2120" y="4794120"/>
                <a:ext cx="312408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4194720" y="6051600"/>
                <a:ext cx="111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inflated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8164440" y="5168880"/>
              <a:ext cx="16876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Curvat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fd141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ULCUS (+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00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GYRUS (-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09680" y="8380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29440" y="853920"/>
            <a:ext cx="45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atitude and Longitude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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tinuous, no cu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alue at each point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87320" y="1355760"/>
            <a:ext cx="3047760" cy="3048120"/>
            <a:chOff x="787320" y="1355760"/>
            <a:chExt cx="3047760" cy="3048120"/>
          </a:xfrm>
        </p:grpSpPr>
        <p:sp>
          <p:nvSpPr>
            <p:cNvPr id="128" name=""/>
            <p:cNvSpPr/>
            <p:nvPr/>
          </p:nvSpPr>
          <p:spPr>
            <a:xfrm>
              <a:off x="2349360" y="1355760"/>
              <a:ext cx="0" cy="304812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7320" y="2891160"/>
              <a:ext cx="304776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650760" y="2381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1960" y="1057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372360" y="2405160"/>
            <a:ext cx="2438280" cy="2743200"/>
            <a:chOff x="6372360" y="2405160"/>
            <a:chExt cx="2438280" cy="2743200"/>
          </a:xfrm>
        </p:grpSpPr>
        <p:sp>
          <p:nvSpPr>
            <p:cNvPr id="133" name=""/>
            <p:cNvSpPr/>
            <p:nvPr/>
          </p:nvSpPr>
          <p:spPr>
            <a:xfrm>
              <a:off x="7591320" y="4295880"/>
              <a:ext cx="0" cy="8524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4"/>
            <a:srcRect l="0" t="2105" r="0" b="0"/>
            <a:stretch/>
          </p:blipFill>
          <p:spPr>
            <a:xfrm>
              <a:off x="6372360" y="2604960"/>
              <a:ext cx="243828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524640" y="3548160"/>
              <a:ext cx="2133000" cy="38088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1320" y="2405160"/>
              <a:ext cx="0" cy="10522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5"/>
            <a:srcRect l="0" t="6316" r="0" b="48421"/>
            <a:stretch/>
          </p:blipFill>
          <p:spPr>
            <a:xfrm>
              <a:off x="6372360" y="2698560"/>
              <a:ext cx="2438280" cy="10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200800" y="3298680"/>
              <a:ext cx="101160" cy="540000"/>
            </a:xfrm>
            <a:custGeom>
              <a:avLst/>
              <a:gdLst/>
              <a:ahLst/>
              <a:rect l="l" t="t" r="r" b="b"/>
              <a:pathLst>
                <a:path w="352" h="720">
                  <a:moveTo>
                    <a:pt x="0" y="0"/>
                  </a:moveTo>
                  <a:cubicBezTo>
                    <a:pt x="52" y="28"/>
                    <a:pt x="104" y="56"/>
                    <a:pt x="144" y="96"/>
                  </a:cubicBezTo>
                  <a:cubicBezTo>
                    <a:pt x="184" y="136"/>
                    <a:pt x="208" y="160"/>
                    <a:pt x="240" y="240"/>
                  </a:cubicBezTo>
                  <a:cubicBezTo>
                    <a:pt x="272" y="320"/>
                    <a:pt x="320" y="496"/>
                    <a:pt x="336" y="576"/>
                  </a:cubicBezTo>
                  <a:cubicBezTo>
                    <a:pt x="352" y="656"/>
                    <a:pt x="344" y="688"/>
                    <a:pt x="336" y="72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67640" y="3832200"/>
              <a:ext cx="609120" cy="8892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48"/>
                  </a:moveTo>
                  <a:cubicBezTo>
                    <a:pt x="88" y="52"/>
                    <a:pt x="176" y="56"/>
                    <a:pt x="240" y="48"/>
                  </a:cubicBezTo>
                  <a:cubicBezTo>
                    <a:pt x="304" y="40"/>
                    <a:pt x="344" y="20"/>
                    <a:pt x="384" y="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29520" y="3203640"/>
              <a:ext cx="7560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439040" y="3651120"/>
              <a:ext cx="456840" cy="530280"/>
              <a:chOff x="7439040" y="3651120"/>
              <a:chExt cx="456840" cy="530280"/>
            </a:xfrm>
          </p:grpSpPr>
          <p:sp>
            <p:nvSpPr>
              <p:cNvPr id="142" name=""/>
              <p:cNvSpPr/>
              <p:nvPr/>
            </p:nvSpPr>
            <p:spPr>
              <a:xfrm>
                <a:off x="7673040" y="3651120"/>
                <a:ext cx="0" cy="53028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39040" y="3918240"/>
                <a:ext cx="45684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897680" y="38322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73880" y="32986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70320" y="30492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lumetric 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000680" y="1143000"/>
            <a:ext cx="6174360" cy="3657600"/>
            <a:chOff x="4000680" y="1143000"/>
            <a:chExt cx="6174360" cy="365760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4000680" y="1218960"/>
              <a:ext cx="294120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"/>
            <p:cNvGrpSpPr/>
            <p:nvPr/>
          </p:nvGrpSpPr>
          <p:grpSpPr>
            <a:xfrm>
              <a:off x="7073640" y="1143000"/>
              <a:ext cx="3101400" cy="3627000"/>
              <a:chOff x="7073640" y="1143000"/>
              <a:chExt cx="3101400" cy="3627000"/>
            </a:xfrm>
          </p:grpSpPr>
          <p:pic>
            <p:nvPicPr>
              <p:cNvPr id="151" name="" descr=""/>
              <p:cNvPicPr/>
              <p:nvPr/>
            </p:nvPicPr>
            <p:blipFill>
              <a:blip r:embed="rId2"/>
              <a:srcRect l="22026" t="14601" r="24109" b="17284"/>
              <a:stretch/>
            </p:blipFill>
            <p:spPr>
              <a:xfrm>
                <a:off x="7105320" y="1143000"/>
                <a:ext cx="3069720" cy="35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7073640" y="165204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89280" y="387936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266760" y="1066680"/>
            <a:ext cx="670572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/Linear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ransl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t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e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2 DO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tch Intensity, Voxel-by-Vox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 use nonlinear volumetric (cf CV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924360" y="1219320"/>
            <a:ext cx="3048120" cy="3047760"/>
            <a:chOff x="3924360" y="1219320"/>
            <a:chExt cx="3048120" cy="3047760"/>
          </a:xfrm>
        </p:grpSpPr>
        <p:sp>
          <p:nvSpPr>
            <p:cNvPr id="156" name=""/>
            <p:cNvSpPr/>
            <p:nvPr/>
          </p:nvSpPr>
          <p:spPr>
            <a:xfrm>
              <a:off x="5486400" y="121932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24360" y="275436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412520" y="170136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048440" y="1066680"/>
            <a:ext cx="3048120" cy="3047760"/>
            <a:chOff x="7048440" y="1066680"/>
            <a:chExt cx="3048120" cy="3047760"/>
          </a:xfrm>
        </p:grpSpPr>
        <p:sp>
          <p:nvSpPr>
            <p:cNvPr id="160" name=""/>
            <p:cNvSpPr/>
            <p:nvPr/>
          </p:nvSpPr>
          <p:spPr>
            <a:xfrm>
              <a:off x="8610480" y="106668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48440" y="260172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536600" y="154872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152960" y="838080"/>
            <a:ext cx="3047760" cy="3504960"/>
            <a:chOff x="4152960" y="838080"/>
            <a:chExt cx="3047760" cy="3504960"/>
          </a:xfrm>
        </p:grpSpPr>
        <p:grpSp>
          <p:nvGrpSpPr>
            <p:cNvPr id="166" name=""/>
            <p:cNvGrpSpPr/>
            <p:nvPr/>
          </p:nvGrpSpPr>
          <p:grpSpPr>
            <a:xfrm>
              <a:off x="4152960" y="1295280"/>
              <a:ext cx="3047760" cy="3047760"/>
              <a:chOff x="4152960" y="1295280"/>
              <a:chExt cx="3047760" cy="30477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13320" y="1483920"/>
                <a:ext cx="2506680" cy="2449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8" name=""/>
              <p:cNvGrpSpPr/>
              <p:nvPr/>
            </p:nvGrpSpPr>
            <p:grpSpPr>
              <a:xfrm>
                <a:off x="4152960" y="1295280"/>
                <a:ext cx="3047760" cy="3047760"/>
                <a:chOff x="4152960" y="1295280"/>
                <a:chExt cx="3047760" cy="3047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15000" y="1295280"/>
                  <a:ext cx="0" cy="3047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152960" y="2830320"/>
                  <a:ext cx="3047760" cy="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5219280" y="83808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560" y="685800"/>
            <a:ext cx="3933360" cy="3414240"/>
            <a:chOff x="160560" y="685800"/>
            <a:chExt cx="3933360" cy="3414240"/>
          </a:xfrm>
        </p:grpSpPr>
        <p:grpSp>
          <p:nvGrpSpPr>
            <p:cNvPr id="173" name=""/>
            <p:cNvGrpSpPr/>
            <p:nvPr/>
          </p:nvGrpSpPr>
          <p:grpSpPr>
            <a:xfrm>
              <a:off x="160560" y="1310040"/>
              <a:ext cx="3933360" cy="2790000"/>
              <a:chOff x="160560" y="1310040"/>
              <a:chExt cx="3933360" cy="2790000"/>
            </a:xfrm>
          </p:grpSpPr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200" y="1405440"/>
                <a:ext cx="3491280" cy="24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5" name=""/>
              <p:cNvGrpSpPr/>
              <p:nvPr/>
            </p:nvGrpSpPr>
            <p:grpSpPr>
              <a:xfrm>
                <a:off x="160560" y="1310040"/>
                <a:ext cx="3933360" cy="2790000"/>
                <a:chOff x="160560" y="1310040"/>
                <a:chExt cx="3933360" cy="27900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604880" y="1310040"/>
                  <a:ext cx="1134000" cy="279000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160560" y="1935720"/>
                  <a:ext cx="3933360" cy="1598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1828440" y="68580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27120" y="4572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ranslate,  Rotate,  Stretch,  Shear (12 DO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tch Curvature, Vertex-by-Ve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nlinear Stretching (“Morphing”) allowed (area regularizat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ctually done on 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ical Morph”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50480" y="1905120"/>
            <a:ext cx="2818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“Intensity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des folding patter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757760" y="5769000"/>
            <a:ext cx="4800600" cy="1089000"/>
            <a:chOff x="4757760" y="5769000"/>
            <a:chExt cx="4800600" cy="108900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8415360" y="5796000"/>
              <a:ext cx="114300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6510240" y="5769000"/>
              <a:ext cx="178596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4757760" y="5846760"/>
              <a:ext cx="1752480" cy="101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Allison</cp:lastModifiedBy>
  <dcterms:modified xsi:type="dcterms:W3CDTF">2010-09-28T01:47:41Z</dcterms:modified>
  <cp:revision>960</cp:revision>
  <dc:subject/>
  <dc:title>Understanding Differential Responses in fMRI Through Linear Simulation</dc:title>
</cp:coreProperties>
</file>