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04A9F84-2230-4926-BEAC-F2BF6ED02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2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ccurately follow bounda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surfaces on/off to check; change brightness &amp; contrast; is this where I would draw bound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ertain areas that don’t matter: surfaces near subcort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rfaces for wm/gm don’t check aseg for gm/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282-D5E1-4A28-9AA7-2A85915E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D8C-011C-4901-AA89-7B9BCDD6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C92-644C-4F0D-A4F8-658AC099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B64-4835-40DB-A48B-654D6A96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F2A-18C9-4518-92D1-B0BEB1FC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61A-D710-408E-A4F2-FFE385A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3CF-68A5-407E-8CDF-246744D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D0CC-6C4F-4575-9323-F40A3A19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3EA1-CCBB-4939-A5FC-7000408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1B9A-AB7D-4448-A9FE-B3FB419D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FD7-68E7-422D-8D54-49BAF43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A48-E244-4D6A-9880-69BDE97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8892-EF3C-4A3D-9DF1-EB5B151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1EC7-089F-489C-B6EA-12B6D13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AB7-449E-42BD-87A5-BE31C286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1870-6B83-4691-8837-F858E622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6E18-6AA3-4E8F-B732-358E2501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AAF-9634-4ABE-A2D7-227CDB6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9AC-60E0-478D-96D5-EDA7DA0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BF3-6D3D-493D-878D-E678BCFC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803-1CEB-4000-979E-6788AC7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A66-F9D8-4967-AEB7-80BC7D8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61A-6054-4671-805F-DFFFA6B8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1A4-9646-460E-B92C-FDEBEC8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DE2-7412-42C7-BEE0-238A0CFB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00b8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 algn="ctr">
              <a:lnSpc>
                <a:spcPct val="97000"/>
              </a:lnSpc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1" lang="en-US" sz="4000" spc="-1" strike="noStrike">
                <a:solidFill>
                  <a:srgbClr val="4c4c4c"/>
                </a:solidFill>
                <a:latin typeface="Bitstream Vera Sans"/>
              </a:rPr>
              <a:t>Click to edit the title text format</a:t>
            </a:r>
            <a:endParaRPr b="1" lang="en-US" sz="4000" spc="-1" strike="noStrike">
              <a:solidFill>
                <a:srgbClr val="4c4c4c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14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1" marL="782640" indent="-26028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2" marL="1174680" indent="-1951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3" marL="1566720" indent="-1951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4" marL="1959120" indent="-196920">
              <a:lnSpc>
                <a:spcPct val="68000"/>
              </a:lnSpc>
              <a:spcAft>
                <a:spcPts val="1287"/>
              </a:spcAft>
              <a:buClr>
                <a:srgbClr val="4c4c4c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5" marL="1959120" indent="-196920">
              <a:lnSpc>
                <a:spcPct val="6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  <a:p>
            <a:pPr lvl="6" marL="1959120" indent="-196920">
              <a:lnSpc>
                <a:spcPct val="6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4c4c4c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4c4c4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fld id="{5F2F9307-FC2D-454D-879D-F4F9406BE47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Check Your Rec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000" y="19810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your surfaces follow gm/wm borde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es the subcortical segmentation follow intensity boundarie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35240" y="1066680"/>
            <a:ext cx="4673520" cy="467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7632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Output of Cortical Surface Re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ow Know What to Edit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6200" y="1981080"/>
            <a:ext cx="85392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t affects th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al surfac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it brainmask.mgz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it affects th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hite surfac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it the wm.mgz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segmentation err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control point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f normalization err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8000" y="-54360"/>
            <a:ext cx="7669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roubleshooting – Advic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8760" y="1422360"/>
            <a:ext cx="8826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BIGUIT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consistently within and across subject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ill get faster with time; certain sections go faster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Must rerun to fix errors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9051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   -autorecon3  (Stages 6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kull strip error (after fixed watershed/clo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  -autorecon3   (Stages 10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ded control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2-wm  -autorecon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Stages 13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ited wm.m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on-all   -autorecon-pial (Stage 19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dited brainmask.m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r Make Life Easi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con-all  -make  all   -s  subji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tart Ov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con-all   -all   -clean   -s  subji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Allison</cp:lastModifiedBy>
  <dcterms:modified xsi:type="dcterms:W3CDTF">2012-03-26T02:38:52Z</dcterms:modified>
  <cp:revision>706</cp:revision>
  <dc:subject/>
  <dc:title>Surferfest </dc:title>
</cp:coreProperties>
</file>