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png" ContentType="image/png"/>
  <Override PartName="/ppt/media/image25.jpeg" ContentType="image/jpeg"/>
  <Override PartName="/ppt/media/image32.png" ContentType="image/png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10.png" ContentType="image/png"/>
  <Override PartName="/ppt/media/image27.jpeg" ContentType="image/jpe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33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9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30.png" ContentType="image/png"/>
  <Override PartName="/ppt/media/image3.jpeg" ContentType="image/jpeg"/>
  <Override PartName="/ppt/media/image1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18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615C5-A948-47D8-8529-6EBFAE4FD3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0D87A-AAD4-48D8-A9CF-F5F4719342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tended Jaccard Coefficient (23) measures computed for Experiment 1. The last column of the cortical measures represents the overlap meas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uted in the surface space. The vertical lines represent the standard error of the mean of the measurem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B2192-8C58-44E5-A12C-170EF6C57C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I like how you have "moving" in italics. Will you cover how commands like vol2vol and flirt are usually asking for a mov, ref, template, etc.? Some of those terms are interchangeable and it can be confusing when different commands use different term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th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$FREESURFER_HOME/subjects/cvs_avg3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6511F-597A-475A-BE1C-EC5025C4E0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th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$FREESURFER_HOME/subjects/cvs_avg3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FD442-F18D-4E3B-A6F3-4EC1273FDB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5DF69-B194-45F8-AAEC-AA96001DD5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3335E-B0ED-42C0-A6D5-32EDFA540D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The probability maps were thresholded at 0.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require recons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with the registration tool summary slide, will you cover the strengths and weaknesses of each or when it is most appropriate to use them? Lik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bregister and cvs can only be used if you have surfaces, fsl takes into account X while robust_register takes into account Y so you would choose one over the other in such Z situat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FBAC1-5F9F-4BC8-87FC-0EAFFB7790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1277E-E293-4A91-BBD9-95E42C66C4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require recons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37DB4-E9F3-4A79-8F78-EB0A318F49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3D265-E5B9-4C43-807F-DDA4CD5DD3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4440" y="68436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15840" y="4341960"/>
            <a:ext cx="5026320" cy="41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76AB0-E7A5-4839-B0AC-577FF962DC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uce’s brain affine transformed and mapped on Doug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ffine – does not provide the a good initialization; does not bring folds close enough for the basin of attra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BE5F1-04CC-4607-9845-524D2037AD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ntion (red , yellow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DDE68-07F8-4B1C-8EE6-51D30C8A95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b-cortical alignment using cortical correspondence as initializati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D3666-E4AE-4F37-B6DB-96B50726DF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AA142-F812-45AF-82E1-FE00EA694A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 of results obtained in Inter-Subject Experiment 2. The first column displays the template segmentation and the second, third a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urth columns represent the deformed segmentation volumes resulting from FLIRT (affine), HAMMER and our new combined surface- and intensity-based registration. In all the images, the surfaces shown are those of the template (pial surfaces in red and gray/white surfaces in yellow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9327D-294D-4933-AD93-C9F9C2A4E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F3CEB-1948-45E0-B3B3-4D85A04D9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96453-5DF4-43A8-9DB4-E9775A1CD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93439-5257-4891-8B7A-A3F594C89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467E1-BAB6-4A33-9E49-6C29B4DA9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D9F29-1290-416D-9B1A-A7B8AC0B5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428D1-5084-4E4A-9574-59BBAFDB6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6DEB6-F858-4CA3-B687-B8C348E55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37D26-23F8-45F7-AD47-88F99CA57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96AFB-DE5C-484E-A3AC-21A0D8665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B04EA-5ECD-4046-9187-EC3A39105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F628D-5641-4B2E-A422-FE632F668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2/13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FreeSurfer Tutorial and Worksh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E87AD-AEE3-433C-8719-1D8AC77CEB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32.png"/><Relationship Id="rId6" Type="http://schemas.openxmlformats.org/officeDocument/2006/relationships/image" Target="../media/image33.png"/><Relationship Id="rId7" Type="http://schemas.openxmlformats.org/officeDocument/2006/relationships/image" Target="../media/image34.png"/><Relationship Id="rId8" Type="http://schemas.openxmlformats.org/officeDocument/2006/relationships/image" Target="../media/image35.png"/><Relationship Id="rId9" Type="http://schemas.openxmlformats.org/officeDocument/2006/relationships/image" Target="../media/image36.png"/><Relationship Id="rId10" Type="http://schemas.openxmlformats.org/officeDocument/2006/relationships/image" Target="../media/image37.png"/><Relationship Id="rId11" Type="http://schemas.openxmlformats.org/officeDocument/2006/relationships/image" Target="../media/image38.png"/><Relationship Id="rId12" Type="http://schemas.openxmlformats.org/officeDocument/2006/relationships/image" Target="../media/image39.png"/><Relationship Id="rId1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More Registration 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Techniqu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49" name="Group 6"/>
          <p:cNvGrpSpPr/>
          <p:nvPr/>
        </p:nvGrpSpPr>
        <p:grpSpPr>
          <a:xfrm>
            <a:off x="228600" y="5105520"/>
            <a:ext cx="4809960" cy="810720"/>
            <a:chOff x="228600" y="5105520"/>
            <a:chExt cx="4809960" cy="810720"/>
          </a:xfrm>
        </p:grpSpPr>
        <p:pic>
          <p:nvPicPr>
            <p:cNvPr id="50" name="Picture 4" descr=""/>
            <p:cNvPicPr/>
            <p:nvPr/>
          </p:nvPicPr>
          <p:blipFill>
            <a:blip r:embed="rId1"/>
            <a:stretch/>
          </p:blipFill>
          <p:spPr>
            <a:xfrm>
              <a:off x="1038240" y="5105520"/>
              <a:ext cx="4000320" cy="799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Picture 5" descr="martinos_logo_big"/>
            <p:cNvPicPr/>
            <p:nvPr/>
          </p:nvPicPr>
          <p:blipFill>
            <a:blip r:embed="rId2"/>
            <a:stretch/>
          </p:blipFill>
          <p:spPr>
            <a:xfrm>
              <a:off x="228600" y="5114880"/>
              <a:ext cx="749160" cy="8013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2" name="Picture 12" descr="fssplash"/>
          <p:cNvPicPr/>
          <p:nvPr/>
        </p:nvPicPr>
        <p:blipFill>
          <a:blip r:embed="rId3"/>
          <a:stretch/>
        </p:blipFill>
        <p:spPr>
          <a:xfrm>
            <a:off x="228600" y="914400"/>
            <a:ext cx="273996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7"/>
          <p:cNvSpPr/>
          <p:nvPr/>
        </p:nvSpPr>
        <p:spPr>
          <a:xfrm>
            <a:off x="152280" y="5486400"/>
            <a:ext cx="8839440" cy="12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Extended Jaccard Coefficient measures: 20 cortical and 21 sub-cortical labels.</a:t>
            </a:r>
            <a:r>
              <a:rPr b="0" lang="hu-HU" sz="1800" spc="-1" strike="noStrike">
                <a:solidFill>
                  <a:srgbClr val="ffffff"/>
                </a:solidFill>
                <a:latin typeface="Calibri"/>
              </a:rPr>
              <a:t> (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he vertical lines represent the standard error of the mean of the measurement.</a:t>
            </a:r>
            <a:r>
              <a:rPr b="0" lang="hu-HU" sz="1800" spc="-1" strike="noStrike">
                <a:solidFill>
                  <a:srgbClr val="ffffff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G.M. Postelnicu*, L . Zöllei*, B. Fischl: "</a:t>
            </a:r>
            <a:r>
              <a:rPr b="0" i="1" lang="en-US" sz="1400" spc="-1" strike="noStrike">
                <a:solidFill>
                  <a:srgbClr val="ffffff"/>
                </a:solidFill>
                <a:latin typeface="Calibri"/>
              </a:rPr>
              <a:t>Combined Volumetric and Surface Registration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", IEEE Transactions on Medical Imaging (TMI), Vol 28 (4), April 2009, p. 508-52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13" descr="buckner_rerun_generalized_jaccard"/>
          <p:cNvPicPr/>
          <p:nvPr/>
        </p:nvPicPr>
        <p:blipFill>
          <a:blip r:embed="rId1"/>
          <a:stretch/>
        </p:blipFill>
        <p:spPr>
          <a:xfrm>
            <a:off x="1154160" y="228600"/>
            <a:ext cx="6846840" cy="5135400"/>
          </a:xfrm>
          <a:prstGeom prst="rect">
            <a:avLst/>
          </a:prstGeom>
          <a:ln w="0">
            <a:noFill/>
          </a:ln>
        </p:spPr>
      </p:pic>
      <p:sp>
        <p:nvSpPr>
          <p:cNvPr id="114" name="Date Placeholder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2/13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mri_cvs_register --mov subjid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registering the subject to, by default, the CVS atlas spac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make sure that the  SUBJECTS_DIR for </a:t>
            </a:r>
            <a:r>
              <a:rPr b="0" i="1" lang="en-US" sz="2400" spc="-1" strike="noStrike">
                <a:solidFill>
                  <a:srgbClr val="ffffff"/>
                </a:solidFill>
                <a:latin typeface="Calibri"/>
              </a:rPr>
              <a:t>subjid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is correctly s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Optional Argum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-- template subjid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: subjid for template subject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-- templatedir dir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: recon directory for templat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(default is SUBJECTS_DI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--outdir dir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: output directory for all the result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(default is SUBJECTS_DIR/subjid/cv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…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nd many more: use --hel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2/13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mri_cvs_register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Optional Arguments (cont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--step1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                </a:t>
            </a: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Only do step 1 (spherical registration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--step2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                </a:t>
            </a: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Only do step 2 (elastic registration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--step3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                </a:t>
            </a: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Only do step 3 (volumetric registration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--noase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                </a:t>
            </a: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Do not use aseg volumes in the volumetric registr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                </a:t>
            </a: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ipeline (default is 0). Setting this option could shorte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                </a:t>
            </a: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significantly the time of registration, however, might also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                </a:t>
            </a: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take away from the accuracy of the final result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2/13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mri_cvs_register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Optional Arguments (cont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--nocleanu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               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Do not delete temporary files (default is 0)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--keepelre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               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Do not delete elastic registration (default is 0) outcome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--cleanal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               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Recompute all CVS-related morphs that might have been computed prior to the current CVS run (def = 0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--cleansurfre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               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Recompute CVS-related surface registration morphs that might have been computed prior to the current CVS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  run (def = 0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--cleanelre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               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Overwrite /recompute the CVS-related elastic registration morph that might have been computed prior to the current CVS run (default is 0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--cleanvolre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               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Overwrite / recompute CVS-related volumetric morphs that might have been computed prior to the current CVS run (default is 0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2/13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VS atla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5" name="Picture 8" descr="CVSatlas-coronal-cr.png"/>
          <p:cNvPicPr/>
          <p:nvPr/>
        </p:nvPicPr>
        <p:blipFill>
          <a:blip r:embed="rId1"/>
          <a:stretch/>
        </p:blipFill>
        <p:spPr>
          <a:xfrm>
            <a:off x="838080" y="1463760"/>
            <a:ext cx="3175200" cy="2727360"/>
          </a:xfrm>
          <a:prstGeom prst="rect">
            <a:avLst/>
          </a:prstGeom>
          <a:ln w="0">
            <a:noFill/>
          </a:ln>
        </p:spPr>
      </p:pic>
      <p:sp>
        <p:nvSpPr>
          <p:cNvPr id="126" name="Date Placeholder 10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2/13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Content Placeholder 7" descr="CVSatlas-axial-cr.png"/>
          <p:cNvPicPr/>
          <p:nvPr/>
        </p:nvPicPr>
        <p:blipFill>
          <a:blip r:embed="rId2"/>
          <a:stretch/>
        </p:blipFill>
        <p:spPr>
          <a:xfrm>
            <a:off x="2768760" y="3581280"/>
            <a:ext cx="3174840" cy="27212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9" descr="CVSatlas-sagittal-cr.png"/>
          <p:cNvPicPr/>
          <p:nvPr/>
        </p:nvPicPr>
        <p:blipFill>
          <a:blip r:embed="rId3"/>
          <a:stretch/>
        </p:blipFill>
        <p:spPr>
          <a:xfrm>
            <a:off x="5283360" y="1463760"/>
            <a:ext cx="3174840" cy="272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related command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mri_cvs_check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hecking whether all files needed for a successful CVS registration are present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mri_cvs_data_cop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pying the CVS-relevant recon directories over to a new location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mri_vol2vo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applying the CVS registration morph to files corresponding to the </a:t>
            </a:r>
            <a:r>
              <a:rPr b="0" i="1" lang="en-US" sz="2600" spc="-1" strike="noStrike">
                <a:solidFill>
                  <a:srgbClr val="ffffff"/>
                </a:solidFill>
                <a:latin typeface="Calibri"/>
              </a:rPr>
              <a:t>moving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 subject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2/13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pplying CVS morph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mri_vol2vo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applying CVS morph to aseg file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Calibri"/>
              </a:rPr>
              <a:t>mri_vol2vol</a:t>
            </a:r>
            <a:r>
              <a:rPr b="1" lang="en-US" sz="19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1900" spc="-1" strike="noStrike">
                <a:solidFill>
                  <a:srgbClr val="ffffff"/>
                </a:solidFill>
                <a:latin typeface="Calibri"/>
              </a:rPr>
              <a:t>--targ templateid --m3z morph.m3z \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19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19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1900" spc="-1" strike="noStrike">
                <a:solidFill>
                  <a:srgbClr val="ffffff"/>
                </a:solidFill>
                <a:latin typeface="Calibri"/>
              </a:rPr>
              <a:t>--noDefM3zPath --mov asegvol \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19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19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1900" spc="-1" strike="noStrike">
                <a:solidFill>
                  <a:srgbClr val="ffffff"/>
                </a:solidFill>
                <a:latin typeface="Calibri"/>
              </a:rPr>
              <a:t>--o asegvol2CVS --interp nearest \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19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19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1900" spc="-1" strike="noStrike">
                <a:solidFill>
                  <a:srgbClr val="ffffff"/>
                </a:solidFill>
                <a:latin typeface="Calibri"/>
              </a:rPr>
              <a:t>--no-save-reg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Calibri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applying morph to corresponding diffusion file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lvl="1" marL="971640" indent="-5144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Calibri"/>
              </a:rPr>
              <a:t>mri_vol2vol</a:t>
            </a:r>
            <a:r>
              <a:rPr b="1" lang="en-US" sz="19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1900" spc="-1" strike="noStrike">
                <a:solidFill>
                  <a:srgbClr val="ffffff"/>
                </a:solidFill>
                <a:latin typeface="Calibri"/>
              </a:rPr>
              <a:t>--targ templateid --m3z morph.m3z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19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19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1900" spc="-1" strike="noStrike">
                <a:solidFill>
                  <a:srgbClr val="ffffff"/>
                </a:solidFill>
                <a:latin typeface="Calibri"/>
              </a:rPr>
              <a:t>--noDefM3zPath --reg 2anat.register.dat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19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19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1900" spc="-1" strike="noStrike">
                <a:solidFill>
                  <a:srgbClr val="ffffff"/>
                </a:solidFill>
                <a:latin typeface="Calibri"/>
              </a:rPr>
              <a:t>--mov diffvol --o diffvol2CVS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19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19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1900" spc="-1" strike="noStrike">
                <a:solidFill>
                  <a:srgbClr val="ffffff"/>
                </a:solidFill>
                <a:latin typeface="Calibri"/>
              </a:rPr>
              <a:t>--no-save-reg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2/13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Oval 6"/>
          <p:cNvSpPr/>
          <p:nvPr/>
        </p:nvSpPr>
        <p:spPr>
          <a:xfrm>
            <a:off x="3886200" y="3124080"/>
            <a:ext cx="2057400" cy="5335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Oval 7"/>
          <p:cNvSpPr/>
          <p:nvPr/>
        </p:nvSpPr>
        <p:spPr>
          <a:xfrm>
            <a:off x="4038480" y="4876920"/>
            <a:ext cx="2590920" cy="6094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pplying CVS morph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applyMorph: use with older style CVS morphs (.tm3d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971640" indent="-514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pplying CVS morph to aseg fil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applyMorph</a:t>
            </a: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--template templateid --transform morph.tm3d\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vol asegvol asegvol2CVS nearest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alibri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pplying morph to corresponding diffusion fil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971640" indent="-514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applyMorph</a:t>
            </a: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--template templateid –transform morph.tm3d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vol diffvol2anat diffvol2CVS linea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2/13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Oval 6"/>
          <p:cNvSpPr/>
          <p:nvPr/>
        </p:nvSpPr>
        <p:spPr>
          <a:xfrm>
            <a:off x="4952880" y="3505320"/>
            <a:ext cx="990720" cy="5331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Oval 7"/>
          <p:cNvSpPr/>
          <p:nvPr/>
        </p:nvSpPr>
        <p:spPr>
          <a:xfrm>
            <a:off x="2590920" y="5410080"/>
            <a:ext cx="1523880" cy="5335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Oval 8"/>
          <p:cNvSpPr/>
          <p:nvPr/>
        </p:nvSpPr>
        <p:spPr>
          <a:xfrm>
            <a:off x="5257800" y="5486400"/>
            <a:ext cx="914400" cy="4572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Oval 9"/>
          <p:cNvSpPr/>
          <p:nvPr/>
        </p:nvSpPr>
        <p:spPr>
          <a:xfrm>
            <a:off x="2209680" y="3581280"/>
            <a:ext cx="609840" cy="3812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Oval 10"/>
          <p:cNvSpPr/>
          <p:nvPr/>
        </p:nvSpPr>
        <p:spPr>
          <a:xfrm>
            <a:off x="2209680" y="5562720"/>
            <a:ext cx="60984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Goal: fiber bundle alignmen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tudy:  compare CVS to methods directly aligning DWI-derived scalar volum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onclusion: high accuracy cross-subject registration based on structural MRI images can provide improved alig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Z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ö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llei, Stevens, Huber, Kakunoori, Fischl: “</a:t>
            </a:r>
            <a:r>
              <a:rPr b="0" i="1" lang="en-US" sz="2400" spc="-1" strike="noStrike">
                <a:solidFill>
                  <a:srgbClr val="ffffff"/>
                </a:solidFill>
                <a:latin typeface="Calibri"/>
              </a:rPr>
              <a:t>Improved Tractography Alignment Using Combined Volumetric and Surface Registration”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,  NeuroImage 51 (2010), 206-21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pplication of CVS to tractography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Date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2/13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verage tracts after registration mapped to the template displayed with iso-surfac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149" name="Group 12"/>
          <p:cNvGrpSpPr/>
          <p:nvPr/>
        </p:nvGrpSpPr>
        <p:grpSpPr>
          <a:xfrm>
            <a:off x="604800" y="2286000"/>
            <a:ext cx="7934400" cy="3201840"/>
            <a:chOff x="604800" y="2286000"/>
            <a:chExt cx="7934400" cy="3201840"/>
          </a:xfrm>
        </p:grpSpPr>
        <p:pic>
          <p:nvPicPr>
            <p:cNvPr id="150" name="Picture 4" descr="composite_cropped"/>
            <p:cNvPicPr/>
            <p:nvPr/>
          </p:nvPicPr>
          <p:blipFill>
            <a:blip r:embed="rId1"/>
            <a:stretch/>
          </p:blipFill>
          <p:spPr>
            <a:xfrm>
              <a:off x="604800" y="2286000"/>
              <a:ext cx="7934400" cy="2705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51" name="Group 10"/>
            <p:cNvGrpSpPr/>
            <p:nvPr/>
          </p:nvGrpSpPr>
          <p:grpSpPr>
            <a:xfrm>
              <a:off x="1546200" y="5119560"/>
              <a:ext cx="5884560" cy="368280"/>
              <a:chOff x="1546200" y="5119560"/>
              <a:chExt cx="5884560" cy="368280"/>
            </a:xfrm>
          </p:grpSpPr>
          <p:sp>
            <p:nvSpPr>
              <p:cNvPr id="152" name="Text Box 7"/>
              <p:cNvSpPr/>
              <p:nvPr/>
            </p:nvSpPr>
            <p:spPr>
              <a:xfrm>
                <a:off x="1546200" y="5119560"/>
                <a:ext cx="674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Calibri"/>
                  </a:rPr>
                  <a:t>FLIR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 Box 8"/>
              <p:cNvSpPr/>
              <p:nvPr/>
            </p:nvSpPr>
            <p:spPr>
              <a:xfrm>
                <a:off x="3959640" y="5119560"/>
                <a:ext cx="1034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Calibri"/>
                  </a:rPr>
                  <a:t>FA-FNIR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 Box 9"/>
              <p:cNvSpPr/>
              <p:nvPr/>
            </p:nvSpPr>
            <p:spPr>
              <a:xfrm>
                <a:off x="6893280" y="5119560"/>
                <a:ext cx="537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Calibri"/>
                  </a:rPr>
                  <a:t>CV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5" name="Date Placeholder 9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2/13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registration tool summary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mris_registe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fslregister: bet + flir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bbregiste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mri_robust_registe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Calibri"/>
              </a:rPr>
              <a:t>mri_cvs_registe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80000"/>
              </a:lnSpc>
              <a:spcBef>
                <a:spcPts val="64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Calibri"/>
              </a:rPr>
              <a:t>mris_register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727920" indent="-280080">
              <a:lnSpc>
                <a:spcPct val="80000"/>
              </a:lnSpc>
              <a:spcBef>
                <a:spcPts val="64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Calibri"/>
              </a:rPr>
              <a:t>mri_nl_align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2/13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Mean Hausdorff distance measures for three fiber bundle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57" name="Picture 5" descr="composite-mean-haus"/>
          <p:cNvPicPr/>
          <p:nvPr/>
        </p:nvPicPr>
        <p:blipFill>
          <a:blip r:embed="rId1"/>
          <a:stretch/>
        </p:blipFill>
        <p:spPr>
          <a:xfrm>
            <a:off x="184320" y="2590920"/>
            <a:ext cx="8775360" cy="2193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158" name="Group 11"/>
          <p:cNvGrpSpPr/>
          <p:nvPr/>
        </p:nvGrpSpPr>
        <p:grpSpPr>
          <a:xfrm>
            <a:off x="1373760" y="4952880"/>
            <a:ext cx="6670440" cy="368280"/>
            <a:chOff x="1373760" y="4952880"/>
            <a:chExt cx="6670440" cy="368280"/>
          </a:xfrm>
        </p:grpSpPr>
        <p:sp>
          <p:nvSpPr>
            <p:cNvPr id="159" name="Text Box 8"/>
            <p:cNvSpPr/>
            <p:nvPr/>
          </p:nvSpPr>
          <p:spPr>
            <a:xfrm>
              <a:off x="1373760" y="4952880"/>
              <a:ext cx="519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C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Text Box 9"/>
            <p:cNvSpPr/>
            <p:nvPr/>
          </p:nvSpPr>
          <p:spPr>
            <a:xfrm>
              <a:off x="4289040" y="4952880"/>
              <a:ext cx="439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IL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Text Box 10"/>
            <p:cNvSpPr/>
            <p:nvPr/>
          </p:nvSpPr>
          <p:spPr>
            <a:xfrm>
              <a:off x="6886440" y="4952880"/>
              <a:ext cx="115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UNCINA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" name="Date Placeholder 8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2/13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Functional MRI analysis in CVS spac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64" name="Content Placeholder 4" descr="freesurfer-face-parcels.jpeg"/>
          <p:cNvPicPr/>
          <p:nvPr/>
        </p:nvPicPr>
        <p:blipFill>
          <a:blip r:embed="rId1"/>
          <a:stretch/>
        </p:blipFill>
        <p:spPr>
          <a:xfrm>
            <a:off x="1523880" y="1447920"/>
            <a:ext cx="6096240" cy="4572000"/>
          </a:xfrm>
          <a:prstGeom prst="rect">
            <a:avLst/>
          </a:prstGeom>
          <a:ln w="0">
            <a:noFill/>
          </a:ln>
        </p:spPr>
      </p:pic>
      <p:sp>
        <p:nvSpPr>
          <p:cNvPr id="16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2/13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5"/>
          <p:cNvSpPr/>
          <p:nvPr/>
        </p:nvSpPr>
        <p:spPr>
          <a:xfrm>
            <a:off x="581040" y="5943600"/>
            <a:ext cx="814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llaboration with Kami Koldewyn, Joshua Julien and Nancy Kanwisher at M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mprove CVS capability to register ex-vivo to in-vivo acquisitio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mplemented MI-based volumetric registration (for CVS step 3) to accommodate intensity profile differenc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Qualitative preliminary results on 4 subjec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L. Zöllei, Allison Stevens, Bruce Fischl: </a:t>
            </a:r>
            <a:r>
              <a:rPr b="0" i="1" lang="en-US" sz="2200" spc="-1" strike="noStrike">
                <a:solidFill>
                  <a:srgbClr val="ffffff"/>
                </a:solidFill>
                <a:latin typeface="Calibri"/>
              </a:rPr>
              <a:t>Non-linear Registration of Intra-subject Ex-vivo and In-vivo Brain Acquisitions, </a:t>
            </a: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uman Brain Mapping, June 2010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L. Zöllei, B. Fischl, </a:t>
            </a:r>
            <a:r>
              <a:rPr b="0" i="1" lang="en-US" sz="2200" spc="-1" strike="noStrike">
                <a:solidFill>
                  <a:srgbClr val="ffffff"/>
                </a:solidFill>
                <a:latin typeface="Calibri"/>
              </a:rPr>
              <a:t>Automatic segmentation of ex-vivo MRI images using CVS in FreeSurfer, HBM 2011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Ongoing developmen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9" name="Date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2/13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0" name="Group 105"/>
          <p:cNvGrpSpPr/>
          <p:nvPr/>
        </p:nvGrpSpPr>
        <p:grpSpPr>
          <a:xfrm>
            <a:off x="1407960" y="1434960"/>
            <a:ext cx="6324480" cy="4726800"/>
            <a:chOff x="1407960" y="1434960"/>
            <a:chExt cx="6324480" cy="4726800"/>
          </a:xfrm>
        </p:grpSpPr>
        <p:grpSp>
          <p:nvGrpSpPr>
            <p:cNvPr id="171" name="Group 66"/>
            <p:cNvGrpSpPr/>
            <p:nvPr/>
          </p:nvGrpSpPr>
          <p:grpSpPr>
            <a:xfrm>
              <a:off x="1407960" y="1434960"/>
              <a:ext cx="6324480" cy="4343400"/>
              <a:chOff x="1407960" y="1434960"/>
              <a:chExt cx="6324480" cy="4343400"/>
            </a:xfrm>
          </p:grpSpPr>
          <p:sp>
            <p:nvSpPr>
              <p:cNvPr id="172" name="Rectangle 45"/>
              <p:cNvSpPr/>
              <p:nvPr/>
            </p:nvSpPr>
            <p:spPr>
              <a:xfrm>
                <a:off x="1407960" y="1434960"/>
                <a:ext cx="6324480" cy="43434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3" name="Group 46"/>
              <p:cNvGrpSpPr/>
              <p:nvPr/>
            </p:nvGrpSpPr>
            <p:grpSpPr>
              <a:xfrm>
                <a:off x="1407960" y="1434960"/>
                <a:ext cx="6298560" cy="4311360"/>
                <a:chOff x="1407960" y="1434960"/>
                <a:chExt cx="6298560" cy="4311360"/>
              </a:xfrm>
            </p:grpSpPr>
            <p:grpSp>
              <p:nvGrpSpPr>
                <p:cNvPr id="174" name="Group 42"/>
                <p:cNvGrpSpPr/>
                <p:nvPr/>
              </p:nvGrpSpPr>
              <p:grpSpPr>
                <a:xfrm>
                  <a:off x="1436040" y="4330440"/>
                  <a:ext cx="6239880" cy="1415880"/>
                  <a:chOff x="1436040" y="4330440"/>
                  <a:chExt cx="6239880" cy="1415880"/>
                </a:xfrm>
              </p:grpSpPr>
              <p:pic>
                <p:nvPicPr>
                  <p:cNvPr id="175" name="Picture 29" descr="sag-CVS2-wSurf-cr"/>
                  <p:cNvPicPr/>
                  <p:nvPr/>
                </p:nvPicPr>
                <p:blipFill>
                  <a:blip r:embed="rId1"/>
                  <a:stretch/>
                </p:blipFill>
                <p:spPr>
                  <a:xfrm>
                    <a:off x="4566240" y="4330440"/>
                    <a:ext cx="1547640" cy="141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76" name="Picture 34" descr="sag-target-wSurf-cr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36040" y="4330440"/>
                    <a:ext cx="1547640" cy="141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77" name="Picture 35" descr="sag-pialmasked-target-wSurf-cr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39120" y="4330440"/>
                    <a:ext cx="1547640" cy="141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78" name="Picture 36" descr="sag-demons-1000-1000-tomasked-wSurf-cr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28640" y="4330440"/>
                    <a:ext cx="1547280" cy="141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grpSp>
              <p:nvGrpSpPr>
                <p:cNvPr id="179" name="Group 44"/>
                <p:cNvGrpSpPr/>
                <p:nvPr/>
              </p:nvGrpSpPr>
              <p:grpSpPr>
                <a:xfrm>
                  <a:off x="1407960" y="1434960"/>
                  <a:ext cx="6298560" cy="1519200"/>
                  <a:chOff x="1407960" y="1434960"/>
                  <a:chExt cx="6298560" cy="1519200"/>
                </a:xfrm>
              </p:grpSpPr>
              <p:pic>
                <p:nvPicPr>
                  <p:cNvPr id="180" name="Picture 24" descr="ax-target-wSurf-cr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407960" y="1466640"/>
                    <a:ext cx="160632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81" name="Picture 25" descr="ax-pialmasked-target-wSurf-cr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11040" y="1434960"/>
                    <a:ext cx="160596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82" name="Picture 26" descr="ax-demons-1000-1000-tomasked-wSurf-cr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100200" y="1434960"/>
                    <a:ext cx="160632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83" name="Picture 27" descr="ax-CVS2-wSurf-cr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538160" y="1434960"/>
                    <a:ext cx="160632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grpSp>
              <p:nvGrpSpPr>
                <p:cNvPr id="184" name="Group 43"/>
                <p:cNvGrpSpPr/>
                <p:nvPr/>
              </p:nvGrpSpPr>
              <p:grpSpPr>
                <a:xfrm>
                  <a:off x="1478880" y="2958840"/>
                  <a:ext cx="6155640" cy="1333440"/>
                  <a:chOff x="1478880" y="2958840"/>
                  <a:chExt cx="6155640" cy="1333440"/>
                </a:xfrm>
              </p:grpSpPr>
              <p:pic>
                <p:nvPicPr>
                  <p:cNvPr id="185" name="Picture 30" descr="cor-target-wSurf-cr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478880" y="2958840"/>
                    <a:ext cx="1463400" cy="13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86" name="Picture 31" descr="cor-pialmasked-target-wSurf-cr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081960" y="2958840"/>
                    <a:ext cx="1463400" cy="13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87" name="Picture 32" descr="cor-demons-1000-1000-tomasked-wSurf-cr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6171480" y="2958840"/>
                    <a:ext cx="1463040" cy="13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88" name="Picture 33" descr="cor-CVS2-wSurf-cr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609080" y="2958840"/>
                    <a:ext cx="1463400" cy="13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</p:grpSp>
        </p:grpSp>
        <p:sp>
          <p:nvSpPr>
            <p:cNvPr id="189" name="Text Box 47"/>
            <p:cNvSpPr/>
            <p:nvPr/>
          </p:nvSpPr>
          <p:spPr>
            <a:xfrm>
              <a:off x="1474920" y="5854680"/>
              <a:ext cx="4966200" cy="307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</a:rPr>
                <a:t>Target (in-vivo)   Masked target       2-step CVS           CVS with MI 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Subject 1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1" name="Date Placeholder 2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2/13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registration morph summary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.dat, .lta, .xfm, .fslmat: encode rigid and affine transformation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mri_vol2vo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phere.reg: encodes spherical morph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mris_resample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Calibri"/>
              </a:rPr>
              <a:t>.m3z, .tm3d: encode nonlinear volumetric morph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Calibri"/>
              </a:rPr>
              <a:t>mri_vol2vol, applyMorph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2/13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 new registration solution?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urface-based (2D) registration does an excellent job of aligning cortical folds, but does not apply to  non-cortical structures (e.g. basal ganglia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Volumetric (3D) registration applies to the entire brain but does not, in general, align folding patter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Goal: combined their strengt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Rectangle 5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Date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2/13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10880"/>
            <a:ext cx="7772400" cy="15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Why aligning folds in the volume is hard…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64" name="Object 3"/>
          <p:cNvGraphicFramePr/>
          <p:nvPr/>
        </p:nvGraphicFramePr>
        <p:xfrm>
          <a:off x="1825560" y="1523880"/>
          <a:ext cx="549432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5560" y="1523880"/>
                    <a:ext cx="549432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Text Box 4"/>
          <p:cNvSpPr/>
          <p:nvPr/>
        </p:nvSpPr>
        <p:spPr>
          <a:xfrm>
            <a:off x="712800" y="5987880"/>
            <a:ext cx="7718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ffine transform of surfaces from one subject mapped to anoth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Date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2/13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Line 4"/>
          <p:cNvSpPr/>
          <p:nvPr/>
        </p:nvSpPr>
        <p:spPr>
          <a:xfrm>
            <a:off x="685800" y="990720"/>
            <a:ext cx="83059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10" descr="cols-20-z"/>
          <p:cNvPicPr/>
          <p:nvPr/>
        </p:nvPicPr>
        <p:blipFill>
          <a:blip r:embed="rId1"/>
          <a:stretch/>
        </p:blipFill>
        <p:spPr>
          <a:xfrm>
            <a:off x="1509840" y="1065240"/>
            <a:ext cx="7619760" cy="56563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1" descr="cols-flirt25-z"/>
          <p:cNvPicPr/>
          <p:nvPr/>
        </p:nvPicPr>
        <p:blipFill>
          <a:blip r:embed="rId2"/>
          <a:stretch/>
        </p:blipFill>
        <p:spPr>
          <a:xfrm>
            <a:off x="1511280" y="1066680"/>
            <a:ext cx="7632720" cy="56660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2" descr="cols-hammer25-z"/>
          <p:cNvPicPr/>
          <p:nvPr/>
        </p:nvPicPr>
        <p:blipFill>
          <a:blip r:embed="rId3"/>
          <a:stretch/>
        </p:blipFill>
        <p:spPr>
          <a:xfrm>
            <a:off x="1511280" y="1066680"/>
            <a:ext cx="7632720" cy="56660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3" descr="zoom-flirt25"/>
          <p:cNvPicPr/>
          <p:nvPr/>
        </p:nvPicPr>
        <p:blipFill>
          <a:blip r:embed="rId4"/>
          <a:stretch/>
        </p:blipFill>
        <p:spPr>
          <a:xfrm>
            <a:off x="3184560" y="3352680"/>
            <a:ext cx="2571840" cy="33339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4" descr="zoom-hammer25"/>
          <p:cNvPicPr/>
          <p:nvPr/>
        </p:nvPicPr>
        <p:blipFill>
          <a:blip r:embed="rId5"/>
          <a:stretch/>
        </p:blipFill>
        <p:spPr>
          <a:xfrm>
            <a:off x="3184560" y="3352680"/>
            <a:ext cx="2571840" cy="333396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16"/>
          <p:cNvSpPr/>
          <p:nvPr/>
        </p:nvSpPr>
        <p:spPr>
          <a:xfrm>
            <a:off x="4100400" y="3884760"/>
            <a:ext cx="1752840" cy="2133360"/>
          </a:xfrm>
          <a:prstGeom prst="rect">
            <a:avLst/>
          </a:prstGeom>
          <a:noFill/>
          <a:ln w="5724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7"/>
          <p:cNvSpPr/>
          <p:nvPr/>
        </p:nvSpPr>
        <p:spPr>
          <a:xfrm>
            <a:off x="0" y="1143000"/>
            <a:ext cx="144792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Aff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Nonline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Group 23"/>
          <p:cNvGrpSpPr/>
          <p:nvPr/>
        </p:nvGrpSpPr>
        <p:grpSpPr>
          <a:xfrm>
            <a:off x="2905560" y="1143000"/>
            <a:ext cx="2047320" cy="1371600"/>
            <a:chOff x="2905560" y="1143000"/>
            <a:chExt cx="2047320" cy="1371600"/>
          </a:xfrm>
        </p:grpSpPr>
        <p:sp>
          <p:nvSpPr>
            <p:cNvPr id="77" name="Text Box 19"/>
            <p:cNvSpPr/>
            <p:nvPr/>
          </p:nvSpPr>
          <p:spPr>
            <a:xfrm>
              <a:off x="2905560" y="1143000"/>
              <a:ext cx="183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pial surfac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Line 21"/>
            <p:cNvSpPr/>
            <p:nvPr/>
          </p:nvSpPr>
          <p:spPr>
            <a:xfrm>
              <a:off x="4114800" y="1676520"/>
              <a:ext cx="838080" cy="838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Group 24"/>
          <p:cNvGrpSpPr/>
          <p:nvPr/>
        </p:nvGrpSpPr>
        <p:grpSpPr>
          <a:xfrm>
            <a:off x="5941080" y="1143000"/>
            <a:ext cx="1935000" cy="1219320"/>
            <a:chOff x="5941080" y="1143000"/>
            <a:chExt cx="1935000" cy="1219320"/>
          </a:xfrm>
        </p:grpSpPr>
        <p:sp>
          <p:nvSpPr>
            <p:cNvPr id="80" name="Text Box 20"/>
            <p:cNvSpPr/>
            <p:nvPr/>
          </p:nvSpPr>
          <p:spPr>
            <a:xfrm>
              <a:off x="5941080" y="1143000"/>
              <a:ext cx="193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WM surfac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Line 22"/>
            <p:cNvSpPr/>
            <p:nvPr/>
          </p:nvSpPr>
          <p:spPr>
            <a:xfrm flipH="1">
              <a:off x="5943600" y="1676520"/>
              <a:ext cx="914400" cy="685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Date Placeholder 1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2/13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Combined volumetric and surface-based registration (CVS)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herical align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lastic propagation of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rtical registration result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the 3D volu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olumetric alignment of sub-cortical reg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4" descr="mesh-view"/>
          <p:cNvPicPr/>
          <p:nvPr/>
        </p:nvPicPr>
        <p:blipFill>
          <a:blip r:embed="rId1"/>
          <a:stretch/>
        </p:blipFill>
        <p:spPr>
          <a:xfrm>
            <a:off x="5846760" y="3743280"/>
            <a:ext cx="1773360" cy="1743120"/>
          </a:xfrm>
          <a:prstGeom prst="rect">
            <a:avLst/>
          </a:prstGeom>
          <a:ln w="0">
            <a:noFill/>
          </a:ln>
        </p:spPr>
      </p:pic>
      <p:grpSp>
        <p:nvGrpSpPr>
          <p:cNvPr id="86" name="Group 5"/>
          <p:cNvGrpSpPr/>
          <p:nvPr/>
        </p:nvGrpSpPr>
        <p:grpSpPr>
          <a:xfrm>
            <a:off x="4952880" y="2287440"/>
            <a:ext cx="3400560" cy="1141560"/>
            <a:chOff x="4952880" y="2287440"/>
            <a:chExt cx="3400560" cy="1141560"/>
          </a:xfrm>
        </p:grpSpPr>
        <p:pic>
          <p:nvPicPr>
            <p:cNvPr id="87" name="Picture 6" descr="lh"/>
            <p:cNvPicPr/>
            <p:nvPr/>
          </p:nvPicPr>
          <p:blipFill>
            <a:blip r:embed="rId2"/>
            <a:stretch/>
          </p:blipFill>
          <p:spPr>
            <a:xfrm>
              <a:off x="4952880" y="2287440"/>
              <a:ext cx="1141560" cy="1141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" name="Picture 7" descr="lh"/>
            <p:cNvPicPr/>
            <p:nvPr/>
          </p:nvPicPr>
          <p:blipFill>
            <a:blip r:embed="rId3"/>
            <a:stretch/>
          </p:blipFill>
          <p:spPr>
            <a:xfrm>
              <a:off x="6069600" y="2287440"/>
              <a:ext cx="1141560" cy="1141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" name="Picture 8" descr="lh"/>
            <p:cNvPicPr/>
            <p:nvPr/>
          </p:nvPicPr>
          <p:blipFill>
            <a:blip r:embed="rId4"/>
            <a:stretch/>
          </p:blipFill>
          <p:spPr>
            <a:xfrm>
              <a:off x="7211520" y="2287440"/>
              <a:ext cx="1141920" cy="1141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0" name="Line 10"/>
          <p:cNvSpPr/>
          <p:nvPr/>
        </p:nvSpPr>
        <p:spPr>
          <a:xfrm>
            <a:off x="457200" y="2133720"/>
            <a:ext cx="83059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Date Placeholder 10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2/13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Resulting morph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228600" y="1219320"/>
            <a:ext cx="205740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Templ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Elast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CV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Templ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5" descr="crop2-ncols-20-y"/>
          <p:cNvPicPr/>
          <p:nvPr/>
        </p:nvPicPr>
        <p:blipFill>
          <a:blip r:embed="rId1"/>
          <a:stretch/>
        </p:blipFill>
        <p:spPr>
          <a:xfrm>
            <a:off x="3127320" y="987480"/>
            <a:ext cx="4442040" cy="57751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" descr="crop2-ncols-elastic25-y"/>
          <p:cNvPicPr/>
          <p:nvPr/>
        </p:nvPicPr>
        <p:blipFill>
          <a:blip r:embed="rId2"/>
          <a:stretch/>
        </p:blipFill>
        <p:spPr>
          <a:xfrm>
            <a:off x="3127320" y="987480"/>
            <a:ext cx="4442040" cy="57751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7" descr="crop2-ncols-elastic+i25-y"/>
          <p:cNvPicPr/>
          <p:nvPr/>
        </p:nvPicPr>
        <p:blipFill>
          <a:blip r:embed="rId3"/>
          <a:stretch/>
        </p:blipFill>
        <p:spPr>
          <a:xfrm>
            <a:off x="3127320" y="987480"/>
            <a:ext cx="4442040" cy="57751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8" descr="crop2-ncols-20-y"/>
          <p:cNvPicPr/>
          <p:nvPr/>
        </p:nvPicPr>
        <p:blipFill>
          <a:blip r:embed="rId4"/>
          <a:stretch/>
        </p:blipFill>
        <p:spPr>
          <a:xfrm>
            <a:off x="3127320" y="987480"/>
            <a:ext cx="4442040" cy="5775120"/>
          </a:xfrm>
          <a:prstGeom prst="rect">
            <a:avLst/>
          </a:prstGeom>
          <a:ln w="0">
            <a:noFill/>
          </a:ln>
        </p:spPr>
      </p:pic>
      <p:sp>
        <p:nvSpPr>
          <p:cNvPr id="98" name="Date Placeholder 9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2/13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" name="Group 24"/>
          <p:cNvGrpSpPr/>
          <p:nvPr/>
        </p:nvGrpSpPr>
        <p:grpSpPr>
          <a:xfrm>
            <a:off x="457200" y="57240"/>
            <a:ext cx="3308400" cy="3450600"/>
            <a:chOff x="457200" y="57240"/>
            <a:chExt cx="3308400" cy="3450600"/>
          </a:xfrm>
        </p:grpSpPr>
        <p:pic>
          <p:nvPicPr>
            <p:cNvPr id="100" name="Picture 14" descr="cropped_ibsr-tmi-seg-atlas-y"/>
            <p:cNvPicPr/>
            <p:nvPr/>
          </p:nvPicPr>
          <p:blipFill>
            <a:blip r:embed="rId1"/>
            <a:stretch/>
          </p:blipFill>
          <p:spPr>
            <a:xfrm>
              <a:off x="457200" y="57240"/>
              <a:ext cx="3308400" cy="337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Text Box 16"/>
            <p:cNvSpPr/>
            <p:nvPr/>
          </p:nvSpPr>
          <p:spPr>
            <a:xfrm>
              <a:off x="560160" y="3048120"/>
              <a:ext cx="1355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alibri"/>
                </a:rPr>
                <a:t>Templa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" name="Group 21"/>
          <p:cNvGrpSpPr/>
          <p:nvPr/>
        </p:nvGrpSpPr>
        <p:grpSpPr>
          <a:xfrm>
            <a:off x="457200" y="3562200"/>
            <a:ext cx="3308400" cy="3371760"/>
            <a:chOff x="457200" y="3562200"/>
            <a:chExt cx="3308400" cy="3371760"/>
          </a:xfrm>
        </p:grpSpPr>
        <p:pic>
          <p:nvPicPr>
            <p:cNvPr id="103" name="Picture 11" descr="cropped_ibsr-tmi-seg-flirt-y"/>
            <p:cNvPicPr/>
            <p:nvPr/>
          </p:nvPicPr>
          <p:blipFill>
            <a:blip r:embed="rId2"/>
            <a:stretch/>
          </p:blipFill>
          <p:spPr>
            <a:xfrm>
              <a:off x="457200" y="3562200"/>
              <a:ext cx="3308400" cy="337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Text Box 17"/>
            <p:cNvSpPr/>
            <p:nvPr/>
          </p:nvSpPr>
          <p:spPr>
            <a:xfrm>
              <a:off x="535320" y="6457680"/>
              <a:ext cx="839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alibri"/>
                </a:rPr>
                <a:t>FLIR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Group 25"/>
          <p:cNvGrpSpPr/>
          <p:nvPr/>
        </p:nvGrpSpPr>
        <p:grpSpPr>
          <a:xfrm>
            <a:off x="5334120" y="76320"/>
            <a:ext cx="3308400" cy="3431520"/>
            <a:chOff x="5334120" y="76320"/>
            <a:chExt cx="3308400" cy="3431520"/>
          </a:xfrm>
        </p:grpSpPr>
        <p:pic>
          <p:nvPicPr>
            <p:cNvPr id="106" name="Picture 5" descr="cropped_ibsr-tmi-seg-hammer-y"/>
            <p:cNvPicPr/>
            <p:nvPr/>
          </p:nvPicPr>
          <p:blipFill>
            <a:blip r:embed="rId3"/>
            <a:stretch/>
          </p:blipFill>
          <p:spPr>
            <a:xfrm>
              <a:off x="5334120" y="76320"/>
              <a:ext cx="3308400" cy="337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Text Box 18"/>
            <p:cNvSpPr/>
            <p:nvPr/>
          </p:nvSpPr>
          <p:spPr>
            <a:xfrm>
              <a:off x="5395680" y="3048120"/>
              <a:ext cx="138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alibri"/>
                </a:rPr>
                <a:t>HAMM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Group 23"/>
          <p:cNvGrpSpPr/>
          <p:nvPr/>
        </p:nvGrpSpPr>
        <p:grpSpPr>
          <a:xfrm>
            <a:off x="5334120" y="3562200"/>
            <a:ext cx="3308400" cy="3371760"/>
            <a:chOff x="5334120" y="3562200"/>
            <a:chExt cx="3308400" cy="3371760"/>
          </a:xfrm>
        </p:grpSpPr>
        <p:pic>
          <p:nvPicPr>
            <p:cNvPr id="109" name="Picture 8" descr="cropped_ibsr-tmi-seg-r17i-y"/>
            <p:cNvPicPr/>
            <p:nvPr/>
          </p:nvPicPr>
          <p:blipFill>
            <a:blip r:embed="rId4"/>
            <a:stretch/>
          </p:blipFill>
          <p:spPr>
            <a:xfrm>
              <a:off x="5334120" y="3562200"/>
              <a:ext cx="3308400" cy="337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Text Box 19"/>
            <p:cNvSpPr/>
            <p:nvPr/>
          </p:nvSpPr>
          <p:spPr>
            <a:xfrm>
              <a:off x="5391720" y="6457680"/>
              <a:ext cx="656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alibri"/>
                </a:rPr>
                <a:t>CV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Date Placeholder 1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2/13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4T14:19:26Z</dcterms:created>
  <dc:creator>LZ</dc:creator>
  <dc:description/>
  <dc:language>en-US</dc:language>
  <cp:lastModifiedBy>Allison</cp:lastModifiedBy>
  <dcterms:modified xsi:type="dcterms:W3CDTF">2012-03-26T03:54:08Z</dcterms:modified>
  <cp:revision>92</cp:revision>
  <dc:subject/>
  <dc:title>Registration</dc:title>
</cp:coreProperties>
</file>