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2FD971-9CAD-4E3A-8EF7-B9E6F649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6AE994-4BDD-42ED-B9BC-2E2A4614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0D95F2-88CD-401E-AEFF-CA3F8652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849898-6E49-43D9-A8B1-4E464B66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930A2E-0809-4F8C-B492-3DA83867C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ECDF13-50BC-4BC4-8B94-D34B86CE9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8D48DA-1520-4069-B5FF-D4F0C2D3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131-07E9-4D76-BC91-048E7680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217-CADB-45D5-9DDF-944BE4D3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898-CC12-436A-9373-A7FF2612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E53-C177-470B-BBBE-45685BDE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02D0A-7136-49DB-9B03-6BA88A005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000A0-9C03-4FA5-AD9C-F05CD9A38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C4D9-DEF2-47BB-89A0-9AA586D5C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899DF-0BF1-433C-8ECD-467DBFD2EA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D6561-5F26-48D1-835A-1FCE4B2050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4FF25-40ED-4B32-8A6D-1079D8B80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7F2C1-CC4D-43C8-8ADD-AC63786E6E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2D7-6B46-489A-88B6-1BD89AE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9E19-8C09-4A70-B133-9B20B1691C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991A8-5CA6-4F3E-B929-AF8D3E9C9E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44A21-4868-4387-A9F8-174EB7F99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042C-B245-4CA2-995C-57BD3F5DE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6607-A6A8-4673-BA0C-CB5927C08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AE-99C6-4F65-95CB-367C4256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DE2-8727-4712-847F-04B3491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10B-FB2D-4626-A75D-195B1F2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727-F8A7-4435-BFCF-BB78CB1A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20B-37D8-4261-9FCB-3F23FF2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1FC-E6FD-43B5-B8F5-7B8FE66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5BA-D2B6-4638-A5CD-BE02594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AD0-BA8D-4F08-9CEB-853D3487853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6F0-6749-490D-B5C7-1ECCDF8D3D2D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–subject bert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bold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it-fsl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reg register.da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subjec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contr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Initialize with FSL-FLI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AF2A-B9E1-4430-9984-C5C9A633D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kregister2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reg register.dat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surf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isplay white 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48443-FFED-46B1-8A8F-BA8EA478E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FEDB-E250-4967-A9A3-07C5D8C0A2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C7AF0-1B91-4152-BDD9-2567D0ECC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F38B3-C888-4806-AB05-E13EE50ACF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44E-D50C-4A2F-A969-FCF19A4FD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CEC-B812-41AD-B717-9D216D15F9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42607-40AE-46D1-8C76-857AAC0E85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72EED-4513-475C-9131-7B29A56E66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523880"/>
            <a:ext cx="79250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E75-D5D4-47BE-9758-201CC0BF9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33C9C-55BD-466A-BD62-6DB3E1F1CF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71560"/>
            <a:ext cx="8915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–aparc+ase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sig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2 –fmax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sig.nii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ignificance map in native functional space. could have been z, t, or F map as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register.dat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thresh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lower threshold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max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aturation threshold.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aparc+aseg – display aparc+aseg.mgz. Can load this from the interface too</a:t>
            </a:r>
            <a:r>
              <a:rPr b="0" lang="en-US" sz="2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8D56E-CBCD-4E75-A302-9599AE82B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67080" y="762120"/>
            <a:ext cx="3916080" cy="3352680"/>
            <a:chOff x="4267080" y="762120"/>
            <a:chExt cx="391608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5276" t="10173" r="5018" b="15256"/>
            <a:stretch/>
          </p:blipFill>
          <p:spPr>
            <a:xfrm>
              <a:off x="4267080" y="762120"/>
              <a:ext cx="38862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V="1">
              <a:off x="6705360" y="152388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9440" y="12193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5400" y="1219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152388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3809880"/>
            <a:ext cx="2895480" cy="2362320"/>
            <a:chOff x="533520" y="3809880"/>
            <a:chExt cx="2895480" cy="2362320"/>
          </a:xfrm>
        </p:grpSpPr>
        <p:sp>
          <p:nvSpPr>
            <p:cNvPr id="277" name=""/>
            <p:cNvSpPr/>
            <p:nvPr/>
          </p:nvSpPr>
          <p:spPr>
            <a:xfrm>
              <a:off x="533520" y="3809880"/>
              <a:ext cx="2514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White/G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Half 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541008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rojection 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--projfrac 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rcRect l="10530" t="39430" r="2629" b="19871"/>
          <a:stretch/>
        </p:blipFill>
        <p:spPr>
          <a:xfrm>
            <a:off x="3733920" y="4191120"/>
            <a:ext cx="5029200" cy="2438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1318" t="20352" r="2629" b="16056"/>
          <a:stretch/>
        </p:blipFill>
        <p:spPr>
          <a:xfrm>
            <a:off x="304920" y="990720"/>
            <a:ext cx="3429000" cy="23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V="1">
            <a:off x="6151680" y="2361960"/>
            <a:ext cx="457200" cy="2819160"/>
          </a:xfrm>
          <a:prstGeom prst="line">
            <a:avLst/>
          </a:prstGeom>
          <a:ln w="38160">
            <a:solidFill>
              <a:srgbClr val="f10d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1262" t="21674" r="1262" b="19841"/>
          <a:stretch/>
        </p:blipFill>
        <p:spPr>
          <a:xfrm>
            <a:off x="4190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rcRect l="1262" t="21674" r="1262" b="19841"/>
          <a:stretch/>
        </p:blipFill>
        <p:spPr>
          <a:xfrm>
            <a:off x="33908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1262" t="21674" r="1262" b="19841"/>
          <a:stretch/>
        </p:blipFill>
        <p:spPr>
          <a:xfrm>
            <a:off x="632628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rcRect l="1262" t="21674" r="1262" b="19841"/>
          <a:stretch/>
        </p:blipFill>
        <p:spPr>
          <a:xfrm>
            <a:off x="4190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1262" t="21674" r="1262" b="19841"/>
          <a:stretch/>
        </p:blipFill>
        <p:spPr>
          <a:xfrm>
            <a:off x="33908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1262" t="21674" r="1262" b="19841"/>
          <a:stretch/>
        </p:blipFill>
        <p:spPr>
          <a:xfrm>
            <a:off x="632448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rcRect l="1262" t="21674" r="1262" b="19841"/>
          <a:stretch/>
        </p:blipFill>
        <p:spPr>
          <a:xfrm>
            <a:off x="419040" y="5084640"/>
            <a:ext cx="2594160" cy="1609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rcRect l="1262" t="21674" r="1262" b="19841"/>
          <a:stretch/>
        </p:blipFill>
        <p:spPr>
          <a:xfrm>
            <a:off x="3392640" y="50846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rcRect l="1262" t="21674" r="1262" b="19841"/>
          <a:stretch/>
        </p:blipFill>
        <p:spPr>
          <a:xfrm>
            <a:off x="6326280" y="5084640"/>
            <a:ext cx="259236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80880" y="59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204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5904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0240" y="59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 (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6360" y="466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0 (p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40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99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9160" y="-3816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: Projection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31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3341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ksurfer subject lh inflated -aparc   –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00" y="121932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18E3E-CC95-46F6-B820-759EFE118C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E7A-58A1-47E6-AAE7-A1CDDC829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Full Anatomical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371600" y="942840"/>
            <a:ext cx="5846760" cy="3171600"/>
            <a:chOff x="1371600" y="942840"/>
            <a:chExt cx="5846760" cy="317160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1371600" y="942840"/>
              <a:ext cx="3003480" cy="31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4214880" y="942840"/>
              <a:ext cx="3003480" cy="31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"/>
          <p:cNvSpPr/>
          <p:nvPr/>
        </p:nvSpPr>
        <p:spPr>
          <a:xfrm>
            <a:off x="1447920" y="42670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average functional HRF amplitudes from all voxels inside of post-central gyrus (red) regardless of whether a voxel is significant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14B2-31CF-4DE7-A491-3FC0FB30E7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371600"/>
            <a:ext cx="56386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mov ces.nii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ces.anat.m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6440" y="4343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6200" y="1395360"/>
            <a:ext cx="5375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RF map in function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Nearest neighbor interp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pecify anatomical output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file in anatomic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0EDFD-BB0C-4882-8C8A-FD2914E2C2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2952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06278-4DCC-413D-877F-97419D3213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verage HRF within a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unctionally Activ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area inside of an Anatomical ROI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371600" y="1046160"/>
            <a:ext cx="5846760" cy="3171600"/>
            <a:chOff x="1371600" y="1046160"/>
            <a:chExt cx="5846760" cy="317160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1371600" y="1046160"/>
              <a:ext cx="3003480" cy="31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4214880" y="1046160"/>
              <a:ext cx="3003480" cy="31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/>
          <p:cNvSpPr/>
          <p:nvPr/>
        </p:nvSpPr>
        <p:spPr>
          <a:xfrm>
            <a:off x="380880" y="53341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regardless of sign (yellow or blue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for positive activation (yellow only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&lt;.01 (sig&gt;2) for negative activation (blu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average functional HRF amplitudes from voxels inside of post-central gyrus (red) for voxels tha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14698-1040-4F00-8A20-A73C2611BE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6440" y="434196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3716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mov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nii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anat.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36407-95A9-4C1F-A3BA-DD33836D10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295280"/>
            <a:ext cx="8763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344340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7D708-CE80-40F0-8F77-9F4F17FEBB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371600"/>
            <a:ext cx="830592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s_preproc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hemi l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lh.fsaverage.ces.mg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1/ces.nii subject1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2/ces.nii subject2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3/ces.nii subject3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s_fwhm --i lh.fsaverage.ces.mgh --fwhm 10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lh.fsaverage.ces.sm10.mgh --corte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glmfit --surf fsaverage lh –cortex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y lh.fsaverage.ces.sm10.mgh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D4897-C2D2-4BEC-980C-0FFEA80C4F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-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 D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AB4B-DB09-4E34-99A9-2E7C53D205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430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843D-21DA-47D4-B2FD-07477EC5B4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5DC-11B2-4A7F-8142-B36192F582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C97-308D-4DB0-8E45-10813FFF5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2F8D6-6603-418E-8264-A0BC9D317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8CB26-80E0-46A7-ABBB-2436BD015B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3E52A-BA5C-4AB0-94C4-2EA803E738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53897-F899-42FF-B0CF-082A75D611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greve</cp:lastModifiedBy>
  <dcterms:modified xsi:type="dcterms:W3CDTF">2011-03-28T13:51:05Z</dcterms:modified>
  <cp:revision>871</cp:revision>
  <dc:subject/>
  <dc:title>Multimodal Integration in FreeSurfer</dc:title>
</cp:coreProperties>
</file>