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0.xml" ContentType="application/vnd.openxmlformats-officedocument.presentationml.notesSlide+xml"/>
  <Override PartName="/ppt/notesSlides/_rels/notesSlide4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10288588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934560" y="4387680"/>
            <a:ext cx="5140440" cy="4158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917640" y="696600"/>
            <a:ext cx="5176800" cy="345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917640" y="696960"/>
            <a:ext cx="5176800" cy="345132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34560" y="4387680"/>
            <a:ext cx="5140440" cy="4158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tter how many data points you have, there is still only one slope and one intercep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909720" y="692280"/>
            <a:ext cx="5195880" cy="346392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34560" y="4387320"/>
            <a:ext cx="5140440" cy="415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SUBJECTS_DIR, issue a command (mksubjdirs) to create directory structure. Convert (using mri_convert) data to COR format and store in mri/RRR, run recon-all. Typically, we acquire 3 high-quality T1 volumes to use as input to reconstruction (128-slice sagital, 1 mm in-plane resolu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909720" y="692280"/>
            <a:ext cx="5195880" cy="346392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34560" y="4387320"/>
            <a:ext cx="5140440" cy="415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SUBJECTS_DIR, issue a command (mksubjdirs) to create directory structure. Convert (using mri_convert) data to COR format and store in mri/RRR, run recon-all. Typically, we acquire 3 high-quality T1 volumes to use as input to reconstruction (128-slice sagital, 1 mm in-plane resolu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917640" y="696960"/>
            <a:ext cx="5176800" cy="345132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34560" y="4387680"/>
            <a:ext cx="5140440" cy="4158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917640" y="696960"/>
            <a:ext cx="5176800" cy="345132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34560" y="4387680"/>
            <a:ext cx="5140440" cy="4158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0001160" y="658332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C665-90D7-488A-AE98-936AD94392E9}" type="slidenum"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1120" y="2130120"/>
            <a:ext cx="874404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380520"/>
            <a:ext cx="9086760" cy="207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urface-based Group Analysis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in FreeSurfer </a:t>
            </a:r>
            <a:br>
              <a:rPr sz="4000"/>
            </a:b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857680" y="5486400"/>
            <a:ext cx="4809960" cy="810720"/>
            <a:chOff x="2857680" y="5486400"/>
            <a:chExt cx="4809960" cy="81072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3667320" y="5486400"/>
              <a:ext cx="400032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2857680" y="5495760"/>
              <a:ext cx="749160" cy="801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772080" y="1752480"/>
            <a:ext cx="27399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ore than Two Data Point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48680" y="4267080"/>
            <a:ext cx="3000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1 = 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2 = 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2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3 = 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3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4 = 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4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676840" y="1600200"/>
            <a:ext cx="3049200" cy="1834920"/>
            <a:chOff x="5676840" y="1600200"/>
            <a:chExt cx="3049200" cy="1834920"/>
          </a:xfrm>
        </p:grpSpPr>
        <p:sp>
          <p:nvSpPr>
            <p:cNvPr id="290" name=""/>
            <p:cNvSpPr/>
            <p:nvPr/>
          </p:nvSpPr>
          <p:spPr>
            <a:xfrm>
              <a:off x="5754240" y="1616040"/>
              <a:ext cx="5374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3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4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897600" y="1616040"/>
              <a:ext cx="8924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x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x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x3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x4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269560" y="1600200"/>
              <a:ext cx="456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5676840" y="1676520"/>
              <a:ext cx="74520" cy="1752120"/>
              <a:chOff x="5676840" y="1676520"/>
              <a:chExt cx="74520" cy="1752120"/>
            </a:xfrm>
          </p:grpSpPr>
          <p:sp>
            <p:nvSpPr>
              <p:cNvPr id="294" name=""/>
              <p:cNvSpPr/>
              <p:nvPr/>
            </p:nvSpPr>
            <p:spPr>
              <a:xfrm>
                <a:off x="5693760" y="1676520"/>
                <a:ext cx="0" cy="17521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676840" y="34286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676840" y="16765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6896160" y="1676520"/>
              <a:ext cx="74520" cy="1758600"/>
              <a:chOff x="6896160" y="1676520"/>
              <a:chExt cx="74520" cy="1758600"/>
            </a:xfrm>
          </p:grpSpPr>
          <p:sp>
            <p:nvSpPr>
              <p:cNvPr id="298" name=""/>
              <p:cNvSpPr/>
              <p:nvPr/>
            </p:nvSpPr>
            <p:spPr>
              <a:xfrm>
                <a:off x="6913080" y="1676520"/>
                <a:ext cx="0" cy="175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896160" y="34351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896160" y="16765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8267760" y="1654200"/>
              <a:ext cx="74520" cy="838440"/>
              <a:chOff x="8267760" y="1654200"/>
              <a:chExt cx="74520" cy="838440"/>
            </a:xfrm>
          </p:grpSpPr>
          <p:sp>
            <p:nvSpPr>
              <p:cNvPr id="302" name=""/>
              <p:cNvSpPr/>
              <p:nvPr/>
            </p:nvSpPr>
            <p:spPr>
              <a:xfrm>
                <a:off x="8284680" y="1654200"/>
                <a:ext cx="0" cy="838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8267760" y="24926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267760" y="165420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8648280" y="1653840"/>
              <a:ext cx="74520" cy="838440"/>
              <a:chOff x="8648280" y="1653840"/>
              <a:chExt cx="74520" cy="838440"/>
            </a:xfrm>
          </p:grpSpPr>
          <p:sp>
            <p:nvSpPr>
              <p:cNvPr id="306" name=""/>
              <p:cNvSpPr/>
              <p:nvPr/>
            </p:nvSpPr>
            <p:spPr>
              <a:xfrm flipV="1">
                <a:off x="8705880" y="1653840"/>
                <a:ext cx="0" cy="838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8648280" y="16538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8648280" y="249228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7734240" y="1670400"/>
              <a:ext cx="76320" cy="1758600"/>
              <a:chOff x="7734240" y="1670400"/>
              <a:chExt cx="76320" cy="1758600"/>
            </a:xfrm>
          </p:grpSpPr>
          <p:sp>
            <p:nvSpPr>
              <p:cNvPr id="310" name=""/>
              <p:cNvSpPr/>
              <p:nvPr/>
            </p:nvSpPr>
            <p:spPr>
              <a:xfrm flipV="1">
                <a:off x="7792920" y="1670400"/>
                <a:ext cx="0" cy="175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7734240" y="167040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>
                <a:off x="7734240" y="342900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6210000" y="1670400"/>
              <a:ext cx="75960" cy="1758600"/>
              <a:chOff x="6210000" y="1670400"/>
              <a:chExt cx="75960" cy="1758600"/>
            </a:xfrm>
          </p:grpSpPr>
          <p:sp>
            <p:nvSpPr>
              <p:cNvPr id="314" name=""/>
              <p:cNvSpPr/>
              <p:nvPr/>
            </p:nvSpPr>
            <p:spPr>
              <a:xfrm flipV="1">
                <a:off x="6268680" y="1670400"/>
                <a:ext cx="0" cy="175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6210000" y="167040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6210000" y="342900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6363360" y="180684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811640" y="18068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5988600" y="3657600"/>
            <a:ext cx="1808640" cy="6426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3600" spc="-1" strike="noStrike">
                <a:solidFill>
                  <a:srgbClr val="00ff00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23960" y="1828800"/>
            <a:ext cx="2971800" cy="228600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257480" y="1752480"/>
            <a:ext cx="1676160" cy="45720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 flipV="1" rot="21465000">
            <a:off x="2247120" y="2895120"/>
            <a:ext cx="457200" cy="381240"/>
          </a:xfrm>
          <a:prstGeom prst="rtTriangle">
            <a:avLst/>
          </a:prstGeom>
          <a:solidFill>
            <a:srgbClr val="618ffd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53480" y="1295280"/>
            <a:ext cx="180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Intercept: b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39640" y="2133720"/>
            <a:ext cx="145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Slope: m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95000" y="114300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cknes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001400" y="35053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181160" y="1828800"/>
            <a:ext cx="0" cy="2133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76240" y="3733920"/>
            <a:ext cx="30481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562040" y="2209680"/>
            <a:ext cx="152640" cy="152640"/>
          </a:xfrm>
          <a:prstGeom prst="ellipse">
            <a:avLst/>
          </a:prstGeom>
          <a:solidFill>
            <a:srgbClr val="da68ff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3429000"/>
            <a:ext cx="152280" cy="152280"/>
          </a:xfrm>
          <a:prstGeom prst="ellipse">
            <a:avLst/>
          </a:prstGeom>
          <a:solidFill>
            <a:srgbClr val="da68ff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2705040" y="2590920"/>
            <a:ext cx="914400" cy="30456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086280" y="2971800"/>
            <a:ext cx="152280" cy="152280"/>
          </a:xfrm>
          <a:prstGeom prst="ellipse">
            <a:avLst/>
          </a:prstGeom>
          <a:solidFill>
            <a:srgbClr val="da68ff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943280" y="3124080"/>
            <a:ext cx="152280" cy="152640"/>
          </a:xfrm>
          <a:prstGeom prst="ellipse">
            <a:avLst/>
          </a:prstGeom>
          <a:solidFill>
            <a:srgbClr val="da68ff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095560" y="2514600"/>
            <a:ext cx="152280" cy="152280"/>
          </a:xfrm>
          <a:prstGeom prst="ellipse">
            <a:avLst/>
          </a:prstGeom>
          <a:solidFill>
            <a:srgbClr val="da68ff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33440" y="2666880"/>
            <a:ext cx="152640" cy="152640"/>
          </a:xfrm>
          <a:prstGeom prst="ellipse">
            <a:avLst/>
          </a:prstGeom>
          <a:solidFill>
            <a:srgbClr val="da68ff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828400" y="4343400"/>
            <a:ext cx="2449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odel Error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Nois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Uncertainty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rvar.mgh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1409760" y="2362320"/>
            <a:ext cx="0" cy="380880"/>
          </a:xfrm>
          <a:prstGeom prst="line">
            <a:avLst/>
          </a:prstGeom>
          <a:ln w="28440">
            <a:solidFill>
              <a:srgbClr val="fd141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2019240" y="2838600"/>
            <a:ext cx="0" cy="380880"/>
          </a:xfrm>
          <a:prstGeom prst="line">
            <a:avLst/>
          </a:prstGeom>
          <a:ln w="28440">
            <a:solidFill>
              <a:srgbClr val="fd141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171880" y="2567160"/>
            <a:ext cx="0" cy="380880"/>
          </a:xfrm>
          <a:prstGeom prst="line">
            <a:avLst/>
          </a:prstGeom>
          <a:ln w="28440">
            <a:solidFill>
              <a:srgbClr val="fd141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3162240" y="3047760"/>
            <a:ext cx="0" cy="685800"/>
          </a:xfrm>
          <a:prstGeom prst="line">
            <a:avLst/>
          </a:prstGeom>
          <a:ln w="28440">
            <a:solidFill>
              <a:srgbClr val="fd141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38360" y="2257560"/>
            <a:ext cx="0" cy="304560"/>
          </a:xfrm>
          <a:prstGeom prst="line">
            <a:avLst/>
          </a:prstGeom>
          <a:ln w="28440">
            <a:solidFill>
              <a:srgbClr val="fd141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705040" y="3352320"/>
            <a:ext cx="0" cy="149400"/>
          </a:xfrm>
          <a:prstGeom prst="line">
            <a:avLst/>
          </a:prstGeom>
          <a:ln w="28440">
            <a:solidFill>
              <a:srgbClr val="fd141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-Test and p-valu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69320" y="1676520"/>
            <a:ext cx="1851120" cy="7034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 C*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07120" y="914400"/>
            <a:ext cx="1808640" cy="6426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3543480" y="990720"/>
                <a:ext cx="449568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∗</m:t>
                        </m:r>
                        <m:r>
                          <m:t xml:space="preserve">β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C</m:t>
                            </m:r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7" name=""/>
          <p:cNvSpPr/>
          <p:nvPr/>
        </p:nvSpPr>
        <p:spPr>
          <a:xfrm>
            <a:off x="715320" y="2438280"/>
            <a:ext cx="672624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afd00"/>
                </a:solidFill>
                <a:uFillTx/>
                <a:latin typeface="Times New Roman"/>
              </a:rPr>
              <a:t>p-value/significan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alue between 0 and 1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oser to 0 means more significan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afd00"/>
                </a:solidFill>
                <a:uFillTx/>
                <a:latin typeface="Times New Roman"/>
              </a:rPr>
              <a:t>FreeSurfer stores p-values as –log10(p):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.1=10</a:t>
            </a:r>
            <a:r>
              <a:rPr b="0" lang="en-US" sz="3200" spc="-1" strike="noStrike" baseline="30000">
                <a:solidFill>
                  <a:srgbClr val="fafd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g=1,  0.01=10</a:t>
            </a:r>
            <a:r>
              <a:rPr b="0" lang="en-US" sz="3200" spc="-1" strike="noStrike" baseline="30000">
                <a:solidFill>
                  <a:srgbClr val="fafd00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g=2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g.mgh fil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gned by sign of </a:t>
            </a:r>
            <a:r>
              <a:rPr b="0" lang="en-US" sz="4000" spc="-1" strike="noStrike">
                <a:solidFill>
                  <a:srgbClr val="fafd00"/>
                </a:solidFill>
                <a:latin typeface="Symbol"/>
                <a:ea typeface="Symbol"/>
              </a:rPr>
              <a:t>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-value is for an unsigned tes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wo Grou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991040" y="1219320"/>
            <a:ext cx="4953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o groups differ in Intercept?</a:t>
            </a:r>
            <a:endParaRPr b="0" lang="en-US" sz="3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o groups differ in Slope?</a:t>
            </a:r>
            <a:endParaRPr b="0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991040" y="2133720"/>
            <a:ext cx="5399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s average slope different than 0?</a:t>
            </a:r>
            <a:endParaRPr b="0" lang="en-US" sz="3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94640" y="1752480"/>
            <a:ext cx="5657760" cy="4367160"/>
            <a:chOff x="494640" y="1752480"/>
            <a:chExt cx="5657760" cy="4367160"/>
          </a:xfrm>
        </p:grpSpPr>
        <p:grpSp>
          <p:nvGrpSpPr>
            <p:cNvPr id="352" name=""/>
            <p:cNvGrpSpPr/>
            <p:nvPr/>
          </p:nvGrpSpPr>
          <p:grpSpPr>
            <a:xfrm>
              <a:off x="494640" y="1752480"/>
              <a:ext cx="5657760" cy="4367160"/>
              <a:chOff x="494640" y="1752480"/>
              <a:chExt cx="5657760" cy="4367160"/>
            </a:xfrm>
          </p:grpSpPr>
          <p:sp>
            <p:nvSpPr>
              <p:cNvPr id="353" name=""/>
              <p:cNvSpPr/>
              <p:nvPr/>
            </p:nvSpPr>
            <p:spPr>
              <a:xfrm>
                <a:off x="804600" y="2772360"/>
                <a:ext cx="4024080" cy="31582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V="1">
                <a:off x="1527120" y="2246040"/>
                <a:ext cx="2063520" cy="105228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 flipV="1" rot="21465000">
                <a:off x="2248560" y="3719880"/>
                <a:ext cx="618840" cy="525600"/>
              </a:xfrm>
              <a:prstGeom prst="rtTriangl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659320" y="1752480"/>
                <a:ext cx="147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00"/>
                    </a:solidFill>
                    <a:latin typeface="Times New Roman"/>
                  </a:rPr>
                  <a:t>Intercept: b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692520" y="2594880"/>
                <a:ext cx="1221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00"/>
                    </a:solidFill>
                    <a:latin typeface="Times New Roman"/>
                  </a:rPr>
                  <a:t>Slope: m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94640" y="1824840"/>
                <a:ext cx="1213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Thickness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243040" y="5088960"/>
                <a:ext cx="605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Age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423800" y="2772360"/>
                <a:ext cx="0" cy="29480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011600" y="5404680"/>
                <a:ext cx="41270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2868840" y="3088080"/>
                <a:ext cx="1341000" cy="7369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98680" y="3825360"/>
                <a:ext cx="5056200" cy="1368360"/>
              </a:xfrm>
              <a:prstGeom prst="line">
                <a:avLst/>
              </a:prstGeom>
              <a:ln w="572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833840" y="5720760"/>
                <a:ext cx="147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d1414"/>
                    </a:solidFill>
                    <a:latin typeface="Times New Roman"/>
                  </a:rPr>
                  <a:t>Intercept: b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930920" y="3825360"/>
                <a:ext cx="1221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d1414"/>
                    </a:solidFill>
                    <a:latin typeface="Times New Roman"/>
                  </a:rPr>
                  <a:t>Slope: m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 flipV="1" rot="20162400">
                <a:off x="4208760" y="4534560"/>
                <a:ext cx="618840" cy="526680"/>
              </a:xfrm>
              <a:prstGeom prst="rtTriangl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4829040" y="4351320"/>
                <a:ext cx="825480" cy="315720"/>
              </a:xfrm>
              <a:prstGeom prst="line">
                <a:avLst/>
              </a:prstGeom>
              <a:ln w="19080">
                <a:solidFill>
                  <a:srgbClr val="fd1414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527120" y="4246200"/>
                <a:ext cx="1134720" cy="1474200"/>
              </a:xfrm>
              <a:prstGeom prst="line">
                <a:avLst/>
              </a:prstGeom>
              <a:ln w="19080">
                <a:solidFill>
                  <a:srgbClr val="fd1414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1594440" y="3923280"/>
              <a:ext cx="84600" cy="8640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440080" y="4444560"/>
              <a:ext cx="84240" cy="8640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355480" y="4097160"/>
              <a:ext cx="84600" cy="8676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69960" y="4444560"/>
              <a:ext cx="84600" cy="8640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116520" y="4791600"/>
              <a:ext cx="84600" cy="8676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77200" y="4097160"/>
              <a:ext cx="84600" cy="8676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046400" y="4965480"/>
              <a:ext cx="84600" cy="8640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171800" y="2794320"/>
              <a:ext cx="8424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594440" y="3575880"/>
              <a:ext cx="8460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186640" y="3402360"/>
              <a:ext cx="84240" cy="864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017080" y="4010040"/>
              <a:ext cx="8460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201120" y="4270680"/>
              <a:ext cx="8424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369960" y="5139000"/>
              <a:ext cx="8460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962160" y="5660280"/>
              <a:ext cx="8424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wo Grou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494640" y="1066680"/>
            <a:ext cx="4497480" cy="3270960"/>
            <a:chOff x="494640" y="1066680"/>
            <a:chExt cx="4497480" cy="3270960"/>
          </a:xfrm>
        </p:grpSpPr>
        <p:sp>
          <p:nvSpPr>
            <p:cNvPr id="385" name=""/>
            <p:cNvSpPr/>
            <p:nvPr/>
          </p:nvSpPr>
          <p:spPr>
            <a:xfrm>
              <a:off x="723600" y="1805040"/>
              <a:ext cx="2971440" cy="22860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1257120" y="1424160"/>
              <a:ext cx="1523520" cy="76176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flipV="1" rot="21465000">
              <a:off x="1790640" y="2489760"/>
              <a:ext cx="456840" cy="38088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093040" y="1066680"/>
              <a:ext cx="14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Intercept: b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856240" y="1676520"/>
              <a:ext cx="122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Slope: m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94640" y="111924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icknes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01040" y="348156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g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180800" y="1805040"/>
              <a:ext cx="0" cy="2133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76240" y="3710160"/>
              <a:ext cx="30474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2247840" y="2033640"/>
              <a:ext cx="990000" cy="5335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1320" y="2567160"/>
              <a:ext cx="3733560" cy="990360"/>
            </a:xfrm>
            <a:prstGeom prst="line">
              <a:avLst/>
            </a:prstGeom>
            <a:ln w="572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483560" y="3938760"/>
              <a:ext cx="14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d1414"/>
                  </a:solidFill>
                  <a:latin typeface="Times New Roman"/>
                </a:rPr>
                <a:t>Intercept: b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770640" y="2567160"/>
              <a:ext cx="122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d1414"/>
                  </a:solidFill>
                  <a:latin typeface="Times New Roman"/>
                </a:rPr>
                <a:t>Slope: m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flipV="1" rot="20162400">
              <a:off x="3238200" y="3081240"/>
              <a:ext cx="456840" cy="38088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3695400" y="2947680"/>
              <a:ext cx="609480" cy="228600"/>
            </a:xfrm>
            <a:prstGeom prst="line">
              <a:avLst/>
            </a:prstGeom>
            <a:ln w="19080">
              <a:solidFill>
                <a:srgbClr val="fd141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257120" y="2871720"/>
              <a:ext cx="837720" cy="1067040"/>
            </a:xfrm>
            <a:prstGeom prst="line">
              <a:avLst/>
            </a:prstGeom>
            <a:ln w="19080">
              <a:solidFill>
                <a:srgbClr val="fd141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647640" y="4495680"/>
            <a:ext cx="7620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11 = 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b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1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1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   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2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12 = 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b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12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1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   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2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21 =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1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b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   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1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x21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2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22 =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1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b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   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1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x22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2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5143680" y="1219320"/>
            <a:ext cx="4401000" cy="1910520"/>
            <a:chOff x="5143680" y="1219320"/>
            <a:chExt cx="4401000" cy="1910520"/>
          </a:xfrm>
        </p:grpSpPr>
        <p:sp>
          <p:nvSpPr>
            <p:cNvPr id="403" name=""/>
            <p:cNvSpPr/>
            <p:nvPr/>
          </p:nvSpPr>
          <p:spPr>
            <a:xfrm>
              <a:off x="5172840" y="1295280"/>
              <a:ext cx="7156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517800" y="1311120"/>
              <a:ext cx="2045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x11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x12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 1 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x2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 1 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x2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973720" y="1269720"/>
              <a:ext cx="570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b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m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m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5143680" y="1371600"/>
              <a:ext cx="74520" cy="1751760"/>
              <a:chOff x="5143680" y="1371600"/>
              <a:chExt cx="74520" cy="1751760"/>
            </a:xfrm>
          </p:grpSpPr>
          <p:sp>
            <p:nvSpPr>
              <p:cNvPr id="407" name=""/>
              <p:cNvSpPr/>
              <p:nvPr/>
            </p:nvSpPr>
            <p:spPr>
              <a:xfrm>
                <a:off x="5160600" y="1371600"/>
                <a:ext cx="0" cy="1751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143680" y="312336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143680" y="137160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6515280" y="1371600"/>
              <a:ext cx="74520" cy="1758240"/>
              <a:chOff x="6515280" y="1371600"/>
              <a:chExt cx="74520" cy="1758240"/>
            </a:xfrm>
          </p:grpSpPr>
          <p:sp>
            <p:nvSpPr>
              <p:cNvPr id="411" name=""/>
              <p:cNvSpPr/>
              <p:nvPr/>
            </p:nvSpPr>
            <p:spPr>
              <a:xfrm>
                <a:off x="6532200" y="1371600"/>
                <a:ext cx="0" cy="1758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515280" y="31298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515280" y="137160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8982360" y="1219320"/>
              <a:ext cx="74520" cy="1599480"/>
              <a:chOff x="8982360" y="1219320"/>
              <a:chExt cx="74520" cy="1599480"/>
            </a:xfrm>
          </p:grpSpPr>
          <p:sp>
            <p:nvSpPr>
              <p:cNvPr id="415" name=""/>
              <p:cNvSpPr/>
              <p:nvPr/>
            </p:nvSpPr>
            <p:spPr>
              <a:xfrm>
                <a:off x="8999280" y="1219320"/>
                <a:ext cx="0" cy="15994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982360" y="281880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982360" y="12193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8572680" y="1295280"/>
              <a:ext cx="76320" cy="1758240"/>
              <a:chOff x="8572680" y="1295280"/>
              <a:chExt cx="76320" cy="1758240"/>
            </a:xfrm>
          </p:grpSpPr>
          <p:sp>
            <p:nvSpPr>
              <p:cNvPr id="419" name=""/>
              <p:cNvSpPr/>
              <p:nvPr/>
            </p:nvSpPr>
            <p:spPr>
              <a:xfrm flipV="1">
                <a:off x="8631360" y="1295280"/>
                <a:ext cx="0" cy="1758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8572680" y="129528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8572680" y="305352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5829480" y="1365120"/>
              <a:ext cx="76320" cy="1758240"/>
              <a:chOff x="5829480" y="1365120"/>
              <a:chExt cx="76320" cy="1758240"/>
            </a:xfrm>
          </p:grpSpPr>
          <p:sp>
            <p:nvSpPr>
              <p:cNvPr id="423" name=""/>
              <p:cNvSpPr/>
              <p:nvPr/>
            </p:nvSpPr>
            <p:spPr>
              <a:xfrm flipV="1">
                <a:off x="5888160" y="1365120"/>
                <a:ext cx="0" cy="1758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5829480" y="136512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5829480" y="312336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6011280" y="190476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602200" y="1295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9439200" y="1219680"/>
              <a:ext cx="75960" cy="1599480"/>
              <a:chOff x="9439200" y="1219680"/>
              <a:chExt cx="75960" cy="1599480"/>
            </a:xfrm>
          </p:grpSpPr>
          <p:sp>
            <p:nvSpPr>
              <p:cNvPr id="429" name=""/>
              <p:cNvSpPr/>
              <p:nvPr/>
            </p:nvSpPr>
            <p:spPr>
              <a:xfrm flipV="1">
                <a:off x="9497880" y="1219680"/>
                <a:ext cx="0" cy="15994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9439200" y="121968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>
                <a:off x="9439200" y="281916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2" name=""/>
          <p:cNvSpPr/>
          <p:nvPr/>
        </p:nvSpPr>
        <p:spPr>
          <a:xfrm>
            <a:off x="7665120" y="3505320"/>
            <a:ext cx="1808640" cy="6426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36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wo Grou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5904720" y="4267080"/>
            <a:ext cx="3664800" cy="2407680"/>
            <a:chOff x="5904720" y="4267080"/>
            <a:chExt cx="3664800" cy="2407680"/>
          </a:xfrm>
        </p:grpSpPr>
        <p:sp>
          <p:nvSpPr>
            <p:cNvPr id="435" name=""/>
            <p:cNvSpPr/>
            <p:nvPr/>
          </p:nvSpPr>
          <p:spPr>
            <a:xfrm>
              <a:off x="6075720" y="4783320"/>
              <a:ext cx="2216520" cy="159876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6473880" y="4516920"/>
              <a:ext cx="1136520" cy="532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 flipV="1" rot="21465000">
              <a:off x="6870960" y="5263200"/>
              <a:ext cx="340920" cy="26640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096680" y="4267080"/>
              <a:ext cx="14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Intercept: b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666200" y="4694400"/>
              <a:ext cx="122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Slope: m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904720" y="430380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icknes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520840" y="595620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g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16640" y="4783320"/>
              <a:ext cx="0" cy="1492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189480" y="6116040"/>
              <a:ext cx="22730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7212600" y="4943160"/>
              <a:ext cx="738360" cy="37296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962320" y="5316480"/>
              <a:ext cx="2784960" cy="692640"/>
            </a:xfrm>
            <a:prstGeom prst="line">
              <a:avLst/>
            </a:prstGeom>
            <a:ln w="572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640560" y="6275880"/>
              <a:ext cx="14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d1414"/>
                  </a:solidFill>
                  <a:latin typeface="Times New Roman"/>
                </a:rPr>
                <a:t>Intercept: b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348040" y="5316480"/>
              <a:ext cx="122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d1414"/>
                  </a:solidFill>
                  <a:latin typeface="Times New Roman"/>
                </a:rPr>
                <a:t>Slope: m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 flipV="1" rot="20162400">
              <a:off x="7951320" y="5675760"/>
              <a:ext cx="340920" cy="26676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8292600" y="5582880"/>
              <a:ext cx="454680" cy="159840"/>
            </a:xfrm>
            <a:prstGeom prst="line">
              <a:avLst/>
            </a:prstGeom>
            <a:ln w="19080">
              <a:solidFill>
                <a:srgbClr val="fd141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473880" y="5529600"/>
              <a:ext cx="624960" cy="746280"/>
            </a:xfrm>
            <a:prstGeom prst="line">
              <a:avLst/>
            </a:prstGeom>
            <a:ln w="19080">
              <a:solidFill>
                <a:srgbClr val="fd141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952560" y="1219320"/>
            <a:ext cx="4267080" cy="15570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groups differ in Intercept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b1=b2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b1-b2 = 0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= [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+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C*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54000" y="4952880"/>
            <a:ext cx="4243680" cy="1191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average slope different than 0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(m1+m2)/2 = 0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= [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0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0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C*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553720" y="1066680"/>
            <a:ext cx="715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1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12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2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22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98320" y="1082520"/>
            <a:ext cx="2046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  0  x11  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  0  x12  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   1    0  x2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   1    0  x22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5524560" y="1143000"/>
            <a:ext cx="74520" cy="1752120"/>
            <a:chOff x="5524560" y="1143000"/>
            <a:chExt cx="74520" cy="1752120"/>
          </a:xfrm>
        </p:grpSpPr>
        <p:sp>
          <p:nvSpPr>
            <p:cNvPr id="456" name=""/>
            <p:cNvSpPr/>
            <p:nvPr/>
          </p:nvSpPr>
          <p:spPr>
            <a:xfrm>
              <a:off x="5541480" y="1143000"/>
              <a:ext cx="0" cy="175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524560" y="2895120"/>
              <a:ext cx="74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524560" y="1143000"/>
              <a:ext cx="74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6896160" y="1143000"/>
            <a:ext cx="74520" cy="1758600"/>
            <a:chOff x="6896160" y="1143000"/>
            <a:chExt cx="74520" cy="1758600"/>
          </a:xfrm>
        </p:grpSpPr>
        <p:sp>
          <p:nvSpPr>
            <p:cNvPr id="460" name=""/>
            <p:cNvSpPr/>
            <p:nvPr/>
          </p:nvSpPr>
          <p:spPr>
            <a:xfrm>
              <a:off x="6913080" y="1143000"/>
              <a:ext cx="0" cy="175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896160" y="2901600"/>
              <a:ext cx="74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896160" y="1143000"/>
              <a:ext cx="74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8953560" y="1067040"/>
            <a:ext cx="76320" cy="1758600"/>
            <a:chOff x="8953560" y="1067040"/>
            <a:chExt cx="76320" cy="1758600"/>
          </a:xfrm>
        </p:grpSpPr>
        <p:sp>
          <p:nvSpPr>
            <p:cNvPr id="464" name=""/>
            <p:cNvSpPr/>
            <p:nvPr/>
          </p:nvSpPr>
          <p:spPr>
            <a:xfrm flipV="1">
              <a:off x="9012240" y="1067040"/>
              <a:ext cx="0" cy="175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8953560" y="106704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8953560" y="282564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6210360" y="1136880"/>
            <a:ext cx="76320" cy="1758600"/>
            <a:chOff x="6210360" y="1136880"/>
            <a:chExt cx="76320" cy="1758600"/>
          </a:xfrm>
        </p:grpSpPr>
        <p:sp>
          <p:nvSpPr>
            <p:cNvPr id="468" name=""/>
            <p:cNvSpPr/>
            <p:nvPr/>
          </p:nvSpPr>
          <p:spPr>
            <a:xfrm flipV="1">
              <a:off x="6269040" y="1136880"/>
              <a:ext cx="0" cy="175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6210360" y="113688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6210360" y="289548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6392160" y="16765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983080" y="1066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9334440" y="990720"/>
            <a:ext cx="591120" cy="1607760"/>
            <a:chOff x="9334440" y="990720"/>
            <a:chExt cx="591120" cy="1607760"/>
          </a:xfrm>
        </p:grpSpPr>
        <p:sp>
          <p:nvSpPr>
            <p:cNvPr id="474" name=""/>
            <p:cNvSpPr/>
            <p:nvPr/>
          </p:nvSpPr>
          <p:spPr>
            <a:xfrm>
              <a:off x="9354600" y="1041480"/>
              <a:ext cx="570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b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m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m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9334440" y="990720"/>
              <a:ext cx="102960" cy="1599840"/>
              <a:chOff x="9334440" y="990720"/>
              <a:chExt cx="102960" cy="1599840"/>
            </a:xfrm>
          </p:grpSpPr>
          <p:sp>
            <p:nvSpPr>
              <p:cNvPr id="476" name=""/>
              <p:cNvSpPr/>
              <p:nvPr/>
            </p:nvSpPr>
            <p:spPr>
              <a:xfrm>
                <a:off x="9358200" y="990720"/>
                <a:ext cx="0" cy="1599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9334440" y="2590560"/>
                <a:ext cx="102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9334440" y="990720"/>
                <a:ext cx="102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9791640" y="990720"/>
              <a:ext cx="76320" cy="1599840"/>
              <a:chOff x="9791640" y="990720"/>
              <a:chExt cx="76320" cy="1599840"/>
            </a:xfrm>
          </p:grpSpPr>
          <p:sp>
            <p:nvSpPr>
              <p:cNvPr id="480" name=""/>
              <p:cNvSpPr/>
              <p:nvPr/>
            </p:nvSpPr>
            <p:spPr>
              <a:xfrm flipV="1">
                <a:off x="9850320" y="990720"/>
                <a:ext cx="0" cy="1599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9791640" y="99072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>
                <a:off x="9791640" y="259056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3" name=""/>
          <p:cNvSpPr/>
          <p:nvPr/>
        </p:nvSpPr>
        <p:spPr>
          <a:xfrm>
            <a:off x="5836320" y="3276720"/>
            <a:ext cx="1808640" cy="6426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36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952560" y="3048120"/>
            <a:ext cx="4267080" cy="15570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groups differ in Slope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m1=m2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m1-m2=0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= [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+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C*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9258480" y="3124080"/>
            <a:ext cx="590400" cy="1607760"/>
            <a:chOff x="9258480" y="3124080"/>
            <a:chExt cx="590400" cy="1607760"/>
          </a:xfrm>
        </p:grpSpPr>
        <p:sp>
          <p:nvSpPr>
            <p:cNvPr id="486" name=""/>
            <p:cNvSpPr/>
            <p:nvPr/>
          </p:nvSpPr>
          <p:spPr>
            <a:xfrm>
              <a:off x="9277920" y="3174840"/>
              <a:ext cx="570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b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m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m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487" name=""/>
            <p:cNvGrpSpPr/>
            <p:nvPr/>
          </p:nvGrpSpPr>
          <p:grpSpPr>
            <a:xfrm>
              <a:off x="9258480" y="3124080"/>
              <a:ext cx="102600" cy="1599840"/>
              <a:chOff x="9258480" y="3124080"/>
              <a:chExt cx="102600" cy="1599840"/>
            </a:xfrm>
          </p:grpSpPr>
          <p:sp>
            <p:nvSpPr>
              <p:cNvPr id="488" name=""/>
              <p:cNvSpPr/>
              <p:nvPr/>
            </p:nvSpPr>
            <p:spPr>
              <a:xfrm>
                <a:off x="9282240" y="3124080"/>
                <a:ext cx="0" cy="1599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9258480" y="4723920"/>
                <a:ext cx="1026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9258480" y="3124080"/>
                <a:ext cx="1026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9714960" y="3124080"/>
              <a:ext cx="75960" cy="1599840"/>
              <a:chOff x="9714960" y="3124080"/>
              <a:chExt cx="75960" cy="1599840"/>
            </a:xfrm>
          </p:grpSpPr>
          <p:sp>
            <p:nvSpPr>
              <p:cNvPr id="492" name=""/>
              <p:cNvSpPr/>
              <p:nvPr/>
            </p:nvSpPr>
            <p:spPr>
              <a:xfrm flipV="1">
                <a:off x="9773640" y="3124080"/>
                <a:ext cx="0" cy="1599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>
                <a:off x="9714960" y="312408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H="1">
                <a:off x="9714960" y="472392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5" name=""/>
          <p:cNvSpPr/>
          <p:nvPr/>
        </p:nvSpPr>
        <p:spPr>
          <a:xfrm>
            <a:off x="8308440" y="3505320"/>
            <a:ext cx="102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Symbol"/>
                <a:ea typeface="Symbol"/>
              </a:rPr>
              <a:t>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00280" y="38052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urface-based Group Analysis in FreeSurfer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028160" y="2033640"/>
            <a:ext cx="8148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reate your own design matrix and contrast matric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reate an FSGD Fi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reeSurfer creates design matrix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You still have to specify contrast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QDEC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imited to 2 discrete variables, 2 levels max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imited to 2 continuous variabl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1202760" y="533520"/>
            <a:ext cx="70149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Command-line Processing Stage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409760" y="1371600"/>
            <a:ext cx="7010280" cy="39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ssemble Data (mris_preproc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esample into Common Spa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mooth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ncatenate into one fil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odel and Contrasts (GLM) (FSGD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t Model (Estimate) (mri_glmfit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rrect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isualize (tksurfer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7202880" y="1521000"/>
            <a:ext cx="2821680" cy="1434600"/>
            <a:chOff x="7202880" y="1521000"/>
            <a:chExt cx="2821680" cy="1434600"/>
          </a:xfrm>
        </p:grpSpPr>
        <p:sp>
          <p:nvSpPr>
            <p:cNvPr id="501" name=""/>
            <p:cNvSpPr/>
            <p:nvPr/>
          </p:nvSpPr>
          <p:spPr>
            <a:xfrm>
              <a:off x="7202880" y="1521000"/>
              <a:ext cx="7171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fafd00"/>
                  </a:solidFill>
                  <a:latin typeface="Times New Roman"/>
                </a:rPr>
                <a:t>}</a:t>
              </a:r>
              <a:endParaRPr b="0" lang="en-US" sz="8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731720" y="2112840"/>
              <a:ext cx="229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recon-all -qcach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800360" y="-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ecifying Subject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799920" y="3581280"/>
            <a:ext cx="14475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bert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009960" y="1676520"/>
            <a:ext cx="4648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$SUBJECTS_DIR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790640" y="35053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4000"/>
          </a:bodyPr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red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619440" y="35053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4000"/>
          </a:bodyPr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jenny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524560" y="35053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4000"/>
          </a:bodyPr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argaret   …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1638000" y="2362320"/>
            <a:ext cx="335268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3162240" y="2362320"/>
            <a:ext cx="1828800" cy="106668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4762080" y="2362320"/>
            <a:ext cx="22860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991040" y="2362320"/>
            <a:ext cx="213372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419040" y="4114800"/>
            <a:ext cx="2219400" cy="990000"/>
            <a:chOff x="419040" y="4114800"/>
            <a:chExt cx="2219400" cy="990000"/>
          </a:xfrm>
        </p:grpSpPr>
        <p:sp>
          <p:nvSpPr>
            <p:cNvPr id="514" name=""/>
            <p:cNvSpPr/>
            <p:nvPr/>
          </p:nvSpPr>
          <p:spPr>
            <a:xfrm>
              <a:off x="1540800" y="4114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19040" y="4609800"/>
              <a:ext cx="221940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42388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20896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89864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58832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376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03932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0524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1904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63844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3543480" y="4038480"/>
            <a:ext cx="2219040" cy="990000"/>
            <a:chOff x="3543480" y="4038480"/>
            <a:chExt cx="2219040" cy="990000"/>
          </a:xfrm>
        </p:grpSpPr>
        <p:sp>
          <p:nvSpPr>
            <p:cNvPr id="526" name=""/>
            <p:cNvSpPr/>
            <p:nvPr/>
          </p:nvSpPr>
          <p:spPr>
            <a:xfrm>
              <a:off x="4664880" y="4038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543480" y="4533480"/>
              <a:ext cx="221904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5479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33304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0230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7127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49784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1637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8296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434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76252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6286680" y="4038480"/>
            <a:ext cx="2219040" cy="990000"/>
            <a:chOff x="6286680" y="4038480"/>
            <a:chExt cx="2219040" cy="990000"/>
          </a:xfrm>
        </p:grpSpPr>
        <p:sp>
          <p:nvSpPr>
            <p:cNvPr id="538" name=""/>
            <p:cNvSpPr/>
            <p:nvPr/>
          </p:nvSpPr>
          <p:spPr>
            <a:xfrm>
              <a:off x="7408080" y="4038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286680" y="4533480"/>
              <a:ext cx="221904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2911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07624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7662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4559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24104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9069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5728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2866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50572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549" name=""/>
          <p:cNvSpPr/>
          <p:nvPr/>
        </p:nvSpPr>
        <p:spPr>
          <a:xfrm flipH="1">
            <a:off x="2836800" y="4038480"/>
            <a:ext cx="20880" cy="13338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714680" y="5372280"/>
            <a:ext cx="221904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7195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5035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1939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8843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66868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3353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00016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71468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9337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95360" y="3429000"/>
            <a:ext cx="2057400" cy="83808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00280" y="1752480"/>
            <a:ext cx="457200" cy="16002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66040" y="1147680"/>
            <a:ext cx="193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ubject ID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800360" y="-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reeSurfer Directory Tree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42720" y="990720"/>
            <a:ext cx="9210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r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m    stats     morph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ri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rgb  scripts 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urf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tiff 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lab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rig    T1    brain     wm     aseg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942840" y="1371600"/>
            <a:ext cx="7972200" cy="914400"/>
            <a:chOff x="942840" y="1371600"/>
            <a:chExt cx="7972200" cy="914400"/>
          </a:xfrm>
        </p:grpSpPr>
        <p:sp>
          <p:nvSpPr>
            <p:cNvPr id="566" name=""/>
            <p:cNvSpPr/>
            <p:nvPr/>
          </p:nvSpPr>
          <p:spPr>
            <a:xfrm>
              <a:off x="4971960" y="13716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942840" y="1828800"/>
              <a:ext cx="797220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14356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37208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25788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14332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7184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17196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136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4284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91504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 flipV="1">
            <a:off x="857160" y="2666880"/>
            <a:ext cx="342900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2400480" y="2666880"/>
            <a:ext cx="197136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3514680" y="2666880"/>
            <a:ext cx="85716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371840" y="2666880"/>
            <a:ext cx="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371840" y="2666880"/>
            <a:ext cx="111456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114200" y="5602320"/>
            <a:ext cx="5374440" cy="459720"/>
          </a:xfrm>
          <a:prstGeom prst="rect">
            <a:avLst/>
          </a:prstGeom>
          <a:noFill/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BJECTS_DIR environment variab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124760" y="2666880"/>
            <a:ext cx="0" cy="121932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849480" y="4419720"/>
            <a:ext cx="135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h.whit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h.whit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600880" y="4471920"/>
            <a:ext cx="189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812000" y="4495680"/>
            <a:ext cx="203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lh.sphere.reg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h.sphere.reg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6286680" y="3885840"/>
            <a:ext cx="857160" cy="60948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5143680" y="3885840"/>
            <a:ext cx="1971360" cy="60948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124760" y="3886200"/>
            <a:ext cx="1114200" cy="60948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801280" y="2666880"/>
            <a:ext cx="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715520" y="3124080"/>
            <a:ext cx="24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h.aparc_annno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h.aparc_annno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114760" y="1096920"/>
            <a:ext cx="193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ubject ID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5448240" y="1219320"/>
            <a:ext cx="289584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: Thickness Stud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029600" y="2033640"/>
            <a:ext cx="7105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ber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surf/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00ae00"/>
                </a:solidFill>
                <a:latin typeface="Times New Roman"/>
              </a:rPr>
              <a:t>fred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surf/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jenny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surf/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da68ff"/>
                </a:solidFill>
                <a:latin typeface="Times New Roman"/>
              </a:rPr>
              <a:t>margare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surf/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923280" y="457200"/>
            <a:ext cx="1707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Outline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86080" y="1295280"/>
            <a:ext cx="7010280" cy="39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rocessing Stag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mmand-line Strea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ssemble Data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Design/Contrast (GLM Theory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nalyz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isualiz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nteractive/Automated GUI (QDEC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rrection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FreeSurfer Group Descriptor (FSGD) File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20120" y="6583320"/>
            <a:ext cx="304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Times New Roman"/>
              </a:rPr>
              <a:t>Note: Can specify design matrix explicitly with --design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47640" y="1600200"/>
            <a:ext cx="8458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2000"/>
          </a:bodyPr>
          <a:p>
            <a:pPr marL="281160" indent="-28116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mple text fil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List of all subjects in the study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ccompanying demographic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utomatic design matrix creation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You must still specify the contrast matric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ntegrated with tksurfer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47280" y="-2066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SGD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181160" y="990720"/>
            <a:ext cx="6705720" cy="28191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137160" anchor="t">
            <a:normAutofit fontScale="95000"/>
          </a:bodyPr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GroupDescriptorFile 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Ma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Fema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ariables                         Age  Weight   IQ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ber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Male          10      100   10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00ae00"/>
                </a:solidFill>
                <a:latin typeface="Times New Roman"/>
              </a:rPr>
              <a:t>fred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Male          15      150   15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jenny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Female      20      200   20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da68ff"/>
                </a:solidFill>
                <a:latin typeface="Times New Roman"/>
              </a:rPr>
              <a:t>margare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Female      25      250   25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96440" y="6583320"/>
            <a:ext cx="304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Times New Roman"/>
              </a:rPr>
              <a:t>Note: Can specify design matrix explicitly with --design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77680" y="601992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= Group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181160" y="41911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One Discrete Factor (Gender) with Two Levels (M&amp;F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hree Continuous Variables: Age, Weight, IQ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72360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SGDF </a:t>
            </a:r>
            <a:r>
              <a:rPr b="0" lang="en-US" sz="44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X (Automatic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0" y="658332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afd00"/>
                </a:solidFill>
                <a:latin typeface="Times New Roman"/>
              </a:rPr>
              <a:t>DO</a:t>
            </a:r>
            <a:r>
              <a:rPr b="0" lang="pl-PL" sz="1200" spc="-1" strike="noStrike">
                <a:solidFill>
                  <a:srgbClr val="fd1414"/>
                </a:solidFill>
                <a:latin typeface="Times New Roman"/>
              </a:rPr>
              <a:t>D</a:t>
            </a:r>
            <a:r>
              <a:rPr b="0" lang="pl-PL" sz="1200" spc="-1" strike="noStrike">
                <a:solidFill>
                  <a:srgbClr val="fafd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 – Different Offset, </a:t>
            </a:r>
            <a:r>
              <a:rPr b="0" lang="en-US" sz="1200" spc="-1" strike="noStrike">
                <a:solidFill>
                  <a:srgbClr val="fd1414"/>
                </a:solidFill>
                <a:latin typeface="Times New Roman"/>
              </a:rPr>
              <a:t>Different</a:t>
            </a:r>
            <a:r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 Slope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499760" y="4114800"/>
            <a:ext cx="724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      [-1 1    0     0         0       0           0         0]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rot="5400000">
            <a:off x="3070800" y="4434120"/>
            <a:ext cx="4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1414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292840" y="4890960"/>
            <a:ext cx="60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Tests for the difference in </a:t>
            </a:r>
            <a:r>
              <a:rPr b="0" lang="en-US" sz="2000" spc="-1" strike="noStrike" u="sng">
                <a:solidFill>
                  <a:srgbClr val="fd1414"/>
                </a:solidFill>
                <a:uFillTx/>
                <a:latin typeface="Times New Roman"/>
              </a:rPr>
              <a:t>intercept/offset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 between group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951480" y="914400"/>
            <a:ext cx="8382960" cy="3218040"/>
            <a:chOff x="951480" y="914400"/>
            <a:chExt cx="8382960" cy="3218040"/>
          </a:xfrm>
        </p:grpSpPr>
        <p:sp>
          <p:nvSpPr>
            <p:cNvPr id="610" name=""/>
            <p:cNvSpPr/>
            <p:nvPr/>
          </p:nvSpPr>
          <p:spPr>
            <a:xfrm>
              <a:off x="2781360" y="1752480"/>
              <a:ext cx="655308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  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0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10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 1000 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  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5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5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50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0 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1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2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0   20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 2000 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1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25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25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 2500 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5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611" name=""/>
            <p:cNvGrpSpPr/>
            <p:nvPr/>
          </p:nvGrpSpPr>
          <p:grpSpPr>
            <a:xfrm>
              <a:off x="951480" y="914400"/>
              <a:ext cx="7771320" cy="3218040"/>
              <a:chOff x="951480" y="914400"/>
              <a:chExt cx="7771320" cy="3218040"/>
            </a:xfrm>
          </p:grpSpPr>
          <p:sp>
            <p:nvSpPr>
              <p:cNvPr id="612" name=""/>
              <p:cNvSpPr/>
              <p:nvPr/>
            </p:nvSpPr>
            <p:spPr>
              <a:xfrm>
                <a:off x="1409760" y="2438280"/>
                <a:ext cx="990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afd00"/>
                    </a:solidFill>
                    <a:latin typeface="Times New Roman"/>
                  </a:rPr>
                  <a:t>X =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951480" y="1447560"/>
                <a:ext cx="141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Times New Roman"/>
                  </a:rPr>
                  <a:t>Male Group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026720" y="990360"/>
                <a:ext cx="164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Times New Roman"/>
                  </a:rPr>
                  <a:t>Female Group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615" name=""/>
              <p:cNvGrpSpPr/>
              <p:nvPr/>
            </p:nvGrpSpPr>
            <p:grpSpPr>
              <a:xfrm>
                <a:off x="2324160" y="1600200"/>
                <a:ext cx="609480" cy="152280"/>
                <a:chOff x="2324160" y="1600200"/>
                <a:chExt cx="609480" cy="15228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2933640" y="1600200"/>
                  <a:ext cx="0" cy="15228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2324160" y="1600200"/>
                  <a:ext cx="609480" cy="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8" name=""/>
              <p:cNvGrpSpPr/>
              <p:nvPr/>
            </p:nvGrpSpPr>
            <p:grpSpPr>
              <a:xfrm>
                <a:off x="2705040" y="1218960"/>
                <a:ext cx="609480" cy="533520"/>
                <a:chOff x="2705040" y="1218960"/>
                <a:chExt cx="609480" cy="53352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3314520" y="1218960"/>
                  <a:ext cx="0" cy="53352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2705040" y="1218960"/>
                  <a:ext cx="609480" cy="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" name=""/>
              <p:cNvGrpSpPr/>
              <p:nvPr/>
            </p:nvGrpSpPr>
            <p:grpSpPr>
              <a:xfrm>
                <a:off x="4457880" y="1600200"/>
                <a:ext cx="609480" cy="152280"/>
                <a:chOff x="4457880" y="1600200"/>
                <a:chExt cx="609480" cy="15228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4457880" y="1600200"/>
                  <a:ext cx="0" cy="15228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 flipH="1">
                  <a:off x="4457880" y="1600200"/>
                  <a:ext cx="609480" cy="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" name=""/>
              <p:cNvGrpSpPr/>
              <p:nvPr/>
            </p:nvGrpSpPr>
            <p:grpSpPr>
              <a:xfrm>
                <a:off x="4000680" y="1152360"/>
                <a:ext cx="609480" cy="533520"/>
                <a:chOff x="4000680" y="1152360"/>
                <a:chExt cx="609480" cy="53352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4000680" y="1152360"/>
                  <a:ext cx="0" cy="53352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 flipH="1">
                  <a:off x="4000680" y="1152360"/>
                  <a:ext cx="609480" cy="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7" name=""/>
              <p:cNvSpPr/>
              <p:nvPr/>
            </p:nvSpPr>
            <p:spPr>
              <a:xfrm>
                <a:off x="5067000" y="1371600"/>
                <a:ext cx="14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Times New Roman"/>
                  </a:rPr>
                  <a:t>Female Age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610520" y="914400"/>
                <a:ext cx="119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Times New Roman"/>
                  </a:rPr>
                  <a:t>Male Age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629" name=""/>
              <p:cNvGrpSpPr/>
              <p:nvPr/>
            </p:nvGrpSpPr>
            <p:grpSpPr>
              <a:xfrm>
                <a:off x="2628720" y="1752480"/>
                <a:ext cx="74520" cy="2057040"/>
                <a:chOff x="2628720" y="1752480"/>
                <a:chExt cx="74520" cy="205704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2645640" y="1752480"/>
                  <a:ext cx="0" cy="2057040"/>
                </a:xfrm>
                <a:prstGeom prst="line">
                  <a:avLst/>
                </a:prstGeom>
                <a:ln w="381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2628720" y="38095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2628720" y="175248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8648280" y="1752480"/>
                <a:ext cx="74520" cy="2057040"/>
                <a:chOff x="8648280" y="1752480"/>
                <a:chExt cx="74520" cy="205704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8705880" y="1752480"/>
                  <a:ext cx="0" cy="2057040"/>
                </a:xfrm>
                <a:prstGeom prst="line">
                  <a:avLst/>
                </a:prstGeom>
                <a:ln w="381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flipH="1">
                  <a:off x="8648280" y="38095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H="1">
                  <a:off x="8648280" y="175248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7" name=""/>
              <p:cNvSpPr/>
              <p:nvPr/>
            </p:nvSpPr>
            <p:spPr>
              <a:xfrm>
                <a:off x="3619440" y="1904760"/>
                <a:ext cx="0" cy="16765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838760" y="1981080"/>
                <a:ext cx="0" cy="16765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591240" y="2057400"/>
                <a:ext cx="0" cy="167616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219640" y="3657600"/>
                <a:ext cx="930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19191"/>
                    </a:solidFill>
                    <a:latin typeface="Times New Roman"/>
                  </a:rPr>
                  <a:t>Weight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001400" y="3733560"/>
                <a:ext cx="605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19191"/>
                    </a:solidFill>
                    <a:latin typeface="Times New Roman"/>
                  </a:rPr>
                  <a:t>Age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506720" y="3657600"/>
                <a:ext cx="45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19191"/>
                    </a:solidFill>
                    <a:latin typeface="Times New Roman"/>
                  </a:rPr>
                  <a:t>IQ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3" name=""/>
          <p:cNvSpPr/>
          <p:nvPr/>
        </p:nvSpPr>
        <p:spPr>
          <a:xfrm>
            <a:off x="1500120" y="5334120"/>
            <a:ext cx="732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      [ 0  0    -1   1          0       0           0         0]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 rot="5400000">
            <a:off x="4197240" y="5516280"/>
            <a:ext cx="42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1414"/>
                </a:solidFill>
                <a:latin typeface="Times New Roman"/>
              </a:rPr>
              <a:t>}</a:t>
            </a:r>
            <a:endParaRPr b="0" lang="en-US" sz="4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539440" y="6019920"/>
            <a:ext cx="55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Tests for the difference in </a:t>
            </a:r>
            <a:r>
              <a:rPr b="0" lang="en-US" sz="2000" spc="-1" strike="noStrike" u="sng">
                <a:solidFill>
                  <a:srgbClr val="fd1414"/>
                </a:solidFill>
                <a:uFillTx/>
                <a:latin typeface="Times New Roman"/>
              </a:rPr>
              <a:t>age slope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 between group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actors, Levels, Grou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47640" y="1295280"/>
            <a:ext cx="8686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Each Group/Class: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Has its own Intercept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Has its own Slope (for each continuous variable)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NRegressors = NClasses*(NVariables+1)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actors, Levels, Groups, Class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77320" y="1143000"/>
            <a:ext cx="76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Continuous Variables/Factors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: Age, IQ, Volume, etc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76600" y="1905120"/>
            <a:ext cx="8686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Discrete Variables/Factors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: Gender, Handedness, Diagnosi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evels of Discrete 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andedness: Left and Righ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Gender: Male and Fema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Diagnosis: Normal, MCI, A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00280" y="4343400"/>
            <a:ext cx="783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Group or Class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: Specification of All Discrete Factors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eft-handed Male MCI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ight-handed Female Norma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1562040" y="1143000"/>
            <a:ext cx="693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43080" y="1828800"/>
            <a:ext cx="9943920" cy="29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fsgd    FSGDFile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: Specify subjects thru FSGD Fi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hemi  lh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               : Process left hemispher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meas thickness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: $SUBJECTS_DIR/subjectid/surf/hemi.thicknes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target fsaverage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: common space is subject fsaverag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o lh.thickness.mgh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: output “volume-encoded surface file”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Lots of other options!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ssemble Data: mris_preproc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19040" y="10573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d1414"/>
                </a:solidFill>
                <a:latin typeface="Times New Roman"/>
              </a:rPr>
              <a:t>mris_preproc --help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03280" y="5029200"/>
            <a:ext cx="7916760" cy="10688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lh.thickness.mgh – file with thickness maps for all subjects </a:t>
            </a:r>
            <a:r>
              <a:rPr b="0" lang="en-US" sz="32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Input to Smoother or GL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 Smoothing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723600" y="1676160"/>
            <a:ext cx="8991720" cy="23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ri_surf2surf --help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Loads lh.thickness.mgh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2D surface-based smoothing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pecify FWHM (eg, fwhm = 10 mm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aves lh.thickness.sm10.mgh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an be slow (~10-60min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econ-all -qcach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ri_glmfi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180800" y="137124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ads in FSGD File and constructs X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ads in your contrasts (C1, C2, etc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oads data (lh.thickness.sm10.mgh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its GLM (ie, computes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mputes contrasts (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=C*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 or F ratios, significances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ignificance -log10(p) (.01 </a:t>
            </a:r>
            <a:r>
              <a:rPr b="0" lang="en-US" sz="28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2, .001 </a:t>
            </a:r>
            <a:r>
              <a:rPr b="0" lang="en-US" sz="28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3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ri_glmfi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71680" y="1307880"/>
            <a:ext cx="4495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mri_glmfit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y lh.thickness.sm10.mgh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fsgd gender_age.tx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C </a:t>
            </a:r>
            <a:r>
              <a:rPr b="0" lang="en" sz="2400" spc="-1" strike="noStrike">
                <a:solidFill>
                  <a:srgbClr val="00ff00"/>
                </a:solidFill>
                <a:latin typeface="Times New Roman"/>
              </a:rPr>
              <a:t>age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.mtx –C </a:t>
            </a:r>
            <a:r>
              <a:rPr b="0" lang="en" sz="2400" spc="-1" strike="noStrike">
                <a:solidFill>
                  <a:srgbClr val="da68ff"/>
                </a:solidFill>
                <a:latin typeface="Times New Roman"/>
              </a:rPr>
              <a:t>gender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.mt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surf fsaverage l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corte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glmdir </a:t>
            </a:r>
            <a:r>
              <a:rPr b="0" lang="en" sz="2400" spc="-1" strike="noStrike">
                <a:solidFill>
                  <a:srgbClr val="fd1414"/>
                </a:solidFill>
                <a:latin typeface="Times New Roman"/>
              </a:rPr>
              <a:t>lh.gender_age.glmdir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214600" y="1676520"/>
            <a:ext cx="4650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Creates: </a:t>
            </a:r>
            <a:r>
              <a:rPr b="0" lang="en" sz="2400" spc="-1" strike="noStrike">
                <a:solidFill>
                  <a:srgbClr val="fd1414"/>
                </a:solidFill>
                <a:latin typeface="Times New Roman"/>
              </a:rPr>
              <a:t>lh.gender_age.glmdir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/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beta.mgh – parameter estimat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rvar.mgh – residual error vari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etc …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00ff00"/>
                </a:solidFill>
                <a:latin typeface="Times New Roman"/>
              </a:rPr>
              <a:t>age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/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sig.mgh </a:t>
            </a:r>
            <a:r>
              <a:rPr b="0" lang="en" sz="2000" spc="-1" strike="noStrike">
                <a:solidFill>
                  <a:srgbClr val="fafd00"/>
                </a:solidFill>
                <a:latin typeface="Times New Roman"/>
              </a:rPr>
              <a:t>–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-log10(p), uncorrec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gamma.mgh, F.m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ff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da68ff"/>
                </a:solidFill>
                <a:latin typeface="Times New Roman"/>
              </a:rPr>
              <a:t>gender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/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sig.mgh </a:t>
            </a:r>
            <a:r>
              <a:rPr b="0" lang="en" sz="2000" spc="-1" strike="noStrike">
                <a:solidFill>
                  <a:srgbClr val="fafd00"/>
                </a:solidFill>
                <a:latin typeface="Times New Roman"/>
              </a:rPr>
              <a:t>–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-log10(p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gamma.mgh, F.m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95360" y="43423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d1414"/>
                </a:solidFill>
                <a:latin typeface="Times New Roman"/>
              </a:rPr>
              <a:t>mri_glmfit --help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372280" y="3352680"/>
            <a:ext cx="4647960" cy="762120"/>
          </a:xfrm>
          <a:prstGeom prst="ellipse">
            <a:avLst/>
          </a:prstGeom>
          <a:noFill/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47640" y="-12384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Visualization with tksurf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00880" y="55627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View-&gt;Configure-&gt;Overla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669" name="" descr="group_results.jpg"/>
          <p:cNvPicPr/>
          <p:nvPr/>
        </p:nvPicPr>
        <p:blipFill>
          <a:blip r:embed="rId1"/>
          <a:stretch/>
        </p:blipFill>
        <p:spPr>
          <a:xfrm>
            <a:off x="190440" y="790560"/>
            <a:ext cx="3463920" cy="547992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configure_overlay.jpg"/>
          <p:cNvPicPr/>
          <p:nvPr/>
        </p:nvPicPr>
        <p:blipFill>
          <a:blip r:embed="rId2"/>
          <a:stretch/>
        </p:blipFill>
        <p:spPr>
          <a:xfrm>
            <a:off x="5676840" y="914400"/>
            <a:ext cx="2624040" cy="457524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5905440" y="3809880"/>
            <a:ext cx="685800" cy="38124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 flipV="1">
            <a:off x="5143680" y="1904760"/>
            <a:ext cx="838080" cy="198108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30760" y="1233360"/>
            <a:ext cx="128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hreshold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-log10(p),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Eg, 2=.0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896160" y="3809880"/>
            <a:ext cx="685800" cy="38124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7429680" y="1523880"/>
            <a:ext cx="1447560" cy="228600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8493840" y="533520"/>
            <a:ext cx="156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aturation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-log10(p),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Eg, 5=.0000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972480" y="4800600"/>
            <a:ext cx="685800" cy="38088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8572680" y="2819520"/>
            <a:ext cx="114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als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Dicove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Rat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Eg, .0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7505640" y="4114440"/>
            <a:ext cx="1295640" cy="68580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43080" y="62485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ile-&gt;LoadOverla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295960" y="1905120"/>
            <a:ext cx="2870280" cy="2977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00280" y="76320"/>
            <a:ext cx="8743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-based Study (Thickness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90" name="" descr="scatter_plot.jpg"/>
          <p:cNvPicPr/>
          <p:nvPr/>
        </p:nvPicPr>
        <p:blipFill>
          <a:blip r:embed="rId2"/>
          <a:stretch/>
        </p:blipFill>
        <p:spPr>
          <a:xfrm>
            <a:off x="952560" y="1523880"/>
            <a:ext cx="36478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47640" y="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Visualization with tksurf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222440" y="5486400"/>
            <a:ext cx="346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le-&gt;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ad Group Descriptor File …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684" name="" descr="scatter_plot.jpg"/>
          <p:cNvPicPr/>
          <p:nvPr/>
        </p:nvPicPr>
        <p:blipFill>
          <a:blip r:embed="rId1"/>
          <a:stretch/>
        </p:blipFill>
        <p:spPr>
          <a:xfrm>
            <a:off x="4381560" y="1066680"/>
            <a:ext cx="3806640" cy="4114800"/>
          </a:xfrm>
          <a:prstGeom prst="rect">
            <a:avLst/>
          </a:prstGeom>
          <a:ln w="0">
            <a:noFill/>
          </a:ln>
        </p:spPr>
      </p:pic>
      <p:pic>
        <p:nvPicPr>
          <p:cNvPr id="685" name="" descr="group_results.jpg"/>
          <p:cNvPicPr/>
          <p:nvPr/>
        </p:nvPicPr>
        <p:blipFill>
          <a:blip r:embed="rId2"/>
          <a:stretch/>
        </p:blipFill>
        <p:spPr>
          <a:xfrm>
            <a:off x="114480" y="990720"/>
            <a:ext cx="346392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roblem of Multiple Comparison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1"/>
          <a:srcRect l="11224" t="13511" r="10229" b="9897"/>
          <a:stretch/>
        </p:blipFill>
        <p:spPr>
          <a:xfrm>
            <a:off x="190440" y="1371600"/>
            <a:ext cx="3162240" cy="3200400"/>
          </a:xfrm>
          <a:prstGeom prst="rect">
            <a:avLst/>
          </a:prstGeom>
          <a:ln w="9360">
            <a:solidFill>
              <a:srgbClr val="fafd00"/>
            </a:solidFill>
            <a:miter/>
          </a:ln>
        </p:spPr>
      </p:pic>
      <p:pic>
        <p:nvPicPr>
          <p:cNvPr id="688" name="" descr=""/>
          <p:cNvPicPr/>
          <p:nvPr/>
        </p:nvPicPr>
        <p:blipFill>
          <a:blip r:embed="rId2"/>
          <a:srcRect l="11274" t="13491" r="10186" b="9987"/>
          <a:stretch/>
        </p:blipFill>
        <p:spPr>
          <a:xfrm>
            <a:off x="3527280" y="1371600"/>
            <a:ext cx="3160800" cy="3198960"/>
          </a:xfrm>
          <a:prstGeom prst="rect">
            <a:avLst/>
          </a:prstGeom>
          <a:ln w="9360">
            <a:solidFill>
              <a:srgbClr val="fafd00"/>
            </a:solidFill>
            <a:miter/>
          </a:ln>
        </p:spPr>
      </p:pic>
      <p:pic>
        <p:nvPicPr>
          <p:cNvPr id="689" name="" descr=""/>
          <p:cNvPicPr/>
          <p:nvPr/>
        </p:nvPicPr>
        <p:blipFill>
          <a:blip r:embed="rId3"/>
          <a:srcRect l="11274" t="13491" r="10186" b="9987"/>
          <a:stretch/>
        </p:blipFill>
        <p:spPr>
          <a:xfrm>
            <a:off x="6864480" y="1371600"/>
            <a:ext cx="3159000" cy="3193920"/>
          </a:xfrm>
          <a:prstGeom prst="rect">
            <a:avLst/>
          </a:prstGeom>
          <a:ln w="9360">
            <a:solidFill>
              <a:srgbClr val="fafd00"/>
            </a:solidFill>
            <a:miter/>
          </a:ln>
        </p:spPr>
      </p:pic>
      <p:sp>
        <p:nvSpPr>
          <p:cNvPr id="690" name=""/>
          <p:cNvSpPr/>
          <p:nvPr/>
        </p:nvSpPr>
        <p:spPr>
          <a:xfrm>
            <a:off x="1105920" y="4559400"/>
            <a:ext cx="186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 &lt; 0.10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077720" y="4559400"/>
            <a:ext cx="186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 &lt; 0.01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374240" y="4559400"/>
            <a:ext cx="17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 &lt; 10</a:t>
            </a:r>
            <a:r>
              <a:rPr b="0" lang="en-US" sz="4000" spc="-1" strike="noStrike" baseline="30000">
                <a:solidFill>
                  <a:srgbClr val="fafd00"/>
                </a:solidFill>
                <a:latin typeface="Times New Roman"/>
              </a:rPr>
              <a:t>-7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rrection for Multiple Comparis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561680" y="1828800"/>
            <a:ext cx="815364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uster-base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onte Carlo simulation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Permutation Test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urface Gaussian Random Fields (GRF)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1062720" indent="-21240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here but not fully teste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alse Discovery Rate (FDR) – built into tksurfer and QDEC. (Genovese, et al, NI 2002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1062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23600" y="-76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lustering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028880" y="838080"/>
            <a:ext cx="815328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hoose a vertex-wise threshold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g, 2 (p&lt;.01), or 3 (p&lt;.001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ign (pos, neg, ab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 cluster is a group of connected (neighboring) vertices above threshol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uster has a size (area in mm</a:t>
            </a:r>
            <a:r>
              <a:rPr b="0" lang="en-US" sz="28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697" name="" descr="groupana.lat.cor.th2.gif"/>
          <p:cNvPicPr/>
          <p:nvPr/>
        </p:nvPicPr>
        <p:blipFill>
          <a:blip r:embed="rId1"/>
          <a:stretch/>
        </p:blipFill>
        <p:spPr>
          <a:xfrm>
            <a:off x="3530520" y="3657600"/>
            <a:ext cx="3200400" cy="2308320"/>
          </a:xfrm>
          <a:prstGeom prst="rect">
            <a:avLst/>
          </a:prstGeom>
          <a:ln w="0">
            <a:noFill/>
          </a:ln>
        </p:spPr>
      </p:pic>
      <p:pic>
        <p:nvPicPr>
          <p:cNvPr id="698" name="" descr="groupana.lat.clusters.gif"/>
          <p:cNvPicPr/>
          <p:nvPr/>
        </p:nvPicPr>
        <p:blipFill>
          <a:blip r:embed="rId2"/>
          <a:stretch/>
        </p:blipFill>
        <p:spPr>
          <a:xfrm>
            <a:off x="6997680" y="3657600"/>
            <a:ext cx="3289320" cy="2214720"/>
          </a:xfrm>
          <a:prstGeom prst="rect">
            <a:avLst/>
          </a:prstGeom>
          <a:ln w="0">
            <a:noFill/>
          </a:ln>
        </p:spPr>
      </p:pic>
      <p:pic>
        <p:nvPicPr>
          <p:cNvPr id="699" name="" descr="groupana.lat.uncor.th2.gif"/>
          <p:cNvPicPr/>
          <p:nvPr/>
        </p:nvPicPr>
        <p:blipFill>
          <a:blip r:embed="rId3"/>
          <a:stretch/>
        </p:blipFill>
        <p:spPr>
          <a:xfrm>
            <a:off x="419040" y="3733920"/>
            <a:ext cx="3048120" cy="218268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/>
          <p:nvPr/>
        </p:nvSpPr>
        <p:spPr>
          <a:xfrm>
            <a:off x="1098000" y="5867280"/>
            <a:ext cx="224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p&lt;.01 (-log10(p)=2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Negativ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687840" y="5867280"/>
            <a:ext cx="25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p&lt;.0001 (-log10(p)=4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Negativ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23600" y="-76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uster-based Correction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028880" y="971280"/>
            <a:ext cx="815328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imulate data under Null Hypothesis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ynthesize Gaussian noise and then smooth (Monte Carlo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Permute rows of design matrix (Permutation, orthog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nalyze, threshold, cluster, max cluster siz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peat 10,000 tim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nalyze real data, get cluster siz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P(cluster) = #MaxClusterSize &gt; ClusterSize/100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71680" y="5105520"/>
            <a:ext cx="23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_glmfit-sim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rcRect l="1690" t="15238" r="1690" b="952"/>
          <a:stretch/>
        </p:blipFill>
        <p:spPr>
          <a:xfrm>
            <a:off x="4533840" y="4041720"/>
            <a:ext cx="480060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576720" y="304920"/>
            <a:ext cx="875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QDEC – An Interactive Statistical Engine GUI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800280" y="1066680"/>
            <a:ext cx="929628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Query – Select subjects based on Match Criteria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Design – Specify discrete and continuous factor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Estimate – Fit Mod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ntrast – Automatically Generate Contrast Matric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nteractive – Makes easy things easy (that used to be hard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 work in progres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No Query ye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wo Discrete Factors (Two Level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wo Continuous Facto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urface on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2402640" y="304920"/>
            <a:ext cx="409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DEC – Spreadsheet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47640" y="1833840"/>
            <a:ext cx="8915400" cy="22284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fsid                        gender     age    diagnosis         Left-Cerebral-White-Matter-Vo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11121_vc8048    Female     70     Demented                    202291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21121_62313-2   Female     71    Demented                     210188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10607_vc7017    Female     73    Nondemented               170653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21121_vc10557  Male        75     Demented                     142029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20718_62545      Male        76     Demented                     186087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20322_vc8817    Male        77      Nondemented              14981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79040" y="1295280"/>
            <a:ext cx="84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dec.table.dat – spreadsheet with subject information – spreadsheet can be huge!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028880" y="4958280"/>
            <a:ext cx="1143000" cy="7038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Male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874440" y="4495680"/>
            <a:ext cx="15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der.leve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390840" y="4958280"/>
            <a:ext cx="1905120" cy="7038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Demented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Nondemen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312360" y="4495680"/>
            <a:ext cx="18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agnosis.leve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400480" y="1828800"/>
            <a:ext cx="1218960" cy="3808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076640" y="1828800"/>
            <a:ext cx="1219320" cy="3808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62040" y="2209680"/>
            <a:ext cx="1067040" cy="236232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4076280" y="2133720"/>
            <a:ext cx="228600" cy="236196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343560" y="4815000"/>
            <a:ext cx="256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crete Factors need 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ctorname.level fil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723600" y="-76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Tutorial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028880" y="971280"/>
            <a:ext cx="815328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399960" indent="-399960">
              <a:lnSpc>
                <a:spcPct val="9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ommand-line Stream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lvl="1" marL="685800" indent="-34272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reate an FSGD File for a thickness study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685800" indent="-34272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ge and Gender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685800" indent="-34272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un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s_preproc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_surf2surf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_glmfit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_glmfit-sim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ksurfer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QDEC – same data set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399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nother FSGD Examp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028880" y="2895480"/>
            <a:ext cx="6858000" cy="35053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137160" anchor="t">
            <a:normAutofit fontScale="96000"/>
          </a:bodyPr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GroupDescriptorFile 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MaleRigh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MaleLef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FemaleRigh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FemaleLef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ariables                                  Age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ber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MaleLeft           10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00ae00"/>
                </a:solidFill>
                <a:latin typeface="Times New Roman"/>
              </a:rPr>
              <a:t>fred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MaleRight         15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jenny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FemaleRight     2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da68ff"/>
                </a:solidFill>
                <a:latin typeface="Times New Roman"/>
              </a:rPr>
              <a:t>margare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FemaleLeft       25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812000" y="571500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= Group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76240" y="91440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28000"/>
          </a:bodyPr>
          <a:p>
            <a:pPr marL="95760" indent="-957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wo Discrete Factor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207720" indent="-7992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ender: Two Levels (M&amp;F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207720" indent="-7992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andedness: Two Levels (L&amp;R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95760" indent="-957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One Continuous Variable: Ag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teraction Contras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71680" y="3429000"/>
            <a:ext cx="3886200" cy="2819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137160" anchor="t">
            <a:normAutofit fontScale="97000"/>
          </a:bodyPr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roupDescriptorFile 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ass MaleRigh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ass MaleLef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ass FemaleRigh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ass FemaleLef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bert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  MaleLef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400" spc="-1" strike="noStrike">
                <a:solidFill>
                  <a:srgbClr val="00ae00"/>
                </a:solidFill>
                <a:latin typeface="Times New Roman"/>
              </a:rPr>
              <a:t>fred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  MaleRigh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jenny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FemaleRigh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400" spc="-1" strike="noStrike">
                <a:solidFill>
                  <a:srgbClr val="da68ff"/>
                </a:solidFill>
                <a:latin typeface="Times New Roman"/>
              </a:rPr>
              <a:t>margaret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FemaleLef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19040" y="838080"/>
            <a:ext cx="845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22000"/>
          </a:bodyPr>
          <a:p>
            <a:pPr marL="75240" indent="-7524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wo Discrete Factors (no continuous, for now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63440" indent="-626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ender: Two Levels (M&amp;F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163440" indent="-626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andedness: Two Levels (L&amp;R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75240" indent="-7524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our Regressors (Offsets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63440" indent="-626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R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, ML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, FR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, FL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6364080" y="1295280"/>
            <a:ext cx="2642760" cy="2608560"/>
            <a:chOff x="6364080" y="1295280"/>
            <a:chExt cx="2642760" cy="2608560"/>
          </a:xfrm>
        </p:grpSpPr>
        <p:sp>
          <p:nvSpPr>
            <p:cNvPr id="730" name=""/>
            <p:cNvSpPr/>
            <p:nvPr/>
          </p:nvSpPr>
          <p:spPr>
            <a:xfrm flipV="1">
              <a:off x="7581600" y="1665000"/>
              <a:ext cx="914400" cy="4032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731" name=""/>
            <p:cNvGrpSpPr/>
            <p:nvPr/>
          </p:nvGrpSpPr>
          <p:grpSpPr>
            <a:xfrm>
              <a:off x="6667200" y="1523880"/>
              <a:ext cx="2057400" cy="2058840"/>
              <a:chOff x="6667200" y="1523880"/>
              <a:chExt cx="2057400" cy="2058840"/>
            </a:xfrm>
          </p:grpSpPr>
          <p:sp>
            <p:nvSpPr>
              <p:cNvPr id="732" name=""/>
              <p:cNvSpPr/>
              <p:nvPr/>
            </p:nvSpPr>
            <p:spPr>
              <a:xfrm>
                <a:off x="6895800" y="1523880"/>
                <a:ext cx="0" cy="20588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667200" y="3352320"/>
                <a:ext cx="20574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 flipV="1">
              <a:off x="7581600" y="2699640"/>
              <a:ext cx="838440" cy="228600"/>
            </a:xfrm>
            <a:prstGeom prst="line">
              <a:avLst/>
            </a:prstGeom>
            <a:ln w="572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505640" y="289548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505640" y="20570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496000" y="159984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420040" y="266688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354440" y="3504960"/>
              <a:ext cx="40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345160" y="35049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364440" y="2819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364080" y="190476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131240" y="2742840"/>
              <a:ext cx="351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655480" y="1295280"/>
              <a:ext cx="351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502840" y="2361960"/>
              <a:ext cx="351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207560" y="1752480"/>
              <a:ext cx="351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529480" y="1676160"/>
              <a:ext cx="0" cy="380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462880" y="2742840"/>
              <a:ext cx="0" cy="228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503200" y="2666880"/>
              <a:ext cx="363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503200" y="1676160"/>
              <a:ext cx="363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5448240" y="3809880"/>
            <a:ext cx="4419360" cy="2894760"/>
            <a:chOff x="5448240" y="3809880"/>
            <a:chExt cx="4419360" cy="2894760"/>
          </a:xfrm>
        </p:grpSpPr>
        <p:sp>
          <p:nvSpPr>
            <p:cNvPr id="752" name=""/>
            <p:cNvSpPr/>
            <p:nvPr/>
          </p:nvSpPr>
          <p:spPr>
            <a:xfrm>
              <a:off x="5448240" y="3971520"/>
              <a:ext cx="4419360" cy="273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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Symbol"/>
                  <a:ea typeface="Symbol"/>
                </a:rPr>
                <a:t>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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Symbol"/>
                  <a:ea typeface="Symbol"/>
                </a:rPr>
                <a:t>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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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3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-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)- 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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4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-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    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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+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+ 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3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-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C = [-1 +1 +1 -1]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211880" y="38098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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-based Measur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62040" y="1828800"/>
            <a:ext cx="647712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orphometric (eg, thickness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unctiona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E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EG/EEG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Diffusion (?) sampled just under the surfa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381560" y="4495680"/>
            <a:ext cx="4734000" cy="1843200"/>
            <a:chOff x="4381560" y="4495680"/>
            <a:chExt cx="4734000" cy="1843200"/>
          </a:xfrm>
        </p:grpSpPr>
        <p:grpSp>
          <p:nvGrpSpPr>
            <p:cNvPr id="94" name=""/>
            <p:cNvGrpSpPr/>
            <p:nvPr/>
          </p:nvGrpSpPr>
          <p:grpSpPr>
            <a:xfrm>
              <a:off x="4381560" y="4648320"/>
              <a:ext cx="2257200" cy="1371600"/>
              <a:chOff x="4381560" y="4648320"/>
              <a:chExt cx="2257200" cy="1371600"/>
            </a:xfrm>
          </p:grpSpPr>
          <p:pic>
            <p:nvPicPr>
              <p:cNvPr id="9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81560" y="4648320"/>
                <a:ext cx="2257200" cy="13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6262560" y="5545800"/>
                <a:ext cx="322200" cy="316440"/>
              </a:xfrm>
              <a:prstGeom prst="rect">
                <a:avLst/>
              </a:prstGeom>
              <a:noFill/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7048440" y="4495680"/>
              <a:ext cx="2067120" cy="1843200"/>
            </a:xfrm>
            <a:prstGeom prst="rect">
              <a:avLst/>
            </a:prstGeom>
            <a:ln w="28440">
              <a:solidFill>
                <a:srgbClr val="cba033"/>
              </a:solidFill>
              <a:miter/>
            </a:ln>
          </p:spPr>
        </p:pic>
        <p:sp>
          <p:nvSpPr>
            <p:cNvPr id="98" name=""/>
            <p:cNvSpPr/>
            <p:nvPr/>
          </p:nvSpPr>
          <p:spPr>
            <a:xfrm flipV="1">
              <a:off x="6591240" y="4495680"/>
              <a:ext cx="457200" cy="1067040"/>
            </a:xfrm>
            <a:prstGeom prst="line">
              <a:avLst/>
            </a:prstGeom>
            <a:ln w="28440">
              <a:solidFill>
                <a:srgbClr val="cba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591240" y="5867280"/>
              <a:ext cx="457200" cy="457200"/>
            </a:xfrm>
            <a:prstGeom prst="line">
              <a:avLst/>
            </a:prstGeom>
            <a:ln w="28440">
              <a:solidFill>
                <a:srgbClr val="cba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4991760" y="22860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QDEC GUI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755" name="" descr="qdec-design1.jpg"/>
          <p:cNvPicPr/>
          <p:nvPr/>
        </p:nvPicPr>
        <p:blipFill>
          <a:blip r:embed="rId1"/>
          <a:srcRect l="0" t="0" r="69341" b="22563"/>
          <a:stretch/>
        </p:blipFill>
        <p:spPr>
          <a:xfrm>
            <a:off x="723960" y="304920"/>
            <a:ext cx="3370320" cy="6400800"/>
          </a:xfrm>
          <a:prstGeom prst="rect">
            <a:avLst/>
          </a:prstGeom>
          <a:ln w="0">
            <a:noFill/>
          </a:ln>
        </p:spPr>
      </p:pic>
      <p:sp>
        <p:nvSpPr>
          <p:cNvPr id="756" name=""/>
          <p:cNvSpPr/>
          <p:nvPr/>
        </p:nvSpPr>
        <p:spPr>
          <a:xfrm>
            <a:off x="4381560" y="990720"/>
            <a:ext cx="5638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Load QDEC Table Fi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List of Subjec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List of Factors (Discrete and Cont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hoose Facto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hoose Input (cached)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emispher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easure (eg, thicknes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moothing Leve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“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nalyze”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uilds Design Matri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uilds Contrast Matric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onstructs Human-Readable Quest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nalyz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isplays Resul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" descr="qdec-display.jpg"/>
          <p:cNvPicPr/>
          <p:nvPr/>
        </p:nvPicPr>
        <p:blipFill>
          <a:blip r:embed="rId1"/>
          <a:stretch/>
        </p:blipFill>
        <p:spPr>
          <a:xfrm>
            <a:off x="1104840" y="163440"/>
            <a:ext cx="723924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" descr="qdec-results2.jpg"/>
          <p:cNvPicPr/>
          <p:nvPr/>
        </p:nvPicPr>
        <p:blipFill>
          <a:blip r:embed="rId1"/>
          <a:stretch/>
        </p:blipFill>
        <p:spPr>
          <a:xfrm>
            <a:off x="952560" y="228600"/>
            <a:ext cx="855648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47280" y="1519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SGDF </a:t>
            </a:r>
            <a:r>
              <a:rPr b="0" lang="en-US" sz="44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857680" y="2514600"/>
            <a:ext cx="33526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  0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00  10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  0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5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 15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5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0  1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0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000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0  1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5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5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500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71680" y="1295280"/>
            <a:ext cx="514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afd00"/>
                </a:solidFill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S</a:t>
            </a:r>
            <a:r>
              <a:rPr b="0" lang="pl-PL" sz="2000" spc="-1" strike="noStrike">
                <a:solidFill>
                  <a:srgbClr val="fafd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– Different Offset, 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Same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Slop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486080" y="32004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X =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494360" y="4549680"/>
            <a:ext cx="458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      [-1 1      0       0        0]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21800" y="5715000"/>
            <a:ext cx="677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#Regressors = Nv+Nc = 3+2=5 </a:t>
            </a: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Fewer regressors than DOD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DOF = #Rows - #Regressor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029600" y="2209680"/>
            <a:ext cx="13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Male Clas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104840" y="1752480"/>
            <a:ext cx="154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emale Clas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2400480" y="2362320"/>
            <a:ext cx="609480" cy="152280"/>
            <a:chOff x="2400480" y="2362320"/>
            <a:chExt cx="609480" cy="152280"/>
          </a:xfrm>
        </p:grpSpPr>
        <p:sp>
          <p:nvSpPr>
            <p:cNvPr id="768" name=""/>
            <p:cNvSpPr/>
            <p:nvPr/>
          </p:nvSpPr>
          <p:spPr>
            <a:xfrm>
              <a:off x="3009960" y="2362320"/>
              <a:ext cx="0" cy="15228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400480" y="2362320"/>
              <a:ext cx="609480" cy="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2781360" y="1981080"/>
            <a:ext cx="609480" cy="533520"/>
            <a:chOff x="2781360" y="1981080"/>
            <a:chExt cx="609480" cy="533520"/>
          </a:xfrm>
        </p:grpSpPr>
        <p:sp>
          <p:nvSpPr>
            <p:cNvPr id="771" name=""/>
            <p:cNvSpPr/>
            <p:nvPr/>
          </p:nvSpPr>
          <p:spPr>
            <a:xfrm>
              <a:off x="3390840" y="1981080"/>
              <a:ext cx="0" cy="53352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781360" y="1981080"/>
              <a:ext cx="609480" cy="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73" name=""/>
          <p:cNvGrpSpPr/>
          <p:nvPr/>
        </p:nvGrpSpPr>
        <p:grpSpPr>
          <a:xfrm>
            <a:off x="4077000" y="1981080"/>
            <a:ext cx="609480" cy="533520"/>
            <a:chOff x="4077000" y="1981080"/>
            <a:chExt cx="609480" cy="533520"/>
          </a:xfrm>
        </p:grpSpPr>
        <p:sp>
          <p:nvSpPr>
            <p:cNvPr id="774" name=""/>
            <p:cNvSpPr/>
            <p:nvPr/>
          </p:nvSpPr>
          <p:spPr>
            <a:xfrm>
              <a:off x="4077000" y="1981080"/>
              <a:ext cx="0" cy="53352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4077000" y="1981080"/>
              <a:ext cx="609480" cy="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776" name=""/>
          <p:cNvSpPr/>
          <p:nvPr/>
        </p:nvSpPr>
        <p:spPr>
          <a:xfrm>
            <a:off x="4818240" y="176688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Age for Males and Femal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185880" y="4738680"/>
            <a:ext cx="318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141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Same test, different vecto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8287200" y="380880"/>
            <a:ext cx="1032480" cy="1800360"/>
          </a:xfrm>
          <a:prstGeom prst="rect">
            <a:avLst/>
          </a:prstGeom>
          <a:noFill/>
          <a:ln w="38160">
            <a:solidFill>
              <a:srgbClr val="fd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781360" y="533520"/>
            <a:ext cx="38390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rocessing Stage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09760" y="1371600"/>
            <a:ext cx="7010280" cy="44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pecify Subjects and Surface measur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ssemble Data: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esample into Common Spa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mooth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ncatenate into one fil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odel and Contrasts (GLM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t Model (Estimate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rrect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isualiz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990360"/>
            <a:ext cx="81630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The General Linear Model (GLM)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GLM Theor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80080" y="3581280"/>
            <a:ext cx="155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RF Amplitude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Q, Height, Weight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72680" y="5562720"/>
            <a:ext cx="238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dependent Variabl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42320" y="1143000"/>
            <a:ext cx="64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Thickness correlated with Age?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80080" y="2438280"/>
            <a:ext cx="156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pend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ariable,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asure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010680" y="2362320"/>
            <a:ext cx="4265640" cy="2967840"/>
            <a:chOff x="3010680" y="2362320"/>
            <a:chExt cx="4265640" cy="2967840"/>
          </a:xfrm>
        </p:grpSpPr>
        <p:sp>
          <p:nvSpPr>
            <p:cNvPr id="109" name=""/>
            <p:cNvSpPr/>
            <p:nvPr/>
          </p:nvSpPr>
          <p:spPr>
            <a:xfrm>
              <a:off x="3863160" y="2362320"/>
              <a:ext cx="0" cy="2568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84080" y="4656240"/>
              <a:ext cx="37922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31960" y="2912760"/>
              <a:ext cx="0" cy="1980360"/>
            </a:xfrm>
            <a:prstGeom prst="line">
              <a:avLst/>
            </a:prstGeom>
            <a:ln w="284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73800" y="4145760"/>
              <a:ext cx="2655000" cy="0"/>
            </a:xfrm>
            <a:prstGeom prst="line">
              <a:avLst/>
            </a:prstGeom>
            <a:ln w="284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673800" y="3187800"/>
              <a:ext cx="1042560" cy="0"/>
            </a:xfrm>
            <a:prstGeom prst="line">
              <a:avLst/>
            </a:prstGeom>
            <a:ln w="284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60000" y="3830400"/>
              <a:ext cx="0" cy="1100880"/>
            </a:xfrm>
            <a:prstGeom prst="line">
              <a:avLst/>
            </a:prstGeom>
            <a:ln w="284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148280" y="49312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x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76320" y="49312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x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10680" y="39222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y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10680" y="29127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y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37640" y="3096360"/>
              <a:ext cx="189360" cy="183240"/>
            </a:xfrm>
            <a:prstGeom prst="ellipse">
              <a:avLst/>
            </a:prstGeom>
            <a:solidFill>
              <a:srgbClr val="da68ff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664960" y="4053960"/>
              <a:ext cx="189360" cy="183240"/>
            </a:xfrm>
            <a:prstGeom prst="ellipse">
              <a:avLst/>
            </a:prstGeom>
            <a:solidFill>
              <a:srgbClr val="da68ff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279760" y="2452680"/>
            <a:ext cx="11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bject 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210000" y="3124080"/>
            <a:ext cx="11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bject 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686120" y="2743200"/>
            <a:ext cx="609480" cy="3049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5905440" y="3505320"/>
            <a:ext cx="533520" cy="4572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14520" y="190512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cknes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54440" y="44197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119800" y="5486400"/>
            <a:ext cx="1384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f course, you’d 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ed more then two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jects …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inear Mode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95000" y="762120"/>
            <a:ext cx="4199400" cy="3218400"/>
            <a:chOff x="495000" y="762120"/>
            <a:chExt cx="4199400" cy="3218400"/>
          </a:xfrm>
        </p:grpSpPr>
        <p:sp>
          <p:nvSpPr>
            <p:cNvPr id="130" name=""/>
            <p:cNvSpPr/>
            <p:nvPr/>
          </p:nvSpPr>
          <p:spPr>
            <a:xfrm>
              <a:off x="723960" y="1447920"/>
              <a:ext cx="2971800" cy="22860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1257480" y="1371600"/>
              <a:ext cx="1676520" cy="4572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 rot="21465000">
              <a:off x="2018880" y="2361240"/>
              <a:ext cx="457200" cy="38088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53480" y="914400"/>
              <a:ext cx="180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Intercept: b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39640" y="1752840"/>
              <a:ext cx="145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Slope: m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95000" y="76212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icknes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01760" y="312444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g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496080" y="1447920"/>
              <a:ext cx="3428280" cy="2532600"/>
              <a:chOff x="496080" y="1447920"/>
              <a:chExt cx="3428280" cy="2532600"/>
            </a:xfrm>
          </p:grpSpPr>
          <p:sp>
            <p:nvSpPr>
              <p:cNvPr id="138" name=""/>
              <p:cNvSpPr/>
              <p:nvPr/>
            </p:nvSpPr>
            <p:spPr>
              <a:xfrm>
                <a:off x="1181160" y="1447920"/>
                <a:ext cx="0" cy="21337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876600" y="3353040"/>
                <a:ext cx="304776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638360" y="1905120"/>
                <a:ext cx="0" cy="164484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028880" y="2929320"/>
                <a:ext cx="2133720" cy="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028880" y="2133720"/>
                <a:ext cx="838080" cy="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705400" y="2667240"/>
                <a:ext cx="0" cy="91440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410480" y="35816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x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477520" y="35816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x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96080" y="274356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y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96080" y="190512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y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562400" y="2057760"/>
                <a:ext cx="152280" cy="152280"/>
              </a:xfrm>
              <a:prstGeom prst="ellipse">
                <a:avLst/>
              </a:prstGeom>
              <a:solidFill>
                <a:srgbClr val="da68ff"/>
              </a:solidFill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629080" y="2853000"/>
                <a:ext cx="152280" cy="152280"/>
              </a:xfrm>
              <a:prstGeom prst="ellipse">
                <a:avLst/>
              </a:prstGeom>
              <a:solidFill>
                <a:srgbClr val="da68ff"/>
              </a:solidFill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 flipV="1">
              <a:off x="2552760" y="2210040"/>
              <a:ext cx="914400" cy="304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4986000" y="990720"/>
            <a:ext cx="4720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 of Linear Equati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1 =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x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2 =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x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60000" y="4826160"/>
            <a:ext cx="1808640" cy="6426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3600" spc="-1" strike="noStrike">
                <a:solidFill>
                  <a:srgbClr val="00ff00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5522040" y="2649600"/>
            <a:ext cx="3405600" cy="1572480"/>
            <a:chOff x="5522040" y="2649600"/>
            <a:chExt cx="3405600" cy="1572480"/>
          </a:xfrm>
        </p:grpSpPr>
        <p:grpSp>
          <p:nvGrpSpPr>
            <p:cNvPr id="154" name=""/>
            <p:cNvGrpSpPr/>
            <p:nvPr/>
          </p:nvGrpSpPr>
          <p:grpSpPr>
            <a:xfrm>
              <a:off x="5753160" y="3259080"/>
              <a:ext cx="3048840" cy="963000"/>
              <a:chOff x="5753160" y="3259080"/>
              <a:chExt cx="3048840" cy="963000"/>
            </a:xfrm>
          </p:grpSpPr>
          <p:sp>
            <p:nvSpPr>
              <p:cNvPr id="155" name=""/>
              <p:cNvSpPr/>
              <p:nvPr/>
            </p:nvSpPr>
            <p:spPr>
              <a:xfrm>
                <a:off x="5830200" y="3274920"/>
                <a:ext cx="537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y1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y2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973560" y="3274920"/>
                <a:ext cx="8924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afd00"/>
                    </a:solidFill>
                    <a:latin typeface="Times New Roman"/>
                  </a:rPr>
                  <a:t>1  x1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afd00"/>
                    </a:solidFill>
                    <a:latin typeface="Times New Roman"/>
                  </a:rPr>
                  <a:t>1  x2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157" name=""/>
              <p:cNvGrpSpPr/>
              <p:nvPr/>
            </p:nvGrpSpPr>
            <p:grpSpPr>
              <a:xfrm>
                <a:off x="5753160" y="3328920"/>
                <a:ext cx="74520" cy="838080"/>
                <a:chOff x="5753160" y="3328920"/>
                <a:chExt cx="74520" cy="83808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5770080" y="33289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753160" y="416700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753160" y="33289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6972120" y="3328920"/>
                <a:ext cx="74520" cy="838080"/>
                <a:chOff x="6972120" y="3328920"/>
                <a:chExt cx="74520" cy="83808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6989040" y="33289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972120" y="416700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972120" y="33289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8343720" y="3259080"/>
                <a:ext cx="458280" cy="947160"/>
                <a:chOff x="8343720" y="3259080"/>
                <a:chExt cx="458280" cy="94716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345520" y="3259080"/>
                  <a:ext cx="45648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ff00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fafd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ff00"/>
                      </a:solidFill>
                      <a:latin typeface="Times New Roman"/>
                    </a:rPr>
                    <a:t>m</a:t>
                  </a:r>
                  <a:endParaRPr b="0" lang="en-US" sz="28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7" name=""/>
                <p:cNvGrpSpPr/>
                <p:nvPr/>
              </p:nvGrpSpPr>
              <p:grpSpPr>
                <a:xfrm>
                  <a:off x="8343720" y="3313080"/>
                  <a:ext cx="74520" cy="838080"/>
                  <a:chOff x="8343720" y="3313080"/>
                  <a:chExt cx="74520" cy="83808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>
                    <a:off x="8360640" y="3313080"/>
                    <a:ext cx="0" cy="83808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8343720" y="4151160"/>
                    <a:ext cx="7452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8343720" y="3313080"/>
                    <a:ext cx="7452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8724600" y="3313080"/>
                  <a:ext cx="74520" cy="838080"/>
                  <a:chOff x="8724600" y="3313080"/>
                  <a:chExt cx="74520" cy="83808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flipV="1">
                    <a:off x="8782200" y="3313080"/>
                    <a:ext cx="0" cy="83808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flipH="1">
                    <a:off x="8724600" y="3313080"/>
                    <a:ext cx="7452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 flipH="1">
                    <a:off x="8724600" y="4151160"/>
                    <a:ext cx="7452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5" name=""/>
              <p:cNvGrpSpPr/>
              <p:nvPr/>
            </p:nvGrpSpPr>
            <p:grpSpPr>
              <a:xfrm>
                <a:off x="7810200" y="3328920"/>
                <a:ext cx="74520" cy="838080"/>
                <a:chOff x="7810200" y="3328920"/>
                <a:chExt cx="74520" cy="838080"/>
              </a:xfrm>
            </p:grpSpPr>
            <p:sp>
              <p:nvSpPr>
                <p:cNvPr id="176" name=""/>
                <p:cNvSpPr/>
                <p:nvPr/>
              </p:nvSpPr>
              <p:spPr>
                <a:xfrm flipV="1">
                  <a:off x="7867800" y="33289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H="1">
                  <a:off x="7810200" y="33289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H="1">
                  <a:off x="7810200" y="416700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6286320" y="3328920"/>
                <a:ext cx="76320" cy="838080"/>
                <a:chOff x="6286320" y="3328920"/>
                <a:chExt cx="76320" cy="838080"/>
              </a:xfrm>
            </p:grpSpPr>
            <p:sp>
              <p:nvSpPr>
                <p:cNvPr id="180" name=""/>
                <p:cNvSpPr/>
                <p:nvPr/>
              </p:nvSpPr>
              <p:spPr>
                <a:xfrm flipV="1">
                  <a:off x="6345000" y="33289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H="1">
                  <a:off x="6286320" y="3328920"/>
                  <a:ext cx="763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H="1">
                  <a:off x="6286320" y="4167000"/>
                  <a:ext cx="763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" name=""/>
              <p:cNvSpPr/>
              <p:nvPr/>
            </p:nvSpPr>
            <p:spPr>
              <a:xfrm>
                <a:off x="6439680" y="3465360"/>
                <a:ext cx="410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=</a:t>
                </a:r>
                <a:endParaRPr b="0" lang="en-US" sz="32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887600" y="346536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5522040" y="2649600"/>
              <a:ext cx="3405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Matrix Formulation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63520" y="4343400"/>
            <a:ext cx="359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= Design Matri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Regression Coefficien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Parameter estimat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“betas”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Intercepts and Slop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beta.mgh (mri_glmfit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8480" y="4749840"/>
            <a:ext cx="1274760" cy="947160"/>
            <a:chOff x="7908480" y="4749840"/>
            <a:chExt cx="1274760" cy="947160"/>
          </a:xfrm>
        </p:grpSpPr>
        <p:grpSp>
          <p:nvGrpSpPr>
            <p:cNvPr id="188" name=""/>
            <p:cNvGrpSpPr/>
            <p:nvPr/>
          </p:nvGrpSpPr>
          <p:grpSpPr>
            <a:xfrm>
              <a:off x="8724960" y="4749840"/>
              <a:ext cx="458280" cy="947160"/>
              <a:chOff x="8724960" y="4749840"/>
              <a:chExt cx="458280" cy="947160"/>
            </a:xfrm>
          </p:grpSpPr>
          <p:sp>
            <p:nvSpPr>
              <p:cNvPr id="189" name=""/>
              <p:cNvSpPr/>
              <p:nvPr/>
            </p:nvSpPr>
            <p:spPr>
              <a:xfrm>
                <a:off x="8726760" y="4749840"/>
                <a:ext cx="456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190" name=""/>
              <p:cNvGrpSpPr/>
              <p:nvPr/>
            </p:nvGrpSpPr>
            <p:grpSpPr>
              <a:xfrm>
                <a:off x="8724960" y="4803840"/>
                <a:ext cx="74520" cy="838080"/>
                <a:chOff x="8724960" y="4803840"/>
                <a:chExt cx="74520" cy="83808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8741880" y="480384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8724960" y="56419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8724960" y="480384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9105840" y="4803840"/>
                <a:ext cx="74520" cy="838080"/>
                <a:chOff x="9105840" y="4803840"/>
                <a:chExt cx="74520" cy="838080"/>
              </a:xfrm>
            </p:grpSpPr>
            <p:sp>
              <p:nvSpPr>
                <p:cNvPr id="195" name=""/>
                <p:cNvSpPr/>
                <p:nvPr/>
              </p:nvSpPr>
              <p:spPr>
                <a:xfrm flipV="1">
                  <a:off x="9163440" y="480384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H="1">
                  <a:off x="9105840" y="480384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H="1">
                  <a:off x="9105840" y="56419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8" name=""/>
            <p:cNvSpPr/>
            <p:nvPr/>
          </p:nvSpPr>
          <p:spPr>
            <a:xfrm>
              <a:off x="7908480" y="4825800"/>
              <a:ext cx="79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</a:t>
              </a:r>
              <a:endParaRPr b="0" lang="en-US" sz="3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87200" y="3886200"/>
            <a:ext cx="199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Intercept = Offse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202800" y="5943600"/>
            <a:ext cx="30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ri_glmfit output: beta.mgh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ypotheses and Contrast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0720" y="1066680"/>
            <a:ext cx="6424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Thickness correlated with Age?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es m = 0?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ull Hypothesis: H0: m=0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71320" y="3276720"/>
            <a:ext cx="4199400" cy="3218400"/>
            <a:chOff x="571320" y="3276720"/>
            <a:chExt cx="4199400" cy="3218400"/>
          </a:xfrm>
        </p:grpSpPr>
        <p:sp>
          <p:nvSpPr>
            <p:cNvPr id="204" name=""/>
            <p:cNvSpPr/>
            <p:nvPr/>
          </p:nvSpPr>
          <p:spPr>
            <a:xfrm>
              <a:off x="800280" y="3962520"/>
              <a:ext cx="2971800" cy="22860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1333800" y="3886200"/>
              <a:ext cx="1676520" cy="4572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 rot="21465000">
              <a:off x="2095200" y="4875840"/>
              <a:ext cx="457200" cy="38088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29800" y="3429000"/>
              <a:ext cx="180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Intercept: b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315960" y="4267440"/>
              <a:ext cx="145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Slope: m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1320" y="327672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icknes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078080" y="563904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g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572400" y="3962520"/>
              <a:ext cx="3428280" cy="2532600"/>
              <a:chOff x="572400" y="3962520"/>
              <a:chExt cx="3428280" cy="2532600"/>
            </a:xfrm>
          </p:grpSpPr>
          <p:sp>
            <p:nvSpPr>
              <p:cNvPr id="212" name=""/>
              <p:cNvSpPr/>
              <p:nvPr/>
            </p:nvSpPr>
            <p:spPr>
              <a:xfrm>
                <a:off x="1257480" y="3962520"/>
                <a:ext cx="0" cy="21337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952920" y="5867640"/>
                <a:ext cx="304776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714680" y="4419720"/>
                <a:ext cx="0" cy="164484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05200" y="5443920"/>
                <a:ext cx="2133720" cy="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05200" y="4648320"/>
                <a:ext cx="838080" cy="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781720" y="5181840"/>
                <a:ext cx="0" cy="91440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486800" y="60962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x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553840" y="60962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x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72400" y="525816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y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72400" y="441972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y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638720" y="4572360"/>
                <a:ext cx="152280" cy="152280"/>
              </a:xfrm>
              <a:prstGeom prst="ellipse">
                <a:avLst/>
              </a:prstGeom>
              <a:solidFill>
                <a:srgbClr val="da68ff"/>
              </a:solidFill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705400" y="5367600"/>
                <a:ext cx="152280" cy="152280"/>
              </a:xfrm>
              <a:prstGeom prst="ellipse">
                <a:avLst/>
              </a:prstGeom>
              <a:solidFill>
                <a:srgbClr val="da68ff"/>
              </a:solidFill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 flipV="1">
              <a:off x="2629080" y="4724640"/>
              <a:ext cx="914400" cy="304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7358400" y="2666880"/>
            <a:ext cx="2516760" cy="1343520"/>
            <a:chOff x="7358400" y="2666880"/>
            <a:chExt cx="2516760" cy="1343520"/>
          </a:xfrm>
        </p:grpSpPr>
        <p:sp>
          <p:nvSpPr>
            <p:cNvPr id="226" name=""/>
            <p:cNvSpPr/>
            <p:nvPr/>
          </p:nvSpPr>
          <p:spPr>
            <a:xfrm>
              <a:off x="7358400" y="2666880"/>
              <a:ext cx="2012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m= [0 1]*</a:t>
              </a:r>
              <a:endParaRPr b="0" lang="en-US" sz="3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9337680" y="2819160"/>
              <a:ext cx="537480" cy="1191240"/>
              <a:chOff x="9337680" y="2819160"/>
              <a:chExt cx="537480" cy="1191240"/>
            </a:xfrm>
          </p:grpSpPr>
          <p:sp>
            <p:nvSpPr>
              <p:cNvPr id="228" name=""/>
              <p:cNvSpPr/>
              <p:nvPr/>
            </p:nvSpPr>
            <p:spPr>
              <a:xfrm>
                <a:off x="9339480" y="2819160"/>
                <a:ext cx="5356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ff00"/>
                    </a:solidFill>
                    <a:latin typeface="Times New Roman"/>
                  </a:rPr>
                  <a:t>b</a:t>
                </a:r>
                <a:endParaRPr b="0" lang="en-US" sz="36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ff00"/>
                    </a:solidFill>
                    <a:latin typeface="Times New Roman"/>
                  </a:rPr>
                  <a:t>m</a:t>
                </a:r>
                <a:endParaRPr b="0" lang="en-US" sz="36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229" name=""/>
              <p:cNvGrpSpPr/>
              <p:nvPr/>
            </p:nvGrpSpPr>
            <p:grpSpPr>
              <a:xfrm>
                <a:off x="9337680" y="2895120"/>
                <a:ext cx="74520" cy="990720"/>
                <a:chOff x="9337680" y="2895120"/>
                <a:chExt cx="74520" cy="99072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9354600" y="2895120"/>
                  <a:ext cx="0" cy="9907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9337680" y="388584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9337680" y="28951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9794880" y="2895120"/>
                <a:ext cx="76320" cy="990720"/>
                <a:chOff x="9794880" y="2895120"/>
                <a:chExt cx="76320" cy="990720"/>
              </a:xfrm>
            </p:grpSpPr>
            <p:sp>
              <p:nvSpPr>
                <p:cNvPr id="234" name=""/>
                <p:cNvSpPr/>
                <p:nvPr/>
              </p:nvSpPr>
              <p:spPr>
                <a:xfrm flipV="1">
                  <a:off x="9853560" y="2895120"/>
                  <a:ext cx="0" cy="9907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H="1">
                  <a:off x="9794880" y="2895120"/>
                  <a:ext cx="763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>
                  <a:off x="9794880" y="3885840"/>
                  <a:ext cx="763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7" name=""/>
          <p:cNvGrpSpPr/>
          <p:nvPr/>
        </p:nvGrpSpPr>
        <p:grpSpPr>
          <a:xfrm>
            <a:off x="7056720" y="4038480"/>
            <a:ext cx="3045600" cy="808200"/>
            <a:chOff x="7056720" y="4038480"/>
            <a:chExt cx="3045600" cy="808200"/>
          </a:xfrm>
        </p:grpSpPr>
        <p:sp>
          <p:nvSpPr>
            <p:cNvPr id="238" name=""/>
            <p:cNvSpPr/>
            <p:nvPr/>
          </p:nvSpPr>
          <p:spPr>
            <a:xfrm>
              <a:off x="7056720" y="4143240"/>
              <a:ext cx="3045600" cy="70344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= C*</a:t>
              </a:r>
              <a:r>
                <a:rPr b="0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</a:t>
              </a:r>
              <a:endParaRPr b="0" lang="en-US" sz="4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107280" y="40384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5673240" y="5029200"/>
            <a:ext cx="426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=[0 1]: Contrast Matrix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5698440" y="3962520"/>
            <a:ext cx="1274760" cy="947160"/>
            <a:chOff x="5698440" y="3962520"/>
            <a:chExt cx="1274760" cy="947160"/>
          </a:xfrm>
        </p:grpSpPr>
        <p:grpSp>
          <p:nvGrpSpPr>
            <p:cNvPr id="242" name=""/>
            <p:cNvGrpSpPr/>
            <p:nvPr/>
          </p:nvGrpSpPr>
          <p:grpSpPr>
            <a:xfrm>
              <a:off x="6514920" y="3962520"/>
              <a:ext cx="458280" cy="947160"/>
              <a:chOff x="6514920" y="3962520"/>
              <a:chExt cx="458280" cy="947160"/>
            </a:xfrm>
          </p:grpSpPr>
          <p:sp>
            <p:nvSpPr>
              <p:cNvPr id="243" name=""/>
              <p:cNvSpPr/>
              <p:nvPr/>
            </p:nvSpPr>
            <p:spPr>
              <a:xfrm>
                <a:off x="6516720" y="3962520"/>
                <a:ext cx="456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6514920" y="4016520"/>
                <a:ext cx="74160" cy="838080"/>
                <a:chOff x="6514920" y="4016520"/>
                <a:chExt cx="74160" cy="83808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6531840" y="40165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514920" y="4854600"/>
                  <a:ext cx="741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514920" y="4016520"/>
                  <a:ext cx="741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6895800" y="4016520"/>
                <a:ext cx="74160" cy="838080"/>
                <a:chOff x="6895800" y="4016520"/>
                <a:chExt cx="74160" cy="838080"/>
              </a:xfrm>
            </p:grpSpPr>
            <p:sp>
              <p:nvSpPr>
                <p:cNvPr id="249" name=""/>
                <p:cNvSpPr/>
                <p:nvPr/>
              </p:nvSpPr>
              <p:spPr>
                <a:xfrm flipV="1">
                  <a:off x="6953040" y="40165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flipH="1">
                  <a:off x="6895800" y="4016520"/>
                  <a:ext cx="741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>
                  <a:off x="6895800" y="4854600"/>
                  <a:ext cx="741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2" name=""/>
            <p:cNvSpPr/>
            <p:nvPr/>
          </p:nvSpPr>
          <p:spPr>
            <a:xfrm>
              <a:off x="5698440" y="4038480"/>
              <a:ext cx="79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</a:t>
              </a:r>
              <a:endParaRPr b="0" lang="en-US" sz="3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6972480" y="1143000"/>
            <a:ext cx="3048840" cy="963000"/>
            <a:chOff x="6972480" y="1143000"/>
            <a:chExt cx="3048840" cy="963000"/>
          </a:xfrm>
        </p:grpSpPr>
        <p:sp>
          <p:nvSpPr>
            <p:cNvPr id="254" name=""/>
            <p:cNvSpPr/>
            <p:nvPr/>
          </p:nvSpPr>
          <p:spPr>
            <a:xfrm>
              <a:off x="7049520" y="1158840"/>
              <a:ext cx="537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192880" y="1158840"/>
              <a:ext cx="892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1  x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1  x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6972480" y="1212840"/>
              <a:ext cx="74520" cy="838080"/>
              <a:chOff x="6972480" y="1212840"/>
              <a:chExt cx="74520" cy="838080"/>
            </a:xfrm>
          </p:grpSpPr>
          <p:sp>
            <p:nvSpPr>
              <p:cNvPr id="257" name=""/>
              <p:cNvSpPr/>
              <p:nvPr/>
            </p:nvSpPr>
            <p:spPr>
              <a:xfrm>
                <a:off x="6989400" y="1212840"/>
                <a:ext cx="0" cy="838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972480" y="20509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972480" y="12128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8191440" y="1212840"/>
              <a:ext cx="74520" cy="838080"/>
              <a:chOff x="8191440" y="1212840"/>
              <a:chExt cx="74520" cy="838080"/>
            </a:xfrm>
          </p:grpSpPr>
          <p:sp>
            <p:nvSpPr>
              <p:cNvPr id="261" name=""/>
              <p:cNvSpPr/>
              <p:nvPr/>
            </p:nvSpPr>
            <p:spPr>
              <a:xfrm>
                <a:off x="8208360" y="1212840"/>
                <a:ext cx="0" cy="838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191440" y="20509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191440" y="12128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9563040" y="1143000"/>
              <a:ext cx="458280" cy="947160"/>
              <a:chOff x="9563040" y="1143000"/>
              <a:chExt cx="458280" cy="947160"/>
            </a:xfrm>
          </p:grpSpPr>
          <p:sp>
            <p:nvSpPr>
              <p:cNvPr id="265" name=""/>
              <p:cNvSpPr/>
              <p:nvPr/>
            </p:nvSpPr>
            <p:spPr>
              <a:xfrm>
                <a:off x="9564840" y="1143000"/>
                <a:ext cx="456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9563040" y="1197000"/>
                <a:ext cx="74520" cy="838080"/>
                <a:chOff x="9563040" y="1197000"/>
                <a:chExt cx="74520" cy="8380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9579960" y="119700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9563040" y="203508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9563040" y="119700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9943920" y="1197000"/>
                <a:ext cx="74520" cy="838080"/>
                <a:chOff x="9943920" y="1197000"/>
                <a:chExt cx="74520" cy="838080"/>
              </a:xfrm>
            </p:grpSpPr>
            <p:sp>
              <p:nvSpPr>
                <p:cNvPr id="271" name=""/>
                <p:cNvSpPr/>
                <p:nvPr/>
              </p:nvSpPr>
              <p:spPr>
                <a:xfrm flipV="1">
                  <a:off x="10001520" y="119700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H="1">
                  <a:off x="9943920" y="119700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>
                  <a:off x="9943920" y="203508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4" name=""/>
            <p:cNvGrpSpPr/>
            <p:nvPr/>
          </p:nvGrpSpPr>
          <p:grpSpPr>
            <a:xfrm>
              <a:off x="9029520" y="1212840"/>
              <a:ext cx="74520" cy="838080"/>
              <a:chOff x="9029520" y="1212840"/>
              <a:chExt cx="74520" cy="838080"/>
            </a:xfrm>
          </p:grpSpPr>
          <p:sp>
            <p:nvSpPr>
              <p:cNvPr id="275" name=""/>
              <p:cNvSpPr/>
              <p:nvPr/>
            </p:nvSpPr>
            <p:spPr>
              <a:xfrm flipV="1">
                <a:off x="9087120" y="1212840"/>
                <a:ext cx="0" cy="838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9029520" y="12128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9029520" y="20509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7505640" y="1212840"/>
              <a:ext cx="76320" cy="838080"/>
              <a:chOff x="7505640" y="1212840"/>
              <a:chExt cx="76320" cy="838080"/>
            </a:xfrm>
          </p:grpSpPr>
          <p:sp>
            <p:nvSpPr>
              <p:cNvPr id="279" name=""/>
              <p:cNvSpPr/>
              <p:nvPr/>
            </p:nvSpPr>
            <p:spPr>
              <a:xfrm flipV="1">
                <a:off x="7564320" y="1212840"/>
                <a:ext cx="0" cy="838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7505640" y="121284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7505640" y="205092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7659000" y="134928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106920" y="1349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8415360" y="2133720"/>
            <a:ext cx="0" cy="60948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801280" y="2133720"/>
            <a:ext cx="0" cy="60948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201360" y="5943600"/>
            <a:ext cx="340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ri_glmfit output: gamma.mgh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13T23:11:17Z</dcterms:created>
  <dc:creator>marc burock</dc:creator>
  <dc:description/>
  <cp:keywords/>
  <dc:language>en-US</dc:language>
  <cp:lastModifiedBy>greve</cp:lastModifiedBy>
  <dcterms:modified xsi:type="dcterms:W3CDTF">2010-01-21T20:40:32Z</dcterms:modified>
  <cp:revision>921</cp:revision>
  <dc:subject/>
  <dc:title>Understanding Differential Responses in fMRI Through Linear Simulation</dc:title>
</cp:coreProperties>
</file>